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F01-E435-4B58-8B01-F77DB6A8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753-D0A4-4AAA-A16A-E8C6BC08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C42-D438-4FA0-89E9-27E87D7A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82F-893E-4AB0-BE73-C07A8D14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0A3E-631C-4129-B8F5-0966CD72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425A-B1EF-4334-A6AE-FA675D53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CC5C-B348-4B9B-A89B-E53CB7BE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2DEF-2F6B-4D21-AE2D-C994A67B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5172-7181-4806-972F-7832C5A9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FF0C-5EA3-4EDD-9E51-F8E9EB2D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0A13-B9F0-49E8-AAE6-09590CA3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141-67A7-4BF5-8C6B-964F4DAC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F478-DDB9-4092-97F5-3FAF7543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F797-76D4-46A2-8953-9CA41F5B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977A-81AA-412F-AFAE-8C9BC27D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E2E8-56F6-4E23-A1B9-7EF3EF3F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E349-2290-4461-AC52-D8380117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038-70FF-45F9-B740-CC96536C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A65-0782-4233-8CE5-FD904E99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EA6-1ECD-4D7D-934E-7823AC26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3BB-659B-474B-A3A2-964664E4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B68-47BE-44CA-BB4D-D36AC0DE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C37-038E-4933-A0B4-8DBBB489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9DC-E7CB-4B8B-8049-BA83923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26A2-454F-448B-806B-673DEEA96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55CC-B60D-4F17-90E3-F2797F3CE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77840" y="457200"/>
            <a:ext cx="85852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Opener:  Multiply the following fractio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1)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 Rounded MT Bold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1447920"/>
          <a:ext cx="8557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855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371600" y="9907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47920" y="3276720"/>
          <a:ext cx="95868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3276720"/>
                    <a:ext cx="958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785960" y="3348000"/>
            <a:ext cx="1527120" cy="1046160"/>
          </a:xfrm>
          <a:custGeom>
            <a:avLst/>
            <a:gdLst/>
            <a:ahLst/>
            <a:rect l="l" t="t" r="r" b="b"/>
            <a:pathLst>
              <a:path w="4243" h="2903">
                <a:moveTo>
                  <a:pt x="6028" y="10170"/>
                </a:moveTo>
                <a:cubicBezTo>
                  <a:pt x="6028" y="10145"/>
                  <a:pt x="6028" y="10137"/>
                  <a:pt x="6028" y="10170"/>
                </a:cubicBezTo>
              </a:path>
              <a:path w="4243" h="2903">
                <a:moveTo>
                  <a:pt x="5904" y="11137"/>
                </a:moveTo>
                <a:cubicBezTo>
                  <a:pt x="5896" y="11137"/>
                  <a:pt x="5887" y="11137"/>
                  <a:pt x="5879" y="11137"/>
                </a:cubicBezTo>
                <a:cubicBezTo>
                  <a:pt x="5947" y="11188"/>
                  <a:pt x="5992" y="11146"/>
                  <a:pt x="6077" y="11137"/>
                </a:cubicBezTo>
                <a:cubicBezTo>
                  <a:pt x="6173" y="11127"/>
                  <a:pt x="6280" y="11129"/>
                  <a:pt x="6375" y="11112"/>
                </a:cubicBezTo>
                <a:cubicBezTo>
                  <a:pt x="6443" y="11100"/>
                  <a:pt x="6515" y="11080"/>
                  <a:pt x="6573" y="11063"/>
                </a:cubicBezTo>
                <a:cubicBezTo>
                  <a:pt x="6598" y="11063"/>
                  <a:pt x="6606" y="11063"/>
                  <a:pt x="6623" y="11063"/>
                </a:cubicBezTo>
              </a:path>
              <a:path w="4243" h="2903">
                <a:moveTo>
                  <a:pt x="6226" y="11261"/>
                </a:moveTo>
                <a:cubicBezTo>
                  <a:pt x="6201" y="11261"/>
                  <a:pt x="6193" y="11261"/>
                  <a:pt x="6201" y="11237"/>
                </a:cubicBezTo>
                <a:cubicBezTo>
                  <a:pt x="6201" y="11419"/>
                  <a:pt x="6201" y="11600"/>
                  <a:pt x="6201" y="11782"/>
                </a:cubicBezTo>
              </a:path>
              <a:path w="4243" h="2903">
                <a:moveTo>
                  <a:pt x="7268" y="10641"/>
                </a:moveTo>
                <a:cubicBezTo>
                  <a:pt x="7352" y="10617"/>
                  <a:pt x="7425" y="10575"/>
                  <a:pt x="7516" y="10567"/>
                </a:cubicBezTo>
                <a:cubicBezTo>
                  <a:pt x="7541" y="10567"/>
                  <a:pt x="7549" y="10567"/>
                  <a:pt x="7541" y="10592"/>
                </a:cubicBezTo>
              </a:path>
              <a:path w="4243" h="2903">
                <a:moveTo>
                  <a:pt x="7293" y="10864"/>
                </a:moveTo>
                <a:cubicBezTo>
                  <a:pt x="7383" y="10851"/>
                  <a:pt x="7456" y="10804"/>
                  <a:pt x="7541" y="10790"/>
                </a:cubicBezTo>
                <a:cubicBezTo>
                  <a:pt x="7569" y="10790"/>
                  <a:pt x="7579" y="10793"/>
                  <a:pt x="7590" y="10815"/>
                </a:cubicBezTo>
              </a:path>
              <a:path w="4243" h="2903">
                <a:moveTo>
                  <a:pt x="5779" y="9699"/>
                </a:moveTo>
                <a:cubicBezTo>
                  <a:pt x="5688" y="9667"/>
                  <a:pt x="5882" y="9590"/>
                  <a:pt x="5978" y="9599"/>
                </a:cubicBezTo>
                <a:cubicBezTo>
                  <a:pt x="6263" y="9625"/>
                  <a:pt x="6311" y="9843"/>
                  <a:pt x="6300" y="10071"/>
                </a:cubicBezTo>
              </a:path>
              <a:path w="4243" h="2903">
                <a:moveTo>
                  <a:pt x="8161" y="9773"/>
                </a:moveTo>
                <a:cubicBezTo>
                  <a:pt x="8195" y="9936"/>
                  <a:pt x="8203" y="10107"/>
                  <a:pt x="8235" y="10269"/>
                </a:cubicBezTo>
                <a:cubicBezTo>
                  <a:pt x="8235" y="10253"/>
                  <a:pt x="8235" y="10236"/>
                  <a:pt x="8235" y="10220"/>
                </a:cubicBezTo>
              </a:path>
              <a:path w="4243" h="2903">
                <a:moveTo>
                  <a:pt x="8558" y="9500"/>
                </a:moveTo>
                <a:cubicBezTo>
                  <a:pt x="8558" y="9567"/>
                  <a:pt x="8513" y="9664"/>
                  <a:pt x="8483" y="9723"/>
                </a:cubicBezTo>
                <a:cubicBezTo>
                  <a:pt x="8460" y="9746"/>
                  <a:pt x="8452" y="9750"/>
                  <a:pt x="8458" y="9773"/>
                </a:cubicBezTo>
                <a:cubicBezTo>
                  <a:pt x="8576" y="9773"/>
                  <a:pt x="8698" y="9743"/>
                  <a:pt x="8756" y="9872"/>
                </a:cubicBezTo>
                <a:cubicBezTo>
                  <a:pt x="8791" y="9950"/>
                  <a:pt x="8630" y="9989"/>
                  <a:pt x="8582" y="9996"/>
                </a:cubicBezTo>
                <a:cubicBezTo>
                  <a:pt x="8574" y="9996"/>
                  <a:pt x="8566" y="9996"/>
                  <a:pt x="8558" y="9996"/>
                </a:cubicBezTo>
              </a:path>
              <a:path w="4243" h="2903">
                <a:moveTo>
                  <a:pt x="8632" y="9475"/>
                </a:moveTo>
                <a:cubicBezTo>
                  <a:pt x="8727" y="9435"/>
                  <a:pt x="8835" y="9338"/>
                  <a:pt x="8930" y="9302"/>
                </a:cubicBezTo>
                <a:cubicBezTo>
                  <a:pt x="8986" y="9302"/>
                  <a:pt x="9007" y="9307"/>
                  <a:pt x="9029" y="9351"/>
                </a:cubicBezTo>
              </a:path>
              <a:path w="4243" h="2903">
                <a:moveTo>
                  <a:pt x="7913" y="10393"/>
                </a:moveTo>
                <a:cubicBezTo>
                  <a:pt x="8214" y="10379"/>
                  <a:pt x="8505" y="10311"/>
                  <a:pt x="8806" y="10294"/>
                </a:cubicBezTo>
                <a:cubicBezTo>
                  <a:pt x="8929" y="10287"/>
                  <a:pt x="9203" y="10294"/>
                  <a:pt x="9079" y="10294"/>
                </a:cubicBezTo>
              </a:path>
              <a:path w="4243" h="2903">
                <a:moveTo>
                  <a:pt x="4961" y="12005"/>
                </a:moveTo>
                <a:cubicBezTo>
                  <a:pt x="5134" y="12135"/>
                  <a:pt x="5311" y="12250"/>
                  <a:pt x="5531" y="12154"/>
                </a:cubicBezTo>
                <a:cubicBezTo>
                  <a:pt x="5700" y="12080"/>
                  <a:pt x="5796" y="11920"/>
                  <a:pt x="5904" y="11782"/>
                </a:cubicBezTo>
              </a:path>
              <a:path w="4243" h="2903">
                <a:moveTo>
                  <a:pt x="8161" y="10840"/>
                </a:moveTo>
                <a:cubicBezTo>
                  <a:pt x="8308" y="10798"/>
                  <a:pt x="8455" y="10807"/>
                  <a:pt x="8607" y="10765"/>
                </a:cubicBezTo>
                <a:cubicBezTo>
                  <a:pt x="8700" y="10719"/>
                  <a:pt x="8727" y="10706"/>
                  <a:pt x="8781" y="10666"/>
                </a:cubicBezTo>
                <a:cubicBezTo>
                  <a:pt x="8781" y="10860"/>
                  <a:pt x="8750" y="11045"/>
                  <a:pt x="8731" y="11237"/>
                </a:cubicBezTo>
                <a:cubicBezTo>
                  <a:pt x="8727" y="11278"/>
                  <a:pt x="8731" y="11352"/>
                  <a:pt x="8731" y="11311"/>
                </a:cubicBezTo>
              </a:path>
              <a:path w="4243" h="2903">
                <a:moveTo>
                  <a:pt x="5135" y="9773"/>
                </a:moveTo>
                <a:cubicBezTo>
                  <a:pt x="5127" y="9773"/>
                  <a:pt x="5118" y="9773"/>
                  <a:pt x="5110" y="9773"/>
                </a:cubicBezTo>
                <a:cubicBezTo>
                  <a:pt x="5129" y="9715"/>
                  <a:pt x="5265" y="9691"/>
                  <a:pt x="5333" y="9674"/>
                </a:cubicBezTo>
                <a:cubicBezTo>
                  <a:pt x="5476" y="9639"/>
                  <a:pt x="5611" y="9593"/>
                  <a:pt x="5755" y="9575"/>
                </a:cubicBezTo>
                <a:cubicBezTo>
                  <a:pt x="5808" y="9568"/>
                  <a:pt x="5850" y="9550"/>
                  <a:pt x="5904" y="9550"/>
                </a:cubicBezTo>
                <a:cubicBezTo>
                  <a:pt x="5980" y="9550"/>
                  <a:pt x="6006" y="9578"/>
                  <a:pt x="6077" y="9599"/>
                </a:cubicBezTo>
                <a:cubicBezTo>
                  <a:pt x="6080" y="9600"/>
                  <a:pt x="6149" y="9621"/>
                  <a:pt x="6152" y="9624"/>
                </a:cubicBezTo>
                <a:cubicBezTo>
                  <a:pt x="6152" y="9649"/>
                  <a:pt x="6152" y="9657"/>
                  <a:pt x="6176" y="9649"/>
                </a:cubicBezTo>
              </a:path>
              <a:path w="4243" h="2903">
                <a:moveTo>
                  <a:pt x="7838" y="10443"/>
                </a:moveTo>
                <a:cubicBezTo>
                  <a:pt x="7838" y="10418"/>
                  <a:pt x="7838" y="10410"/>
                  <a:pt x="7813" y="10418"/>
                </a:cubicBezTo>
                <a:cubicBezTo>
                  <a:pt x="7838" y="10418"/>
                  <a:pt x="7846" y="10418"/>
                  <a:pt x="7838" y="10393"/>
                </a:cubicBezTo>
                <a:cubicBezTo>
                  <a:pt x="7918" y="10386"/>
                  <a:pt x="7980" y="10368"/>
                  <a:pt x="8062" y="10368"/>
                </a:cubicBezTo>
                <a:cubicBezTo>
                  <a:pt x="8134" y="10368"/>
                  <a:pt x="8169" y="10360"/>
                  <a:pt x="8235" y="10344"/>
                </a:cubicBezTo>
                <a:cubicBezTo>
                  <a:pt x="8289" y="10331"/>
                  <a:pt x="8335" y="10335"/>
                  <a:pt x="8384" y="10319"/>
                </a:cubicBezTo>
                <a:cubicBezTo>
                  <a:pt x="8431" y="10303"/>
                  <a:pt x="8489" y="10309"/>
                  <a:pt x="8533" y="10294"/>
                </a:cubicBezTo>
                <a:cubicBezTo>
                  <a:pt x="8575" y="10280"/>
                  <a:pt x="8638" y="10271"/>
                  <a:pt x="8682" y="10269"/>
                </a:cubicBezTo>
                <a:cubicBezTo>
                  <a:pt x="8769" y="10265"/>
                  <a:pt x="8844" y="10248"/>
                  <a:pt x="8930" y="10244"/>
                </a:cubicBezTo>
                <a:cubicBezTo>
                  <a:pt x="8976" y="10242"/>
                  <a:pt x="9010" y="10223"/>
                  <a:pt x="9054" y="10220"/>
                </a:cubicBezTo>
                <a:cubicBezTo>
                  <a:pt x="9103" y="10217"/>
                  <a:pt x="9154" y="10220"/>
                  <a:pt x="9203" y="10220"/>
                </a:cubicBezTo>
              </a:path>
              <a:path w="4243" h="2903">
                <a:moveTo>
                  <a:pt x="7789" y="10393"/>
                </a:moveTo>
                <a:cubicBezTo>
                  <a:pt x="7860" y="10378"/>
                  <a:pt x="7937" y="10351"/>
                  <a:pt x="8012" y="10344"/>
                </a:cubicBezTo>
                <a:cubicBezTo>
                  <a:pt x="8127" y="10334"/>
                  <a:pt x="8248" y="10346"/>
                  <a:pt x="8359" y="10319"/>
                </a:cubicBezTo>
                <a:cubicBezTo>
                  <a:pt x="8425" y="10303"/>
                  <a:pt x="8460" y="10294"/>
                  <a:pt x="8533" y="10294"/>
                </a:cubicBezTo>
                <a:cubicBezTo>
                  <a:pt x="8648" y="10294"/>
                  <a:pt x="8745" y="10286"/>
                  <a:pt x="8855" y="10269"/>
                </a:cubicBezTo>
                <a:cubicBezTo>
                  <a:pt x="8918" y="10259"/>
                  <a:pt x="8990" y="10269"/>
                  <a:pt x="9054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81320" y="3098880"/>
            <a:ext cx="2152800" cy="874800"/>
          </a:xfrm>
          <a:custGeom>
            <a:avLst/>
            <a:gdLst/>
            <a:ahLst/>
            <a:rect l="l" t="t" r="r" b="b"/>
            <a:pathLst>
              <a:path w="5979" h="2432">
                <a:moveTo>
                  <a:pt x="12477" y="10195"/>
                </a:moveTo>
                <a:cubicBezTo>
                  <a:pt x="12508" y="10288"/>
                  <a:pt x="12502" y="10485"/>
                  <a:pt x="12502" y="10616"/>
                </a:cubicBezTo>
                <a:cubicBezTo>
                  <a:pt x="12502" y="10734"/>
                  <a:pt x="12516" y="10756"/>
                  <a:pt x="12477" y="10815"/>
                </a:cubicBezTo>
              </a:path>
              <a:path w="5979" h="2432">
                <a:moveTo>
                  <a:pt x="12998" y="10096"/>
                </a:moveTo>
                <a:cubicBezTo>
                  <a:pt x="12911" y="10156"/>
                  <a:pt x="12859" y="10170"/>
                  <a:pt x="12750" y="10170"/>
                </a:cubicBezTo>
                <a:cubicBezTo>
                  <a:pt x="12675" y="10170"/>
                  <a:pt x="12700" y="10338"/>
                  <a:pt x="12700" y="10393"/>
                </a:cubicBezTo>
                <a:cubicBezTo>
                  <a:pt x="12800" y="10393"/>
                  <a:pt x="12917" y="10365"/>
                  <a:pt x="12998" y="10443"/>
                </a:cubicBezTo>
                <a:cubicBezTo>
                  <a:pt x="13149" y="10589"/>
                  <a:pt x="12967" y="10731"/>
                  <a:pt x="12849" y="10765"/>
                </a:cubicBezTo>
                <a:cubicBezTo>
                  <a:pt x="12734" y="10788"/>
                  <a:pt x="12702" y="10797"/>
                  <a:pt x="12626" y="10790"/>
                </a:cubicBezTo>
              </a:path>
              <a:path w="5979" h="2432">
                <a:moveTo>
                  <a:pt x="12179" y="11038"/>
                </a:moveTo>
                <a:cubicBezTo>
                  <a:pt x="12166" y="10787"/>
                  <a:pt x="12099" y="10545"/>
                  <a:pt x="12080" y="10294"/>
                </a:cubicBezTo>
                <a:cubicBezTo>
                  <a:pt x="12072" y="10191"/>
                  <a:pt x="12071" y="10139"/>
                  <a:pt x="12055" y="10046"/>
                </a:cubicBezTo>
                <a:cubicBezTo>
                  <a:pt x="12206" y="10024"/>
                  <a:pt x="12345" y="9994"/>
                  <a:pt x="12502" y="9971"/>
                </a:cubicBezTo>
                <a:cubicBezTo>
                  <a:pt x="12800" y="9926"/>
                  <a:pt x="13096" y="9909"/>
                  <a:pt x="13395" y="9872"/>
                </a:cubicBezTo>
                <a:cubicBezTo>
                  <a:pt x="13453" y="9872"/>
                  <a:pt x="13469" y="9881"/>
                  <a:pt x="13444" y="9947"/>
                </a:cubicBezTo>
              </a:path>
              <a:path w="5979" h="2432">
                <a:moveTo>
                  <a:pt x="11336" y="10294"/>
                </a:moveTo>
                <a:cubicBezTo>
                  <a:pt x="11425" y="10348"/>
                  <a:pt x="11577" y="10319"/>
                  <a:pt x="11683" y="10319"/>
                </a:cubicBezTo>
                <a:cubicBezTo>
                  <a:pt x="11724" y="10319"/>
                  <a:pt x="11732" y="10319"/>
                  <a:pt x="11757" y="10319"/>
                </a:cubicBezTo>
                <a:cubicBezTo>
                  <a:pt x="11757" y="10525"/>
                  <a:pt x="11705" y="10670"/>
                  <a:pt x="11658" y="10864"/>
                </a:cubicBezTo>
                <a:cubicBezTo>
                  <a:pt x="11658" y="10906"/>
                  <a:pt x="11658" y="10914"/>
                  <a:pt x="11658" y="10939"/>
                </a:cubicBezTo>
              </a:path>
              <a:path w="5979" h="2432">
                <a:moveTo>
                  <a:pt x="14188" y="9971"/>
                </a:moveTo>
                <a:cubicBezTo>
                  <a:pt x="14281" y="9986"/>
                  <a:pt x="14341" y="9977"/>
                  <a:pt x="14436" y="9971"/>
                </a:cubicBezTo>
                <a:cubicBezTo>
                  <a:pt x="14444" y="9971"/>
                  <a:pt x="14453" y="9971"/>
                  <a:pt x="14461" y="9971"/>
                </a:cubicBezTo>
              </a:path>
              <a:path w="5979" h="2432">
                <a:moveTo>
                  <a:pt x="14263" y="10220"/>
                </a:moveTo>
                <a:cubicBezTo>
                  <a:pt x="14342" y="10220"/>
                  <a:pt x="14409" y="10201"/>
                  <a:pt x="14486" y="10195"/>
                </a:cubicBezTo>
                <a:cubicBezTo>
                  <a:pt x="14494" y="10195"/>
                  <a:pt x="14503" y="10195"/>
                  <a:pt x="14511" y="10195"/>
                </a:cubicBezTo>
              </a:path>
              <a:path w="5979" h="2432">
                <a:moveTo>
                  <a:pt x="15354" y="9500"/>
                </a:moveTo>
                <a:cubicBezTo>
                  <a:pt x="15346" y="9508"/>
                  <a:pt x="15337" y="9517"/>
                  <a:pt x="15329" y="9525"/>
                </a:cubicBezTo>
                <a:cubicBezTo>
                  <a:pt x="15298" y="9443"/>
                  <a:pt x="15304" y="9456"/>
                  <a:pt x="15354" y="9376"/>
                </a:cubicBezTo>
                <a:cubicBezTo>
                  <a:pt x="15408" y="9289"/>
                  <a:pt x="15476" y="9280"/>
                  <a:pt x="15577" y="9277"/>
                </a:cubicBezTo>
                <a:cubicBezTo>
                  <a:pt x="15698" y="9273"/>
                  <a:pt x="15744" y="9323"/>
                  <a:pt x="15801" y="9426"/>
                </a:cubicBezTo>
                <a:cubicBezTo>
                  <a:pt x="15853" y="9521"/>
                  <a:pt x="15833" y="9616"/>
                  <a:pt x="15776" y="9699"/>
                </a:cubicBezTo>
                <a:cubicBezTo>
                  <a:pt x="15715" y="9787"/>
                  <a:pt x="15637" y="9823"/>
                  <a:pt x="15553" y="9872"/>
                </a:cubicBezTo>
                <a:cubicBezTo>
                  <a:pt x="15452" y="9930"/>
                  <a:pt x="15396" y="9980"/>
                  <a:pt x="15329" y="10071"/>
                </a:cubicBezTo>
                <a:cubicBezTo>
                  <a:pt x="15244" y="10187"/>
                  <a:pt x="15213" y="10291"/>
                  <a:pt x="15156" y="10418"/>
                </a:cubicBezTo>
                <a:cubicBezTo>
                  <a:pt x="15131" y="10468"/>
                  <a:pt x="15123" y="10484"/>
                  <a:pt x="15106" y="10517"/>
                </a:cubicBezTo>
                <a:cubicBezTo>
                  <a:pt x="15124" y="10468"/>
                  <a:pt x="15133" y="10405"/>
                  <a:pt x="15180" y="10368"/>
                </a:cubicBezTo>
                <a:cubicBezTo>
                  <a:pt x="15225" y="10332"/>
                  <a:pt x="15339" y="10249"/>
                  <a:pt x="15404" y="10269"/>
                </a:cubicBezTo>
                <a:cubicBezTo>
                  <a:pt x="15471" y="10290"/>
                  <a:pt x="15499" y="10400"/>
                  <a:pt x="15577" y="10418"/>
                </a:cubicBezTo>
                <a:cubicBezTo>
                  <a:pt x="15659" y="10438"/>
                  <a:pt x="15800" y="10425"/>
                  <a:pt x="15875" y="10393"/>
                </a:cubicBezTo>
                <a:cubicBezTo>
                  <a:pt x="15978" y="10349"/>
                  <a:pt x="15926" y="10360"/>
                  <a:pt x="15999" y="10344"/>
                </a:cubicBezTo>
              </a:path>
              <a:path w="5979" h="2432">
                <a:moveTo>
                  <a:pt x="16818" y="8979"/>
                </a:moveTo>
                <a:cubicBezTo>
                  <a:pt x="16874" y="8998"/>
                  <a:pt x="16842" y="9234"/>
                  <a:pt x="16842" y="9277"/>
                </a:cubicBezTo>
                <a:cubicBezTo>
                  <a:pt x="16842" y="9343"/>
                  <a:pt x="16842" y="9409"/>
                  <a:pt x="16842" y="9475"/>
                </a:cubicBezTo>
              </a:path>
              <a:path w="5979" h="2432">
                <a:moveTo>
                  <a:pt x="16396" y="9699"/>
                </a:moveTo>
                <a:cubicBezTo>
                  <a:pt x="16505" y="9626"/>
                  <a:pt x="16611" y="9627"/>
                  <a:pt x="16743" y="9624"/>
                </a:cubicBezTo>
                <a:cubicBezTo>
                  <a:pt x="16921" y="9621"/>
                  <a:pt x="17089" y="9623"/>
                  <a:pt x="17264" y="9599"/>
                </a:cubicBezTo>
                <a:cubicBezTo>
                  <a:pt x="17305" y="9593"/>
                  <a:pt x="17304" y="9593"/>
                  <a:pt x="17314" y="9624"/>
                </a:cubicBezTo>
              </a:path>
              <a:path w="5979" h="2432">
                <a:moveTo>
                  <a:pt x="16619" y="9947"/>
                </a:moveTo>
                <a:cubicBezTo>
                  <a:pt x="16748" y="9919"/>
                  <a:pt x="16883" y="9893"/>
                  <a:pt x="17016" y="9872"/>
                </a:cubicBezTo>
                <a:cubicBezTo>
                  <a:pt x="17033" y="9872"/>
                  <a:pt x="17049" y="9872"/>
                  <a:pt x="17066" y="9872"/>
                </a:cubicBezTo>
                <a:cubicBezTo>
                  <a:pt x="17117" y="9890"/>
                  <a:pt x="17034" y="10137"/>
                  <a:pt x="17016" y="10195"/>
                </a:cubicBezTo>
                <a:cubicBezTo>
                  <a:pt x="17010" y="10216"/>
                  <a:pt x="16969" y="10452"/>
                  <a:pt x="16942" y="10368"/>
                </a:cubicBezTo>
              </a:path>
              <a:path w="5979" h="2432">
                <a:moveTo>
                  <a:pt x="12129" y="9599"/>
                </a:moveTo>
                <a:cubicBezTo>
                  <a:pt x="12145" y="9694"/>
                  <a:pt x="12185" y="9703"/>
                  <a:pt x="12229" y="9773"/>
                </a:cubicBezTo>
                <a:cubicBezTo>
                  <a:pt x="12304" y="9892"/>
                  <a:pt x="12308" y="9942"/>
                  <a:pt x="12452" y="9996"/>
                </a:cubicBezTo>
                <a:cubicBezTo>
                  <a:pt x="12543" y="10030"/>
                  <a:pt x="12630" y="10021"/>
                  <a:pt x="12725" y="10021"/>
                </a:cubicBezTo>
                <a:cubicBezTo>
                  <a:pt x="12839" y="10021"/>
                  <a:pt x="12926" y="9982"/>
                  <a:pt x="13022" y="9922"/>
                </a:cubicBezTo>
                <a:cubicBezTo>
                  <a:pt x="13122" y="9859"/>
                  <a:pt x="13188" y="9777"/>
                  <a:pt x="13246" y="9674"/>
                </a:cubicBezTo>
                <a:cubicBezTo>
                  <a:pt x="13303" y="9572"/>
                  <a:pt x="13333" y="9461"/>
                  <a:pt x="13370" y="9351"/>
                </a:cubicBezTo>
                <a:cubicBezTo>
                  <a:pt x="13403" y="9252"/>
                  <a:pt x="13395" y="9158"/>
                  <a:pt x="13395" y="9054"/>
                </a:cubicBezTo>
                <a:cubicBezTo>
                  <a:pt x="13395" y="8928"/>
                  <a:pt x="13354" y="8865"/>
                  <a:pt x="13295" y="8756"/>
                </a:cubicBezTo>
                <a:cubicBezTo>
                  <a:pt x="13243" y="8660"/>
                  <a:pt x="13183" y="8623"/>
                  <a:pt x="13072" y="8607"/>
                </a:cubicBezTo>
                <a:cubicBezTo>
                  <a:pt x="12959" y="8591"/>
                  <a:pt x="12856" y="8623"/>
                  <a:pt x="12750" y="8657"/>
                </a:cubicBezTo>
                <a:cubicBezTo>
                  <a:pt x="12647" y="8690"/>
                  <a:pt x="12535" y="8759"/>
                  <a:pt x="12452" y="8830"/>
                </a:cubicBezTo>
                <a:cubicBezTo>
                  <a:pt x="12366" y="8903"/>
                  <a:pt x="12256" y="8975"/>
                  <a:pt x="12204" y="9079"/>
                </a:cubicBezTo>
                <a:cubicBezTo>
                  <a:pt x="12152" y="9183"/>
                  <a:pt x="12134" y="9313"/>
                  <a:pt x="12129" y="9426"/>
                </a:cubicBezTo>
                <a:cubicBezTo>
                  <a:pt x="12125" y="9513"/>
                  <a:pt x="12174" y="9661"/>
                  <a:pt x="12204" y="9748"/>
                </a:cubicBezTo>
                <a:cubicBezTo>
                  <a:pt x="12211" y="9767"/>
                  <a:pt x="12218" y="9832"/>
                  <a:pt x="12229" y="9847"/>
                </a:cubicBezTo>
                <a:cubicBezTo>
                  <a:pt x="12237" y="9847"/>
                  <a:pt x="12246" y="9847"/>
                  <a:pt x="12254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27720" y="3276720"/>
            <a:ext cx="169560" cy="24120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12626" y="9302"/>
                </a:moveTo>
                <a:cubicBezTo>
                  <a:pt x="12562" y="9281"/>
                  <a:pt x="12624" y="9244"/>
                  <a:pt x="12650" y="9203"/>
                </a:cubicBezTo>
                <a:cubicBezTo>
                  <a:pt x="12678" y="9159"/>
                  <a:pt x="12761" y="9086"/>
                  <a:pt x="12824" y="9103"/>
                </a:cubicBezTo>
                <a:cubicBezTo>
                  <a:pt x="12907" y="9125"/>
                  <a:pt x="12915" y="9202"/>
                  <a:pt x="12898" y="9277"/>
                </a:cubicBezTo>
                <a:cubicBezTo>
                  <a:pt x="12882" y="9348"/>
                  <a:pt x="12801" y="9438"/>
                  <a:pt x="12750" y="9475"/>
                </a:cubicBezTo>
                <a:cubicBezTo>
                  <a:pt x="12684" y="9523"/>
                  <a:pt x="12659" y="9562"/>
                  <a:pt x="12626" y="9649"/>
                </a:cubicBezTo>
                <a:cubicBezTo>
                  <a:pt x="12604" y="9714"/>
                  <a:pt x="12596" y="9729"/>
                  <a:pt x="12601" y="9773"/>
                </a:cubicBezTo>
                <a:cubicBezTo>
                  <a:pt x="12568" y="9757"/>
                  <a:pt x="12647" y="9673"/>
                  <a:pt x="12675" y="9624"/>
                </a:cubicBezTo>
                <a:cubicBezTo>
                  <a:pt x="12697" y="9581"/>
                  <a:pt x="12701" y="9569"/>
                  <a:pt x="12725" y="9550"/>
                </a:cubicBezTo>
                <a:cubicBezTo>
                  <a:pt x="12797" y="9550"/>
                  <a:pt x="12815" y="9588"/>
                  <a:pt x="12849" y="9649"/>
                </a:cubicBezTo>
                <a:cubicBezTo>
                  <a:pt x="12879" y="9702"/>
                  <a:pt x="12942" y="9742"/>
                  <a:pt x="12998" y="9674"/>
                </a:cubicBezTo>
                <a:cubicBezTo>
                  <a:pt x="13018" y="9633"/>
                  <a:pt x="13015" y="9616"/>
                  <a:pt x="13047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67160" y="3938760"/>
            <a:ext cx="320760" cy="500040"/>
          </a:xfrm>
          <a:custGeom>
            <a:avLst/>
            <a:gdLst/>
            <a:ahLst/>
            <a:rect l="l" t="t" r="r" b="b"/>
            <a:pathLst>
              <a:path w="894" h="1390">
                <a:moveTo>
                  <a:pt x="12551" y="11112"/>
                </a:moveTo>
                <a:cubicBezTo>
                  <a:pt x="12551" y="11021"/>
                  <a:pt x="12531" y="11195"/>
                  <a:pt x="12526" y="11286"/>
                </a:cubicBezTo>
                <a:cubicBezTo>
                  <a:pt x="12520" y="11393"/>
                  <a:pt x="12502" y="11503"/>
                  <a:pt x="12502" y="11609"/>
                </a:cubicBezTo>
              </a:path>
              <a:path w="894" h="1390">
                <a:moveTo>
                  <a:pt x="12725" y="11112"/>
                </a:moveTo>
                <a:cubicBezTo>
                  <a:pt x="12753" y="11187"/>
                  <a:pt x="12753" y="11186"/>
                  <a:pt x="12725" y="11261"/>
                </a:cubicBezTo>
                <a:cubicBezTo>
                  <a:pt x="12796" y="11261"/>
                  <a:pt x="12867" y="11277"/>
                  <a:pt x="12923" y="11237"/>
                </a:cubicBezTo>
              </a:path>
              <a:path w="894" h="1390">
                <a:moveTo>
                  <a:pt x="12973" y="10939"/>
                </a:moveTo>
                <a:cubicBezTo>
                  <a:pt x="12961" y="11088"/>
                  <a:pt x="12973" y="11263"/>
                  <a:pt x="12948" y="11410"/>
                </a:cubicBezTo>
                <a:cubicBezTo>
                  <a:pt x="12928" y="11451"/>
                  <a:pt x="12919" y="11457"/>
                  <a:pt x="12923" y="11485"/>
                </a:cubicBezTo>
              </a:path>
              <a:path w="894" h="1390">
                <a:moveTo>
                  <a:pt x="12204" y="11286"/>
                </a:moveTo>
                <a:cubicBezTo>
                  <a:pt x="12257" y="11286"/>
                  <a:pt x="12302" y="11270"/>
                  <a:pt x="12353" y="11261"/>
                </a:cubicBezTo>
              </a:path>
              <a:path w="894" h="1390">
                <a:moveTo>
                  <a:pt x="12129" y="11757"/>
                </a:moveTo>
                <a:cubicBezTo>
                  <a:pt x="12314" y="11735"/>
                  <a:pt x="12472" y="11673"/>
                  <a:pt x="12650" y="11633"/>
                </a:cubicBezTo>
                <a:cubicBezTo>
                  <a:pt x="12768" y="11606"/>
                  <a:pt x="12901" y="11584"/>
                  <a:pt x="13022" y="11584"/>
                </a:cubicBezTo>
              </a:path>
              <a:path w="894" h="1390">
                <a:moveTo>
                  <a:pt x="12874" y="11832"/>
                </a:moveTo>
                <a:cubicBezTo>
                  <a:pt x="12874" y="11993"/>
                  <a:pt x="12867" y="12144"/>
                  <a:pt x="12849" y="12303"/>
                </a:cubicBezTo>
                <a:cubicBezTo>
                  <a:pt x="12849" y="12311"/>
                  <a:pt x="12849" y="12320"/>
                  <a:pt x="12849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18000" y="4205160"/>
            <a:ext cx="233280" cy="339840"/>
          </a:xfrm>
          <a:custGeom>
            <a:avLst/>
            <a:gdLst/>
            <a:ahLst/>
            <a:rect l="l" t="t" r="r" b="b"/>
            <a:pathLst>
              <a:path w="646" h="944">
                <a:moveTo>
                  <a:pt x="12551" y="12526"/>
                </a:moveTo>
                <a:cubicBezTo>
                  <a:pt x="12653" y="12546"/>
                  <a:pt x="12738" y="12529"/>
                  <a:pt x="12849" y="12526"/>
                </a:cubicBezTo>
                <a:cubicBezTo>
                  <a:pt x="12965" y="12523"/>
                  <a:pt x="13080" y="12526"/>
                  <a:pt x="13196" y="12526"/>
                </a:cubicBezTo>
                <a:cubicBezTo>
                  <a:pt x="13178" y="12421"/>
                  <a:pt x="13153" y="12311"/>
                  <a:pt x="13146" y="12204"/>
                </a:cubicBezTo>
                <a:cubicBezTo>
                  <a:pt x="13138" y="12093"/>
                  <a:pt x="13126" y="11988"/>
                  <a:pt x="13122" y="11881"/>
                </a:cubicBezTo>
                <a:cubicBezTo>
                  <a:pt x="13120" y="11824"/>
                  <a:pt x="13122" y="11765"/>
                  <a:pt x="13122" y="11708"/>
                </a:cubicBezTo>
                <a:cubicBezTo>
                  <a:pt x="13024" y="11688"/>
                  <a:pt x="12980" y="11706"/>
                  <a:pt x="12874" y="11733"/>
                </a:cubicBezTo>
                <a:cubicBezTo>
                  <a:pt x="12772" y="11759"/>
                  <a:pt x="12680" y="11823"/>
                  <a:pt x="12576" y="11832"/>
                </a:cubicBezTo>
                <a:cubicBezTo>
                  <a:pt x="12568" y="11832"/>
                  <a:pt x="12559" y="11832"/>
                  <a:pt x="12551" y="11832"/>
                </a:cubicBezTo>
                <a:cubicBezTo>
                  <a:pt x="12551" y="12058"/>
                  <a:pt x="12549" y="12280"/>
                  <a:pt x="12576" y="12502"/>
                </a:cubicBezTo>
                <a:cubicBezTo>
                  <a:pt x="12582" y="12553"/>
                  <a:pt x="12592" y="12612"/>
                  <a:pt x="12551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9040" y="3554280"/>
            <a:ext cx="393840" cy="463680"/>
          </a:xfrm>
          <a:custGeom>
            <a:avLst/>
            <a:gdLst/>
            <a:ahLst/>
            <a:rect l="l" t="t" r="r" b="b"/>
            <a:pathLst>
              <a:path w="1092" h="1291">
                <a:moveTo>
                  <a:pt x="10914" y="11162"/>
                </a:moveTo>
                <a:cubicBezTo>
                  <a:pt x="10938" y="11091"/>
                  <a:pt x="10964" y="11013"/>
                  <a:pt x="10988" y="10939"/>
                </a:cubicBezTo>
                <a:cubicBezTo>
                  <a:pt x="11019" y="10846"/>
                  <a:pt x="11056" y="10758"/>
                  <a:pt x="11088" y="10666"/>
                </a:cubicBezTo>
                <a:cubicBezTo>
                  <a:pt x="11120" y="10574"/>
                  <a:pt x="11150" y="10504"/>
                  <a:pt x="11187" y="10418"/>
                </a:cubicBezTo>
                <a:cubicBezTo>
                  <a:pt x="11218" y="10346"/>
                  <a:pt x="11248" y="10265"/>
                  <a:pt x="11286" y="10195"/>
                </a:cubicBezTo>
                <a:cubicBezTo>
                  <a:pt x="11323" y="10127"/>
                  <a:pt x="11350" y="10067"/>
                  <a:pt x="11385" y="9996"/>
                </a:cubicBezTo>
                <a:cubicBezTo>
                  <a:pt x="11395" y="9975"/>
                  <a:pt x="11435" y="9897"/>
                  <a:pt x="11435" y="9897"/>
                </a:cubicBezTo>
                <a:cubicBezTo>
                  <a:pt x="11435" y="9889"/>
                  <a:pt x="11435" y="9880"/>
                  <a:pt x="11435" y="9872"/>
                </a:cubicBezTo>
                <a:cubicBezTo>
                  <a:pt x="11477" y="9924"/>
                  <a:pt x="11532" y="9962"/>
                  <a:pt x="11559" y="10021"/>
                </a:cubicBezTo>
                <a:cubicBezTo>
                  <a:pt x="11598" y="10106"/>
                  <a:pt x="11607" y="10186"/>
                  <a:pt x="11633" y="10269"/>
                </a:cubicBezTo>
                <a:cubicBezTo>
                  <a:pt x="11654" y="10339"/>
                  <a:pt x="11709" y="10383"/>
                  <a:pt x="11733" y="10443"/>
                </a:cubicBezTo>
                <a:cubicBezTo>
                  <a:pt x="11757" y="10503"/>
                  <a:pt x="11780" y="10573"/>
                  <a:pt x="11807" y="10641"/>
                </a:cubicBezTo>
                <a:cubicBezTo>
                  <a:pt x="11832" y="10704"/>
                  <a:pt x="11867" y="10802"/>
                  <a:pt x="11906" y="10864"/>
                </a:cubicBezTo>
                <a:cubicBezTo>
                  <a:pt x="11934" y="10908"/>
                  <a:pt x="11959" y="10941"/>
                  <a:pt x="11981" y="10988"/>
                </a:cubicBezTo>
                <a:cubicBezTo>
                  <a:pt x="12003" y="11011"/>
                  <a:pt x="12011" y="11016"/>
                  <a:pt x="12005" y="11038"/>
                </a:cubicBezTo>
                <a:cubicBezTo>
                  <a:pt x="11891" y="11038"/>
                  <a:pt x="11769" y="11046"/>
                  <a:pt x="11658" y="11063"/>
                </a:cubicBezTo>
                <a:cubicBezTo>
                  <a:pt x="11541" y="11081"/>
                  <a:pt x="11429" y="11107"/>
                  <a:pt x="11311" y="11112"/>
                </a:cubicBezTo>
                <a:cubicBezTo>
                  <a:pt x="11200" y="11117"/>
                  <a:pt x="11085" y="11122"/>
                  <a:pt x="10988" y="11137"/>
                </a:cubicBezTo>
                <a:cubicBezTo>
                  <a:pt x="10964" y="11137"/>
                  <a:pt x="10955" y="11137"/>
                  <a:pt x="10939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28800" y="5259240"/>
            <a:ext cx="1500120" cy="420840"/>
          </a:xfrm>
          <a:custGeom>
            <a:avLst/>
            <a:gdLst/>
            <a:ahLst/>
            <a:rect l="l" t="t" r="r" b="b"/>
            <a:pathLst>
              <a:path w="4168" h="1167">
                <a:moveTo>
                  <a:pt x="2977" y="14610"/>
                </a:moveTo>
                <a:cubicBezTo>
                  <a:pt x="2786" y="14623"/>
                  <a:pt x="2743" y="14661"/>
                  <a:pt x="2654" y="14833"/>
                </a:cubicBezTo>
                <a:cubicBezTo>
                  <a:pt x="2556" y="15022"/>
                  <a:pt x="2534" y="15277"/>
                  <a:pt x="2629" y="15478"/>
                </a:cubicBezTo>
                <a:cubicBezTo>
                  <a:pt x="2717" y="15664"/>
                  <a:pt x="2867" y="15780"/>
                  <a:pt x="3076" y="15776"/>
                </a:cubicBezTo>
                <a:cubicBezTo>
                  <a:pt x="3268" y="15772"/>
                  <a:pt x="3469" y="15633"/>
                  <a:pt x="3572" y="15478"/>
                </a:cubicBezTo>
                <a:cubicBezTo>
                  <a:pt x="3683" y="15311"/>
                  <a:pt x="3713" y="15088"/>
                  <a:pt x="3621" y="14908"/>
                </a:cubicBezTo>
                <a:cubicBezTo>
                  <a:pt x="3547" y="14762"/>
                  <a:pt x="3355" y="14666"/>
                  <a:pt x="3200" y="14635"/>
                </a:cubicBezTo>
                <a:cubicBezTo>
                  <a:pt x="3108" y="14617"/>
                  <a:pt x="3023" y="14629"/>
                  <a:pt x="2952" y="14684"/>
                </a:cubicBezTo>
              </a:path>
              <a:path w="4168" h="1167">
                <a:moveTo>
                  <a:pt x="4663" y="14734"/>
                </a:moveTo>
                <a:cubicBezTo>
                  <a:pt x="4565" y="14707"/>
                  <a:pt x="4484" y="14703"/>
                  <a:pt x="4390" y="14759"/>
                </a:cubicBezTo>
                <a:cubicBezTo>
                  <a:pt x="4255" y="14839"/>
                  <a:pt x="4160" y="14976"/>
                  <a:pt x="4142" y="15131"/>
                </a:cubicBezTo>
                <a:cubicBezTo>
                  <a:pt x="4122" y="15301"/>
                  <a:pt x="4167" y="15499"/>
                  <a:pt x="4316" y="15602"/>
                </a:cubicBezTo>
                <a:cubicBezTo>
                  <a:pt x="4494" y="15725"/>
                  <a:pt x="4670" y="15719"/>
                  <a:pt x="4862" y="15652"/>
                </a:cubicBezTo>
                <a:cubicBezTo>
                  <a:pt x="5039" y="15590"/>
                  <a:pt x="5174" y="15473"/>
                  <a:pt x="5209" y="15280"/>
                </a:cubicBezTo>
                <a:cubicBezTo>
                  <a:pt x="5240" y="15111"/>
                  <a:pt x="5190" y="15008"/>
                  <a:pt x="5085" y="14883"/>
                </a:cubicBezTo>
                <a:cubicBezTo>
                  <a:pt x="5022" y="14808"/>
                  <a:pt x="4917" y="14798"/>
                  <a:pt x="4837" y="14784"/>
                </a:cubicBezTo>
                <a:cubicBezTo>
                  <a:pt x="4820" y="14784"/>
                  <a:pt x="4804" y="14784"/>
                  <a:pt x="4787" y="14784"/>
                </a:cubicBezTo>
              </a:path>
              <a:path w="4168" h="1167">
                <a:moveTo>
                  <a:pt x="6251" y="14833"/>
                </a:moveTo>
                <a:cubicBezTo>
                  <a:pt x="6192" y="14798"/>
                  <a:pt x="6104" y="14772"/>
                  <a:pt x="6028" y="14784"/>
                </a:cubicBezTo>
                <a:cubicBezTo>
                  <a:pt x="5925" y="14801"/>
                  <a:pt x="5889" y="14846"/>
                  <a:pt x="5829" y="14932"/>
                </a:cubicBezTo>
                <a:cubicBezTo>
                  <a:pt x="5769" y="15019"/>
                  <a:pt x="5724" y="15172"/>
                  <a:pt x="5730" y="15280"/>
                </a:cubicBezTo>
                <a:cubicBezTo>
                  <a:pt x="5737" y="15408"/>
                  <a:pt x="5797" y="15551"/>
                  <a:pt x="5904" y="15627"/>
                </a:cubicBezTo>
                <a:cubicBezTo>
                  <a:pt x="6045" y="15727"/>
                  <a:pt x="6249" y="15726"/>
                  <a:pt x="6400" y="15652"/>
                </a:cubicBezTo>
                <a:cubicBezTo>
                  <a:pt x="6503" y="15601"/>
                  <a:pt x="6679" y="15467"/>
                  <a:pt x="6722" y="15354"/>
                </a:cubicBezTo>
                <a:cubicBezTo>
                  <a:pt x="6783" y="15193"/>
                  <a:pt x="6734" y="15090"/>
                  <a:pt x="6648" y="14957"/>
                </a:cubicBezTo>
                <a:cubicBezTo>
                  <a:pt x="6571" y="14837"/>
                  <a:pt x="6460" y="14838"/>
                  <a:pt x="6325" y="14833"/>
                </a:cubicBezTo>
                <a:cubicBezTo>
                  <a:pt x="6284" y="14833"/>
                  <a:pt x="6276" y="14833"/>
                  <a:pt x="6251" y="14833"/>
                </a:cubicBezTo>
              </a:path>
              <a:path w="4168" h="1167">
                <a:moveTo>
                  <a:pt x="3225" y="14908"/>
                </a:moveTo>
                <a:cubicBezTo>
                  <a:pt x="3167" y="15041"/>
                  <a:pt x="3191" y="15226"/>
                  <a:pt x="3150" y="15379"/>
                </a:cubicBezTo>
                <a:cubicBezTo>
                  <a:pt x="3142" y="15396"/>
                  <a:pt x="3133" y="15412"/>
                  <a:pt x="3125" y="15429"/>
                </a:cubicBezTo>
              </a:path>
              <a:path w="4168" h="1167">
                <a:moveTo>
                  <a:pt x="4738" y="15007"/>
                </a:moveTo>
                <a:cubicBezTo>
                  <a:pt x="4719" y="15138"/>
                  <a:pt x="4697" y="15286"/>
                  <a:pt x="4688" y="15429"/>
                </a:cubicBezTo>
                <a:cubicBezTo>
                  <a:pt x="4688" y="15503"/>
                  <a:pt x="4688" y="15512"/>
                  <a:pt x="4688" y="15553"/>
                </a:cubicBezTo>
              </a:path>
              <a:path w="4168" h="1167">
                <a:moveTo>
                  <a:pt x="6201" y="15106"/>
                </a:moveTo>
                <a:cubicBezTo>
                  <a:pt x="6226" y="15255"/>
                  <a:pt x="6214" y="15376"/>
                  <a:pt x="6201" y="15528"/>
                </a:cubicBezTo>
                <a:cubicBezTo>
                  <a:pt x="6201" y="15544"/>
                  <a:pt x="6201" y="15561"/>
                  <a:pt x="6201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43040" y="1490760"/>
            <a:ext cx="357120" cy="911160"/>
          </a:xfrm>
          <a:custGeom>
            <a:avLst/>
            <a:gdLst/>
            <a:ahLst/>
            <a:rect l="l" t="t" r="r" b="b"/>
            <a:pathLst>
              <a:path w="993" h="2531">
                <a:moveTo>
                  <a:pt x="4713" y="4366"/>
                </a:moveTo>
                <a:cubicBezTo>
                  <a:pt x="4943" y="4208"/>
                  <a:pt x="5099" y="4133"/>
                  <a:pt x="5383" y="4167"/>
                </a:cubicBezTo>
                <a:cubicBezTo>
                  <a:pt x="5560" y="4188"/>
                  <a:pt x="5433" y="4192"/>
                  <a:pt x="5507" y="4217"/>
                </a:cubicBezTo>
              </a:path>
              <a:path w="993" h="2531">
                <a:moveTo>
                  <a:pt x="4564" y="6400"/>
                </a:moveTo>
                <a:cubicBezTo>
                  <a:pt x="4640" y="6550"/>
                  <a:pt x="4767" y="6694"/>
                  <a:pt x="4961" y="6672"/>
                </a:cubicBezTo>
                <a:cubicBezTo>
                  <a:pt x="5218" y="6643"/>
                  <a:pt x="5366" y="6439"/>
                  <a:pt x="5556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2920" y="1312920"/>
            <a:ext cx="723960" cy="1125360"/>
          </a:xfrm>
          <a:custGeom>
            <a:avLst/>
            <a:gdLst/>
            <a:ahLst/>
            <a:rect l="l" t="t" r="r" b="b"/>
            <a:pathLst>
              <a:path w="2010" h="3127">
                <a:moveTo>
                  <a:pt x="6896" y="5035"/>
                </a:moveTo>
                <a:cubicBezTo>
                  <a:pt x="6984" y="5018"/>
                  <a:pt x="7048" y="4989"/>
                  <a:pt x="7144" y="4986"/>
                </a:cubicBezTo>
                <a:cubicBezTo>
                  <a:pt x="7202" y="4986"/>
                  <a:pt x="7226" y="4970"/>
                  <a:pt x="7218" y="5011"/>
                </a:cubicBezTo>
              </a:path>
              <a:path w="2010" h="3127">
                <a:moveTo>
                  <a:pt x="6921" y="5283"/>
                </a:moveTo>
                <a:cubicBezTo>
                  <a:pt x="7053" y="5274"/>
                  <a:pt x="7170" y="5258"/>
                  <a:pt x="7293" y="5209"/>
                </a:cubicBezTo>
              </a:path>
              <a:path w="2010" h="3127">
                <a:moveTo>
                  <a:pt x="8310" y="4242"/>
                </a:moveTo>
                <a:cubicBezTo>
                  <a:pt x="8155" y="4207"/>
                  <a:pt x="8024" y="4309"/>
                  <a:pt x="7888" y="4390"/>
                </a:cubicBezTo>
                <a:cubicBezTo>
                  <a:pt x="7939" y="4561"/>
                  <a:pt x="8246" y="4554"/>
                  <a:pt x="8310" y="4762"/>
                </a:cubicBezTo>
                <a:cubicBezTo>
                  <a:pt x="8289" y="4887"/>
                  <a:pt x="8303" y="4929"/>
                  <a:pt x="8210" y="4936"/>
                </a:cubicBezTo>
                <a:cubicBezTo>
                  <a:pt x="8107" y="4695"/>
                  <a:pt x="8164" y="4613"/>
                  <a:pt x="8235" y="4366"/>
                </a:cubicBezTo>
                <a:cubicBezTo>
                  <a:pt x="8235" y="4358"/>
                  <a:pt x="8235" y="4349"/>
                  <a:pt x="8235" y="4341"/>
                </a:cubicBezTo>
              </a:path>
              <a:path w="2010" h="3127">
                <a:moveTo>
                  <a:pt x="7838" y="5259"/>
                </a:moveTo>
                <a:cubicBezTo>
                  <a:pt x="8073" y="5189"/>
                  <a:pt x="8291" y="5156"/>
                  <a:pt x="8533" y="5135"/>
                </a:cubicBezTo>
                <a:cubicBezTo>
                  <a:pt x="8574" y="5135"/>
                  <a:pt x="8582" y="5135"/>
                  <a:pt x="8607" y="5135"/>
                </a:cubicBezTo>
              </a:path>
              <a:path w="2010" h="3127">
                <a:moveTo>
                  <a:pt x="7863" y="5556"/>
                </a:moveTo>
                <a:cubicBezTo>
                  <a:pt x="7870" y="5722"/>
                  <a:pt x="7888" y="5885"/>
                  <a:pt x="7888" y="6052"/>
                </a:cubicBezTo>
              </a:path>
              <a:path w="2010" h="3127">
                <a:moveTo>
                  <a:pt x="8508" y="5308"/>
                </a:moveTo>
                <a:cubicBezTo>
                  <a:pt x="8454" y="5351"/>
                  <a:pt x="8285" y="5402"/>
                  <a:pt x="8260" y="5457"/>
                </a:cubicBezTo>
                <a:cubicBezTo>
                  <a:pt x="8237" y="5547"/>
                  <a:pt x="8229" y="5571"/>
                  <a:pt x="8235" y="5631"/>
                </a:cubicBezTo>
                <a:cubicBezTo>
                  <a:pt x="8253" y="5684"/>
                  <a:pt x="8338" y="5605"/>
                  <a:pt x="8384" y="5581"/>
                </a:cubicBezTo>
                <a:cubicBezTo>
                  <a:pt x="8571" y="5484"/>
                  <a:pt x="8715" y="5584"/>
                  <a:pt x="8632" y="5804"/>
                </a:cubicBezTo>
                <a:cubicBezTo>
                  <a:pt x="8576" y="5952"/>
                  <a:pt x="8414" y="6004"/>
                  <a:pt x="8285" y="5978"/>
                </a:cubicBezTo>
              </a:path>
              <a:path w="2010" h="3127">
                <a:moveTo>
                  <a:pt x="8880" y="4638"/>
                </a:moveTo>
                <a:cubicBezTo>
                  <a:pt x="8873" y="4559"/>
                  <a:pt x="8871" y="4473"/>
                  <a:pt x="8830" y="4366"/>
                </a:cubicBezTo>
                <a:cubicBezTo>
                  <a:pt x="8762" y="4189"/>
                  <a:pt x="8725" y="3996"/>
                  <a:pt x="8607" y="3845"/>
                </a:cubicBezTo>
                <a:cubicBezTo>
                  <a:pt x="8531" y="3749"/>
                  <a:pt x="8380" y="3666"/>
                  <a:pt x="8260" y="3646"/>
                </a:cubicBezTo>
                <a:cubicBezTo>
                  <a:pt x="8119" y="3622"/>
                  <a:pt x="8025" y="3669"/>
                  <a:pt x="7913" y="3746"/>
                </a:cubicBezTo>
                <a:cubicBezTo>
                  <a:pt x="7780" y="3838"/>
                  <a:pt x="7667" y="3986"/>
                  <a:pt x="7615" y="4142"/>
                </a:cubicBezTo>
                <a:cubicBezTo>
                  <a:pt x="7559" y="4308"/>
                  <a:pt x="7581" y="4469"/>
                  <a:pt x="7565" y="4638"/>
                </a:cubicBezTo>
                <a:cubicBezTo>
                  <a:pt x="7544" y="4860"/>
                  <a:pt x="7565" y="5082"/>
                  <a:pt x="7565" y="5308"/>
                </a:cubicBezTo>
                <a:cubicBezTo>
                  <a:pt x="7565" y="5542"/>
                  <a:pt x="7586" y="5770"/>
                  <a:pt x="7590" y="6003"/>
                </a:cubicBezTo>
                <a:cubicBezTo>
                  <a:pt x="7593" y="6186"/>
                  <a:pt x="7613" y="6336"/>
                  <a:pt x="7665" y="6499"/>
                </a:cubicBezTo>
                <a:cubicBezTo>
                  <a:pt x="7706" y="6626"/>
                  <a:pt x="7737" y="6689"/>
                  <a:pt x="7863" y="6747"/>
                </a:cubicBezTo>
                <a:cubicBezTo>
                  <a:pt x="7988" y="6804"/>
                  <a:pt x="8217" y="6723"/>
                  <a:pt x="8334" y="6672"/>
                </a:cubicBezTo>
                <a:cubicBezTo>
                  <a:pt x="8505" y="6598"/>
                  <a:pt x="8752" y="6428"/>
                  <a:pt x="8830" y="6251"/>
                </a:cubicBezTo>
                <a:cubicBezTo>
                  <a:pt x="8915" y="6058"/>
                  <a:pt x="8840" y="5853"/>
                  <a:pt x="8855" y="5655"/>
                </a:cubicBezTo>
                <a:cubicBezTo>
                  <a:pt x="8875" y="5398"/>
                  <a:pt x="8832" y="5209"/>
                  <a:pt x="8781" y="4961"/>
                </a:cubicBezTo>
                <a:cubicBezTo>
                  <a:pt x="8763" y="4872"/>
                  <a:pt x="8759" y="4780"/>
                  <a:pt x="8756" y="4688"/>
                </a:cubicBezTo>
                <a:cubicBezTo>
                  <a:pt x="8752" y="4556"/>
                  <a:pt x="8756" y="4423"/>
                  <a:pt x="8756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urse 1 Oct. 25, 2011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Objective:  Students will multiply fractions and mixed number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4000" y="5268960"/>
            <a:ext cx="785880" cy="696960"/>
          </a:xfrm>
          <a:custGeom>
            <a:avLst/>
            <a:gdLst/>
            <a:ahLst/>
            <a:rect l="l" t="t" r="r" b="b"/>
            <a:pathLst>
              <a:path w="2183" h="1936">
                <a:moveTo>
                  <a:pt x="6697" y="15453"/>
                </a:moveTo>
                <a:cubicBezTo>
                  <a:pt x="6677" y="15494"/>
                  <a:pt x="6668" y="15500"/>
                  <a:pt x="6672" y="15528"/>
                </a:cubicBezTo>
                <a:cubicBezTo>
                  <a:pt x="6649" y="15458"/>
                  <a:pt x="6656" y="15360"/>
                  <a:pt x="6697" y="15255"/>
                </a:cubicBezTo>
                <a:cubicBezTo>
                  <a:pt x="6742" y="15141"/>
                  <a:pt x="7012" y="15218"/>
                  <a:pt x="7119" y="15205"/>
                </a:cubicBezTo>
                <a:cubicBezTo>
                  <a:pt x="7211" y="15194"/>
                  <a:pt x="7299" y="15164"/>
                  <a:pt x="7392" y="15156"/>
                </a:cubicBezTo>
                <a:cubicBezTo>
                  <a:pt x="7369" y="15456"/>
                  <a:pt x="7289" y="15757"/>
                  <a:pt x="7218" y="16049"/>
                </a:cubicBezTo>
                <a:cubicBezTo>
                  <a:pt x="7198" y="16132"/>
                  <a:pt x="7185" y="16164"/>
                  <a:pt x="7169" y="16247"/>
                </a:cubicBezTo>
              </a:path>
              <a:path w="2183" h="1936">
                <a:moveTo>
                  <a:pt x="8186" y="14833"/>
                </a:moveTo>
                <a:cubicBezTo>
                  <a:pt x="8186" y="14923"/>
                  <a:pt x="8167" y="14998"/>
                  <a:pt x="8136" y="15081"/>
                </a:cubicBezTo>
                <a:cubicBezTo>
                  <a:pt x="8285" y="15081"/>
                  <a:pt x="8433" y="15081"/>
                  <a:pt x="8582" y="15081"/>
                </a:cubicBezTo>
              </a:path>
              <a:path w="2183" h="1936">
                <a:moveTo>
                  <a:pt x="8558" y="14635"/>
                </a:moveTo>
                <a:cubicBezTo>
                  <a:pt x="8513" y="14926"/>
                  <a:pt x="8461" y="15216"/>
                  <a:pt x="8409" y="15503"/>
                </a:cubicBezTo>
                <a:cubicBezTo>
                  <a:pt x="8409" y="15520"/>
                  <a:pt x="8409" y="15536"/>
                  <a:pt x="8409" y="15553"/>
                </a:cubicBezTo>
              </a:path>
              <a:path w="2183" h="1936">
                <a:moveTo>
                  <a:pt x="7962" y="15677"/>
                </a:moveTo>
                <a:cubicBezTo>
                  <a:pt x="8241" y="15617"/>
                  <a:pt x="8552" y="15513"/>
                  <a:pt x="8830" y="15553"/>
                </a:cubicBezTo>
              </a:path>
              <a:path w="2183" h="1936">
                <a:moveTo>
                  <a:pt x="8458" y="15949"/>
                </a:moveTo>
                <a:cubicBezTo>
                  <a:pt x="8359" y="15957"/>
                  <a:pt x="8165" y="15962"/>
                  <a:pt x="8086" y="16024"/>
                </a:cubicBezTo>
                <a:cubicBezTo>
                  <a:pt x="8065" y="16040"/>
                  <a:pt x="8050" y="16187"/>
                  <a:pt x="8037" y="16222"/>
                </a:cubicBezTo>
                <a:cubicBezTo>
                  <a:pt x="8132" y="16143"/>
                  <a:pt x="8277" y="16056"/>
                  <a:pt x="8409" y="16098"/>
                </a:cubicBezTo>
                <a:cubicBezTo>
                  <a:pt x="8684" y="16186"/>
                  <a:pt x="8390" y="16470"/>
                  <a:pt x="8260" y="16520"/>
                </a:cubicBezTo>
                <a:cubicBezTo>
                  <a:pt x="8155" y="16561"/>
                  <a:pt x="8024" y="16545"/>
                  <a:pt x="7913" y="16545"/>
                </a:cubicBezTo>
                <a:cubicBezTo>
                  <a:pt x="7905" y="16545"/>
                  <a:pt x="7896" y="16545"/>
                  <a:pt x="7888" y="16545"/>
                </a:cubicBezTo>
              </a:path>
              <a:path w="2183" h="1936">
                <a:moveTo>
                  <a:pt x="6796" y="16470"/>
                </a:moveTo>
                <a:cubicBezTo>
                  <a:pt x="6949" y="16445"/>
                  <a:pt x="7110" y="16431"/>
                  <a:pt x="7268" y="16421"/>
                </a:cubicBezTo>
                <a:cubicBezTo>
                  <a:pt x="7505" y="16405"/>
                  <a:pt x="7119" y="16540"/>
                  <a:pt x="7094" y="16545"/>
                </a:cubicBezTo>
                <a:cubicBezTo>
                  <a:pt x="6937" y="16568"/>
                  <a:pt x="6894" y="16579"/>
                  <a:pt x="6796" y="16545"/>
                </a:cubicBezTo>
                <a:cubicBezTo>
                  <a:pt x="6906" y="16545"/>
                  <a:pt x="6984" y="16534"/>
                  <a:pt x="7094" y="16520"/>
                </a:cubicBezTo>
                <a:cubicBezTo>
                  <a:pt x="7234" y="16436"/>
                  <a:pt x="6903" y="16540"/>
                  <a:pt x="6871" y="16545"/>
                </a:cubicBezTo>
                <a:cubicBezTo>
                  <a:pt x="6845" y="16549"/>
                  <a:pt x="7055" y="16514"/>
                  <a:pt x="7119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90760" y="4848120"/>
            <a:ext cx="2982960" cy="81000"/>
          </a:xfrm>
          <a:custGeom>
            <a:avLst/>
            <a:gdLst/>
            <a:ahLst/>
            <a:rect l="l" t="t" r="r" b="b"/>
            <a:pathLst>
              <a:path w="8286" h="224">
                <a:moveTo>
                  <a:pt x="4142" y="13643"/>
                </a:moveTo>
                <a:cubicBezTo>
                  <a:pt x="4185" y="13639"/>
                  <a:pt x="4232" y="13616"/>
                  <a:pt x="4266" y="13618"/>
                </a:cubicBezTo>
                <a:cubicBezTo>
                  <a:pt x="4394" y="13624"/>
                  <a:pt x="4507" y="13663"/>
                  <a:pt x="4638" y="13667"/>
                </a:cubicBezTo>
                <a:cubicBezTo>
                  <a:pt x="4789" y="13672"/>
                  <a:pt x="4936" y="13685"/>
                  <a:pt x="5085" y="13692"/>
                </a:cubicBezTo>
                <a:cubicBezTo>
                  <a:pt x="6370" y="13753"/>
                  <a:pt x="7671" y="13692"/>
                  <a:pt x="8954" y="13692"/>
                </a:cubicBezTo>
                <a:cubicBezTo>
                  <a:pt x="9180" y="13692"/>
                  <a:pt x="9400" y="13670"/>
                  <a:pt x="9624" y="13667"/>
                </a:cubicBezTo>
                <a:cubicBezTo>
                  <a:pt x="9897" y="13664"/>
                  <a:pt x="10171" y="13668"/>
                  <a:pt x="10443" y="13643"/>
                </a:cubicBezTo>
                <a:cubicBezTo>
                  <a:pt x="10684" y="13621"/>
                  <a:pt x="10922" y="13601"/>
                  <a:pt x="11162" y="13568"/>
                </a:cubicBezTo>
                <a:cubicBezTo>
                  <a:pt x="11502" y="13521"/>
                  <a:pt x="11862" y="13460"/>
                  <a:pt x="12204" y="13469"/>
                </a:cubicBezTo>
                <a:cubicBezTo>
                  <a:pt x="12250" y="13470"/>
                  <a:pt x="12411" y="13517"/>
                  <a:pt x="12427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98760" y="4964040"/>
            <a:ext cx="2813040" cy="171360"/>
          </a:xfrm>
          <a:custGeom>
            <a:avLst/>
            <a:gdLst/>
            <a:ahLst/>
            <a:rect l="l" t="t" r="r" b="b"/>
            <a:pathLst>
              <a:path w="7815" h="473">
                <a:moveTo>
                  <a:pt x="4440" y="14064"/>
                </a:moveTo>
                <a:cubicBezTo>
                  <a:pt x="4532" y="14073"/>
                  <a:pt x="4620" y="14084"/>
                  <a:pt x="4713" y="14089"/>
                </a:cubicBezTo>
                <a:cubicBezTo>
                  <a:pt x="4987" y="14103"/>
                  <a:pt x="5256" y="14151"/>
                  <a:pt x="5531" y="14163"/>
                </a:cubicBezTo>
                <a:cubicBezTo>
                  <a:pt x="5762" y="14173"/>
                  <a:pt x="5974" y="14242"/>
                  <a:pt x="6201" y="14263"/>
                </a:cubicBezTo>
                <a:cubicBezTo>
                  <a:pt x="6402" y="14281"/>
                  <a:pt x="6623" y="14262"/>
                  <a:pt x="6821" y="14238"/>
                </a:cubicBezTo>
                <a:cubicBezTo>
                  <a:pt x="7040" y="14212"/>
                  <a:pt x="7246" y="14203"/>
                  <a:pt x="7466" y="14188"/>
                </a:cubicBezTo>
                <a:cubicBezTo>
                  <a:pt x="7823" y="14164"/>
                  <a:pt x="8178" y="14081"/>
                  <a:pt x="8533" y="14039"/>
                </a:cubicBezTo>
                <a:cubicBezTo>
                  <a:pt x="8948" y="13990"/>
                  <a:pt x="9357" y="13912"/>
                  <a:pt x="9773" y="13866"/>
                </a:cubicBezTo>
                <a:cubicBezTo>
                  <a:pt x="10099" y="13830"/>
                  <a:pt x="10412" y="13816"/>
                  <a:pt x="10740" y="13816"/>
                </a:cubicBezTo>
                <a:cubicBezTo>
                  <a:pt x="11227" y="13816"/>
                  <a:pt x="11751" y="13764"/>
                  <a:pt x="12229" y="13791"/>
                </a:cubicBezTo>
                <a:cubicBezTo>
                  <a:pt x="12237" y="13799"/>
                  <a:pt x="12246" y="13808"/>
                  <a:pt x="12254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47920" y="1676520"/>
          <a:ext cx="99036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76520"/>
                    <a:ext cx="99036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638680" y="1676520"/>
          <a:ext cx="1143000" cy="82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1676520"/>
                    <a:ext cx="114300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447920" y="3886200"/>
          <a:ext cx="1066680" cy="82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886200"/>
                    <a:ext cx="10666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562720" y="3809880"/>
          <a:ext cx="1600200" cy="901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2720" y="3809880"/>
                    <a:ext cx="16002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401840" y="1258920"/>
            <a:ext cx="866520" cy="1285920"/>
          </a:xfrm>
          <a:custGeom>
            <a:avLst/>
            <a:gdLst/>
            <a:ahLst/>
            <a:rect l="l" t="t" r="r" b="b"/>
            <a:pathLst>
              <a:path w="2407" h="3573">
                <a:moveTo>
                  <a:pt x="4713" y="4812"/>
                </a:moveTo>
                <a:cubicBezTo>
                  <a:pt x="4732" y="4738"/>
                  <a:pt x="4794" y="4680"/>
                  <a:pt x="4862" y="4638"/>
                </a:cubicBezTo>
                <a:cubicBezTo>
                  <a:pt x="5014" y="4546"/>
                  <a:pt x="5105" y="4560"/>
                  <a:pt x="5259" y="4614"/>
                </a:cubicBezTo>
                <a:cubicBezTo>
                  <a:pt x="5301" y="4629"/>
                  <a:pt x="5410" y="4680"/>
                  <a:pt x="5432" y="4713"/>
                </a:cubicBezTo>
                <a:cubicBezTo>
                  <a:pt x="5449" y="4738"/>
                  <a:pt x="5447" y="4733"/>
                  <a:pt x="5457" y="4762"/>
                </a:cubicBezTo>
              </a:path>
              <a:path w="2407" h="3573">
                <a:moveTo>
                  <a:pt x="4514" y="6970"/>
                </a:moveTo>
                <a:cubicBezTo>
                  <a:pt x="4593" y="6990"/>
                  <a:pt x="4642" y="7056"/>
                  <a:pt x="4738" y="7069"/>
                </a:cubicBezTo>
                <a:cubicBezTo>
                  <a:pt x="4888" y="7090"/>
                  <a:pt x="5091" y="7067"/>
                  <a:pt x="5234" y="7020"/>
                </a:cubicBezTo>
                <a:cubicBezTo>
                  <a:pt x="5365" y="6977"/>
                  <a:pt x="5486" y="6914"/>
                  <a:pt x="5606" y="6846"/>
                </a:cubicBezTo>
                <a:cubicBezTo>
                  <a:pt x="5622" y="6838"/>
                  <a:pt x="5639" y="6829"/>
                  <a:pt x="5655" y="6821"/>
                </a:cubicBezTo>
              </a:path>
              <a:path w="2407" h="3573">
                <a:moveTo>
                  <a:pt x="4366" y="4787"/>
                </a:moveTo>
                <a:cubicBezTo>
                  <a:pt x="4420" y="4769"/>
                  <a:pt x="4455" y="4725"/>
                  <a:pt x="4490" y="4713"/>
                </a:cubicBezTo>
              </a:path>
              <a:path w="2407" h="3573">
                <a:moveTo>
                  <a:pt x="4440" y="4490"/>
                </a:moveTo>
                <a:cubicBezTo>
                  <a:pt x="4440" y="4498"/>
                  <a:pt x="4440" y="4506"/>
                  <a:pt x="4440" y="4514"/>
                </a:cubicBezTo>
              </a:path>
              <a:path w="2407" h="3573">
                <a:moveTo>
                  <a:pt x="4539" y="4787"/>
                </a:moveTo>
                <a:lnTo>
                  <a:pt x="4539" y="4787"/>
                </a:lnTo>
                <a:lnTo>
                  <a:pt x="4539" y="4787"/>
                </a:lnTo>
              </a:path>
              <a:path w="2407" h="3573">
                <a:moveTo>
                  <a:pt x="4614" y="4440"/>
                </a:moveTo>
                <a:cubicBezTo>
                  <a:pt x="4608" y="4428"/>
                  <a:pt x="4654" y="4345"/>
                  <a:pt x="4713" y="4316"/>
                </a:cubicBezTo>
                <a:cubicBezTo>
                  <a:pt x="4721" y="4316"/>
                  <a:pt x="4730" y="4316"/>
                  <a:pt x="4738" y="4316"/>
                </a:cubicBezTo>
                <a:cubicBezTo>
                  <a:pt x="4755" y="4385"/>
                  <a:pt x="4797" y="4480"/>
                  <a:pt x="4812" y="4514"/>
                </a:cubicBezTo>
                <a:cubicBezTo>
                  <a:pt x="4812" y="4522"/>
                  <a:pt x="4812" y="4531"/>
                  <a:pt x="4812" y="4539"/>
                </a:cubicBezTo>
              </a:path>
              <a:path w="2407" h="3573">
                <a:moveTo>
                  <a:pt x="5829" y="6672"/>
                </a:moveTo>
                <a:cubicBezTo>
                  <a:pt x="5829" y="6617"/>
                  <a:pt x="5900" y="6660"/>
                  <a:pt x="5928" y="6672"/>
                </a:cubicBezTo>
              </a:path>
              <a:path w="2407" h="3573">
                <a:moveTo>
                  <a:pt x="5904" y="6499"/>
                </a:moveTo>
                <a:lnTo>
                  <a:pt x="5904" y="6499"/>
                </a:lnTo>
                <a:lnTo>
                  <a:pt x="5904" y="6499"/>
                </a:lnTo>
              </a:path>
              <a:path w="2407" h="3573">
                <a:moveTo>
                  <a:pt x="5854" y="6821"/>
                </a:moveTo>
                <a:lnTo>
                  <a:pt x="5854" y="6821"/>
                </a:lnTo>
              </a:path>
              <a:path w="2407" h="3573">
                <a:moveTo>
                  <a:pt x="6127" y="6623"/>
                </a:moveTo>
                <a:cubicBezTo>
                  <a:pt x="6185" y="6623"/>
                  <a:pt x="6242" y="6623"/>
                  <a:pt x="6300" y="6623"/>
                </a:cubicBezTo>
                <a:cubicBezTo>
                  <a:pt x="6286" y="6725"/>
                  <a:pt x="6261" y="6825"/>
                  <a:pt x="6226" y="6921"/>
                </a:cubicBezTo>
              </a:path>
              <a:path w="2407" h="3573">
                <a:moveTo>
                  <a:pt x="4366" y="4738"/>
                </a:moveTo>
                <a:cubicBezTo>
                  <a:pt x="4366" y="4730"/>
                  <a:pt x="4366" y="4721"/>
                  <a:pt x="4366" y="4713"/>
                </a:cubicBezTo>
                <a:cubicBezTo>
                  <a:pt x="4395" y="4703"/>
                  <a:pt x="4408" y="4670"/>
                  <a:pt x="4440" y="4638"/>
                </a:cubicBezTo>
                <a:cubicBezTo>
                  <a:pt x="4476" y="4602"/>
                  <a:pt x="4461" y="4578"/>
                  <a:pt x="4514" y="4564"/>
                </a:cubicBezTo>
                <a:cubicBezTo>
                  <a:pt x="4525" y="4531"/>
                  <a:pt x="4528" y="4541"/>
                  <a:pt x="4564" y="4514"/>
                </a:cubicBezTo>
              </a:path>
              <a:path w="2407" h="3573">
                <a:moveTo>
                  <a:pt x="4291" y="4589"/>
                </a:moveTo>
                <a:cubicBezTo>
                  <a:pt x="4291" y="4546"/>
                  <a:pt x="4301" y="4551"/>
                  <a:pt x="4266" y="4539"/>
                </a:cubicBezTo>
              </a:path>
              <a:path w="2407" h="3573">
                <a:moveTo>
                  <a:pt x="4564" y="4787"/>
                </a:moveTo>
                <a:lnTo>
                  <a:pt x="4564" y="4787"/>
                </a:lnTo>
              </a:path>
              <a:path w="2407" h="3573">
                <a:moveTo>
                  <a:pt x="4291" y="3547"/>
                </a:moveTo>
                <a:cubicBezTo>
                  <a:pt x="4291" y="3522"/>
                  <a:pt x="4291" y="3514"/>
                  <a:pt x="4291" y="3497"/>
                </a:cubicBezTo>
                <a:cubicBezTo>
                  <a:pt x="4309" y="3681"/>
                  <a:pt x="4336" y="3858"/>
                  <a:pt x="4341" y="4043"/>
                </a:cubicBezTo>
                <a:cubicBezTo>
                  <a:pt x="4341" y="4068"/>
                  <a:pt x="4341" y="4093"/>
                  <a:pt x="4341" y="4118"/>
                </a:cubicBezTo>
              </a:path>
              <a:path w="2407" h="3573">
                <a:moveTo>
                  <a:pt x="4961" y="4167"/>
                </a:moveTo>
                <a:cubicBezTo>
                  <a:pt x="4961" y="4159"/>
                  <a:pt x="4961" y="4150"/>
                  <a:pt x="4961" y="4142"/>
                </a:cubicBezTo>
                <a:cubicBezTo>
                  <a:pt x="4939" y="4169"/>
                  <a:pt x="4898" y="4245"/>
                  <a:pt x="4862" y="4291"/>
                </a:cubicBezTo>
                <a:cubicBezTo>
                  <a:pt x="4804" y="4364"/>
                  <a:pt x="4757" y="4377"/>
                  <a:pt x="4713" y="4465"/>
                </a:cubicBezTo>
                <a:cubicBezTo>
                  <a:pt x="4676" y="4539"/>
                  <a:pt x="4626" y="4588"/>
                  <a:pt x="4589" y="4663"/>
                </a:cubicBezTo>
                <a:cubicBezTo>
                  <a:pt x="4555" y="4732"/>
                  <a:pt x="4521" y="4778"/>
                  <a:pt x="4490" y="4837"/>
                </a:cubicBezTo>
                <a:cubicBezTo>
                  <a:pt x="4452" y="4909"/>
                  <a:pt x="4405" y="4965"/>
                  <a:pt x="4366" y="5035"/>
                </a:cubicBezTo>
                <a:cubicBezTo>
                  <a:pt x="4320" y="5118"/>
                  <a:pt x="4246" y="5180"/>
                  <a:pt x="4192" y="5259"/>
                </a:cubicBezTo>
                <a:cubicBezTo>
                  <a:pt x="4155" y="5313"/>
                  <a:pt x="4133" y="5381"/>
                  <a:pt x="4093" y="5432"/>
                </a:cubicBezTo>
                <a:cubicBezTo>
                  <a:pt x="4049" y="5488"/>
                  <a:pt x="4004" y="5544"/>
                  <a:pt x="3969" y="5606"/>
                </a:cubicBezTo>
                <a:cubicBezTo>
                  <a:pt x="3954" y="5632"/>
                  <a:pt x="3958" y="5681"/>
                  <a:pt x="3944" y="5705"/>
                </a:cubicBezTo>
                <a:cubicBezTo>
                  <a:pt x="3915" y="5753"/>
                  <a:pt x="3907" y="5752"/>
                  <a:pt x="3894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71840" y="1581120"/>
            <a:ext cx="1920960" cy="758880"/>
          </a:xfrm>
          <a:custGeom>
            <a:avLst/>
            <a:gdLst/>
            <a:ahLst/>
            <a:rect l="l" t="t" r="r" b="b"/>
            <a:pathLst>
              <a:path w="5334" h="2110">
                <a:moveTo>
                  <a:pt x="7144" y="5011"/>
                </a:moveTo>
                <a:cubicBezTo>
                  <a:pt x="7203" y="5100"/>
                  <a:pt x="7196" y="5099"/>
                  <a:pt x="7169" y="5209"/>
                </a:cubicBezTo>
                <a:cubicBezTo>
                  <a:pt x="7268" y="5209"/>
                  <a:pt x="7367" y="5209"/>
                  <a:pt x="7466" y="5209"/>
                </a:cubicBezTo>
              </a:path>
              <a:path w="5334" h="2110">
                <a:moveTo>
                  <a:pt x="7441" y="4837"/>
                </a:moveTo>
                <a:cubicBezTo>
                  <a:pt x="7441" y="5052"/>
                  <a:pt x="7441" y="5647"/>
                  <a:pt x="7441" y="5432"/>
                </a:cubicBezTo>
              </a:path>
              <a:path w="5334" h="2110">
                <a:moveTo>
                  <a:pt x="7640" y="4936"/>
                </a:moveTo>
                <a:cubicBezTo>
                  <a:pt x="7711" y="4903"/>
                  <a:pt x="7888" y="4787"/>
                  <a:pt x="7888" y="4961"/>
                </a:cubicBezTo>
                <a:cubicBezTo>
                  <a:pt x="7888" y="5103"/>
                  <a:pt x="7775" y="5208"/>
                  <a:pt x="7689" y="5308"/>
                </a:cubicBezTo>
                <a:cubicBezTo>
                  <a:pt x="7826" y="5308"/>
                  <a:pt x="7952" y="5281"/>
                  <a:pt x="8086" y="5259"/>
                </a:cubicBezTo>
                <a:cubicBezTo>
                  <a:pt x="8111" y="5259"/>
                  <a:pt x="8119" y="5259"/>
                  <a:pt x="8111" y="5283"/>
                </a:cubicBezTo>
              </a:path>
              <a:path w="5334" h="2110">
                <a:moveTo>
                  <a:pt x="7317" y="5680"/>
                </a:moveTo>
                <a:cubicBezTo>
                  <a:pt x="7435" y="5602"/>
                  <a:pt x="7552" y="5620"/>
                  <a:pt x="7689" y="5606"/>
                </a:cubicBezTo>
                <a:cubicBezTo>
                  <a:pt x="7856" y="5589"/>
                  <a:pt x="8017" y="5556"/>
                  <a:pt x="8186" y="5556"/>
                </a:cubicBezTo>
                <a:cubicBezTo>
                  <a:pt x="8178" y="5556"/>
                  <a:pt x="8169" y="5556"/>
                  <a:pt x="8161" y="5556"/>
                </a:cubicBezTo>
              </a:path>
              <a:path w="5334" h="2110">
                <a:moveTo>
                  <a:pt x="7565" y="5978"/>
                </a:moveTo>
                <a:cubicBezTo>
                  <a:pt x="7510" y="5978"/>
                  <a:pt x="7260" y="5938"/>
                  <a:pt x="7243" y="6003"/>
                </a:cubicBezTo>
                <a:cubicBezTo>
                  <a:pt x="7232" y="6047"/>
                  <a:pt x="7243" y="6126"/>
                  <a:pt x="7243" y="6176"/>
                </a:cubicBezTo>
                <a:cubicBezTo>
                  <a:pt x="7315" y="6176"/>
                  <a:pt x="7464" y="6156"/>
                  <a:pt x="7516" y="6226"/>
                </a:cubicBezTo>
                <a:cubicBezTo>
                  <a:pt x="7597" y="6335"/>
                  <a:pt x="7513" y="6426"/>
                  <a:pt x="7417" y="6474"/>
                </a:cubicBezTo>
                <a:cubicBezTo>
                  <a:pt x="7325" y="6520"/>
                  <a:pt x="7244" y="6511"/>
                  <a:pt x="7169" y="6449"/>
                </a:cubicBezTo>
              </a:path>
              <a:path w="5334" h="2110">
                <a:moveTo>
                  <a:pt x="7838" y="5953"/>
                </a:moveTo>
                <a:cubicBezTo>
                  <a:pt x="7824" y="6037"/>
                  <a:pt x="7779" y="6117"/>
                  <a:pt x="7764" y="6201"/>
                </a:cubicBezTo>
                <a:cubicBezTo>
                  <a:pt x="7754" y="6259"/>
                  <a:pt x="7769" y="6324"/>
                  <a:pt x="7789" y="6375"/>
                </a:cubicBezTo>
                <a:cubicBezTo>
                  <a:pt x="7814" y="6438"/>
                  <a:pt x="7856" y="6502"/>
                  <a:pt x="7938" y="6499"/>
                </a:cubicBezTo>
                <a:cubicBezTo>
                  <a:pt x="8011" y="6496"/>
                  <a:pt x="8078" y="6434"/>
                  <a:pt x="8136" y="6400"/>
                </a:cubicBezTo>
                <a:cubicBezTo>
                  <a:pt x="8187" y="6370"/>
                  <a:pt x="8204" y="6340"/>
                  <a:pt x="8235" y="6300"/>
                </a:cubicBezTo>
                <a:cubicBezTo>
                  <a:pt x="8265" y="6263"/>
                  <a:pt x="8230" y="6230"/>
                  <a:pt x="8186" y="6201"/>
                </a:cubicBezTo>
                <a:cubicBezTo>
                  <a:pt x="8117" y="6156"/>
                  <a:pt x="8118" y="6182"/>
                  <a:pt x="8062" y="6201"/>
                </a:cubicBezTo>
                <a:cubicBezTo>
                  <a:pt x="8039" y="6209"/>
                  <a:pt x="7972" y="6307"/>
                  <a:pt x="7962" y="6350"/>
                </a:cubicBezTo>
                <a:cubicBezTo>
                  <a:pt x="7956" y="6376"/>
                  <a:pt x="7962" y="6420"/>
                  <a:pt x="7962" y="6449"/>
                </a:cubicBezTo>
              </a:path>
              <a:path w="5334" h="2110">
                <a:moveTo>
                  <a:pt x="8161" y="5035"/>
                </a:moveTo>
                <a:cubicBezTo>
                  <a:pt x="8218" y="4993"/>
                  <a:pt x="8288" y="4975"/>
                  <a:pt x="8359" y="4961"/>
                </a:cubicBezTo>
              </a:path>
              <a:path w="5334" h="2110">
                <a:moveTo>
                  <a:pt x="8310" y="4787"/>
                </a:moveTo>
                <a:lnTo>
                  <a:pt x="8310" y="4787"/>
                </a:lnTo>
              </a:path>
              <a:path w="5334" h="2110">
                <a:moveTo>
                  <a:pt x="8359" y="5085"/>
                </a:moveTo>
                <a:cubicBezTo>
                  <a:pt x="8351" y="5085"/>
                  <a:pt x="8342" y="5085"/>
                  <a:pt x="8334" y="5085"/>
                </a:cubicBezTo>
              </a:path>
              <a:path w="5334" h="2110">
                <a:moveTo>
                  <a:pt x="8458" y="4862"/>
                </a:moveTo>
                <a:cubicBezTo>
                  <a:pt x="8545" y="4810"/>
                  <a:pt x="8541" y="4812"/>
                  <a:pt x="8632" y="4812"/>
                </a:cubicBezTo>
                <a:cubicBezTo>
                  <a:pt x="8624" y="4883"/>
                  <a:pt x="8596" y="4943"/>
                  <a:pt x="8582" y="5011"/>
                </a:cubicBezTo>
                <a:cubicBezTo>
                  <a:pt x="8632" y="5011"/>
                  <a:pt x="8681" y="5011"/>
                  <a:pt x="8731" y="5011"/>
                </a:cubicBezTo>
              </a:path>
              <a:path w="5334" h="2110">
                <a:moveTo>
                  <a:pt x="8334" y="6152"/>
                </a:moveTo>
                <a:cubicBezTo>
                  <a:pt x="8387" y="6110"/>
                  <a:pt x="8438" y="6083"/>
                  <a:pt x="8508" y="6077"/>
                </a:cubicBezTo>
                <a:cubicBezTo>
                  <a:pt x="8516" y="6077"/>
                  <a:pt x="8525" y="6077"/>
                  <a:pt x="8533" y="6077"/>
                </a:cubicBezTo>
              </a:path>
              <a:path w="5334" h="2110">
                <a:moveTo>
                  <a:pt x="8508" y="5953"/>
                </a:moveTo>
                <a:cubicBezTo>
                  <a:pt x="8500" y="5961"/>
                  <a:pt x="8491" y="5970"/>
                  <a:pt x="8483" y="5978"/>
                </a:cubicBezTo>
              </a:path>
              <a:path w="5334" h="2110">
                <a:moveTo>
                  <a:pt x="8483" y="6251"/>
                </a:moveTo>
                <a:lnTo>
                  <a:pt x="8483" y="6251"/>
                </a:lnTo>
                <a:lnTo>
                  <a:pt x="8483" y="6251"/>
                </a:lnTo>
              </a:path>
              <a:path w="5334" h="2110">
                <a:moveTo>
                  <a:pt x="8483" y="6251"/>
                </a:moveTo>
                <a:lnTo>
                  <a:pt x="8483" y="6251"/>
                </a:lnTo>
              </a:path>
              <a:path w="5334" h="2110">
                <a:moveTo>
                  <a:pt x="8657" y="6052"/>
                </a:moveTo>
                <a:cubicBezTo>
                  <a:pt x="8703" y="6032"/>
                  <a:pt x="8772" y="5970"/>
                  <a:pt x="8781" y="6052"/>
                </a:cubicBezTo>
                <a:cubicBezTo>
                  <a:pt x="8790" y="6137"/>
                  <a:pt x="8757" y="6165"/>
                  <a:pt x="8706" y="6226"/>
                </a:cubicBezTo>
                <a:cubicBezTo>
                  <a:pt x="8736" y="6244"/>
                  <a:pt x="8863" y="6271"/>
                  <a:pt x="8880" y="6226"/>
                </a:cubicBezTo>
                <a:cubicBezTo>
                  <a:pt x="8880" y="6201"/>
                  <a:pt x="8880" y="6177"/>
                  <a:pt x="8880" y="6152"/>
                </a:cubicBezTo>
              </a:path>
              <a:path w="5334" h="2110">
                <a:moveTo>
                  <a:pt x="8880" y="5531"/>
                </a:moveTo>
                <a:cubicBezTo>
                  <a:pt x="8918" y="5509"/>
                  <a:pt x="8932" y="5507"/>
                  <a:pt x="8979" y="5507"/>
                </a:cubicBezTo>
              </a:path>
              <a:path w="5334" h="2110">
                <a:moveTo>
                  <a:pt x="8880" y="5655"/>
                </a:moveTo>
                <a:cubicBezTo>
                  <a:pt x="8938" y="5655"/>
                  <a:pt x="8946" y="5655"/>
                  <a:pt x="8979" y="5655"/>
                </a:cubicBezTo>
              </a:path>
              <a:path w="5334" h="2110">
                <a:moveTo>
                  <a:pt x="9451" y="5035"/>
                </a:moveTo>
                <a:cubicBezTo>
                  <a:pt x="9426" y="5035"/>
                  <a:pt x="9418" y="5035"/>
                  <a:pt x="9426" y="5011"/>
                </a:cubicBezTo>
                <a:cubicBezTo>
                  <a:pt x="9439" y="4985"/>
                  <a:pt x="9531" y="4899"/>
                  <a:pt x="9575" y="4936"/>
                </a:cubicBezTo>
                <a:cubicBezTo>
                  <a:pt x="9637" y="4987"/>
                  <a:pt x="9584" y="5133"/>
                  <a:pt x="9550" y="5184"/>
                </a:cubicBezTo>
                <a:cubicBezTo>
                  <a:pt x="9520" y="5229"/>
                  <a:pt x="9500" y="5269"/>
                  <a:pt x="9475" y="5308"/>
                </a:cubicBezTo>
                <a:cubicBezTo>
                  <a:pt x="9453" y="5342"/>
                  <a:pt x="9436" y="5344"/>
                  <a:pt x="9426" y="5383"/>
                </a:cubicBezTo>
                <a:cubicBezTo>
                  <a:pt x="9452" y="5376"/>
                  <a:pt x="9493" y="5340"/>
                  <a:pt x="9525" y="5358"/>
                </a:cubicBezTo>
                <a:cubicBezTo>
                  <a:pt x="9591" y="5395"/>
                  <a:pt x="9623" y="5394"/>
                  <a:pt x="9699" y="5383"/>
                </a:cubicBezTo>
                <a:cubicBezTo>
                  <a:pt x="9727" y="5383"/>
                  <a:pt x="9737" y="5380"/>
                  <a:pt x="9748" y="5358"/>
                </a:cubicBezTo>
              </a:path>
              <a:path w="5334" h="2110">
                <a:moveTo>
                  <a:pt x="9971" y="4936"/>
                </a:moveTo>
                <a:cubicBezTo>
                  <a:pt x="9937" y="4901"/>
                  <a:pt x="9963" y="5020"/>
                  <a:pt x="9971" y="5085"/>
                </a:cubicBezTo>
                <a:cubicBezTo>
                  <a:pt x="9983" y="5180"/>
                  <a:pt x="9996" y="5262"/>
                  <a:pt x="9996" y="5358"/>
                </a:cubicBezTo>
              </a:path>
              <a:path w="5334" h="2110">
                <a:moveTo>
                  <a:pt x="9351" y="5631"/>
                </a:moveTo>
                <a:cubicBezTo>
                  <a:pt x="9293" y="5631"/>
                  <a:pt x="9417" y="5611"/>
                  <a:pt x="9475" y="5606"/>
                </a:cubicBezTo>
                <a:cubicBezTo>
                  <a:pt x="9616" y="5595"/>
                  <a:pt x="9758" y="5593"/>
                  <a:pt x="9897" y="5581"/>
                </a:cubicBezTo>
                <a:cubicBezTo>
                  <a:pt x="10003" y="5572"/>
                  <a:pt x="10114" y="5581"/>
                  <a:pt x="10220" y="5581"/>
                </a:cubicBezTo>
              </a:path>
              <a:path w="5334" h="2110">
                <a:moveTo>
                  <a:pt x="9500" y="5904"/>
                </a:moveTo>
                <a:cubicBezTo>
                  <a:pt x="9533" y="5871"/>
                  <a:pt x="9567" y="5850"/>
                  <a:pt x="9599" y="5829"/>
                </a:cubicBezTo>
                <a:cubicBezTo>
                  <a:pt x="9659" y="5788"/>
                  <a:pt x="9689" y="5814"/>
                  <a:pt x="9723" y="5829"/>
                </a:cubicBezTo>
                <a:cubicBezTo>
                  <a:pt x="9778" y="5853"/>
                  <a:pt x="9728" y="5885"/>
                  <a:pt x="9723" y="5904"/>
                </a:cubicBezTo>
                <a:cubicBezTo>
                  <a:pt x="9716" y="5931"/>
                  <a:pt x="9699" y="6006"/>
                  <a:pt x="9674" y="6028"/>
                </a:cubicBezTo>
                <a:cubicBezTo>
                  <a:pt x="9618" y="6078"/>
                  <a:pt x="9575" y="6120"/>
                  <a:pt x="9550" y="6201"/>
                </a:cubicBezTo>
                <a:cubicBezTo>
                  <a:pt x="9539" y="6236"/>
                  <a:pt x="9535" y="6269"/>
                  <a:pt x="9525" y="6300"/>
                </a:cubicBezTo>
                <a:cubicBezTo>
                  <a:pt x="9525" y="6325"/>
                  <a:pt x="9525" y="6333"/>
                  <a:pt x="9500" y="6325"/>
                </a:cubicBezTo>
                <a:cubicBezTo>
                  <a:pt x="9531" y="6272"/>
                  <a:pt x="9572" y="6216"/>
                  <a:pt x="9649" y="6226"/>
                </a:cubicBezTo>
                <a:cubicBezTo>
                  <a:pt x="9699" y="6233"/>
                  <a:pt x="9725" y="6276"/>
                  <a:pt x="9798" y="6276"/>
                </a:cubicBezTo>
                <a:cubicBezTo>
                  <a:pt x="9823" y="6276"/>
                  <a:pt x="9831" y="6276"/>
                  <a:pt x="9823" y="6251"/>
                </a:cubicBezTo>
              </a:path>
              <a:path w="5334" h="2110">
                <a:moveTo>
                  <a:pt x="10244" y="5854"/>
                </a:moveTo>
                <a:cubicBezTo>
                  <a:pt x="10182" y="5823"/>
                  <a:pt x="10119" y="5784"/>
                  <a:pt x="10046" y="5804"/>
                </a:cubicBezTo>
                <a:cubicBezTo>
                  <a:pt x="9974" y="5824"/>
                  <a:pt x="9996" y="5867"/>
                  <a:pt x="9996" y="5928"/>
                </a:cubicBezTo>
                <a:cubicBezTo>
                  <a:pt x="9996" y="5998"/>
                  <a:pt x="10104" y="6024"/>
                  <a:pt x="10145" y="6077"/>
                </a:cubicBezTo>
                <a:cubicBezTo>
                  <a:pt x="10171" y="6111"/>
                  <a:pt x="10210" y="6163"/>
                  <a:pt x="10220" y="6201"/>
                </a:cubicBezTo>
                <a:cubicBezTo>
                  <a:pt x="10160" y="6238"/>
                  <a:pt x="10101" y="6307"/>
                  <a:pt x="10021" y="6276"/>
                </a:cubicBezTo>
                <a:cubicBezTo>
                  <a:pt x="9989" y="6264"/>
                  <a:pt x="9952" y="6186"/>
                  <a:pt x="9971" y="6152"/>
                </a:cubicBezTo>
                <a:cubicBezTo>
                  <a:pt x="10007" y="6088"/>
                  <a:pt x="10092" y="6069"/>
                  <a:pt x="10145" y="6028"/>
                </a:cubicBezTo>
                <a:cubicBezTo>
                  <a:pt x="10197" y="5987"/>
                  <a:pt x="10238" y="5919"/>
                  <a:pt x="10244" y="5854"/>
                </a:cubicBezTo>
                <a:cubicBezTo>
                  <a:pt x="10244" y="5846"/>
                  <a:pt x="10244" y="5837"/>
                  <a:pt x="10244" y="5829"/>
                </a:cubicBezTo>
              </a:path>
              <a:path w="5334" h="2110">
                <a:moveTo>
                  <a:pt x="10244" y="5184"/>
                </a:moveTo>
                <a:cubicBezTo>
                  <a:pt x="10244" y="5176"/>
                  <a:pt x="10244" y="5167"/>
                  <a:pt x="10244" y="5159"/>
                </a:cubicBezTo>
                <a:cubicBezTo>
                  <a:pt x="10297" y="5149"/>
                  <a:pt x="10337" y="5135"/>
                  <a:pt x="10393" y="5135"/>
                </a:cubicBezTo>
                <a:cubicBezTo>
                  <a:pt x="10401" y="5135"/>
                  <a:pt x="10410" y="5135"/>
                  <a:pt x="10418" y="5135"/>
                </a:cubicBezTo>
              </a:path>
              <a:path w="5334" h="2110">
                <a:moveTo>
                  <a:pt x="10344" y="4986"/>
                </a:moveTo>
                <a:lnTo>
                  <a:pt x="10344" y="4986"/>
                </a:lnTo>
              </a:path>
              <a:path w="5334" h="2110">
                <a:moveTo>
                  <a:pt x="10294" y="5283"/>
                </a:moveTo>
                <a:lnTo>
                  <a:pt x="10294" y="5283"/>
                </a:lnTo>
              </a:path>
              <a:path w="5334" h="2110">
                <a:moveTo>
                  <a:pt x="10542" y="5085"/>
                </a:moveTo>
                <a:cubicBezTo>
                  <a:pt x="10598" y="5051"/>
                  <a:pt x="10669" y="5045"/>
                  <a:pt x="10740" y="5035"/>
                </a:cubicBezTo>
                <a:cubicBezTo>
                  <a:pt x="10740" y="5128"/>
                  <a:pt x="10721" y="5216"/>
                  <a:pt x="10716" y="5308"/>
                </a:cubicBezTo>
                <a:cubicBezTo>
                  <a:pt x="10716" y="5333"/>
                  <a:pt x="10716" y="5341"/>
                  <a:pt x="10691" y="5333"/>
                </a:cubicBezTo>
              </a:path>
              <a:path w="5334" h="2110">
                <a:moveTo>
                  <a:pt x="10939" y="5581"/>
                </a:moveTo>
                <a:cubicBezTo>
                  <a:pt x="11023" y="5569"/>
                  <a:pt x="11094" y="5533"/>
                  <a:pt x="11162" y="5556"/>
                </a:cubicBezTo>
              </a:path>
              <a:path w="5334" h="2110">
                <a:moveTo>
                  <a:pt x="11063" y="5680"/>
                </a:moveTo>
                <a:cubicBezTo>
                  <a:pt x="11141" y="5673"/>
                  <a:pt x="11190" y="5661"/>
                  <a:pt x="11261" y="5631"/>
                </a:cubicBezTo>
              </a:path>
              <a:path w="5334" h="2110">
                <a:moveTo>
                  <a:pt x="11584" y="4986"/>
                </a:moveTo>
                <a:cubicBezTo>
                  <a:pt x="11630" y="4924"/>
                  <a:pt x="11744" y="4903"/>
                  <a:pt x="11832" y="4887"/>
                </a:cubicBezTo>
                <a:cubicBezTo>
                  <a:pt x="11832" y="5011"/>
                  <a:pt x="11828" y="5038"/>
                  <a:pt x="11733" y="5110"/>
                </a:cubicBezTo>
                <a:cubicBezTo>
                  <a:pt x="11844" y="5110"/>
                  <a:pt x="11875" y="5137"/>
                  <a:pt x="11956" y="5209"/>
                </a:cubicBezTo>
                <a:cubicBezTo>
                  <a:pt x="11852" y="5351"/>
                  <a:pt x="11762" y="5333"/>
                  <a:pt x="11584" y="5333"/>
                </a:cubicBezTo>
              </a:path>
              <a:path w="5334" h="2110">
                <a:moveTo>
                  <a:pt x="10244" y="6102"/>
                </a:moveTo>
                <a:cubicBezTo>
                  <a:pt x="10304" y="6066"/>
                  <a:pt x="10369" y="6077"/>
                  <a:pt x="10443" y="6077"/>
                </a:cubicBezTo>
                <a:cubicBezTo>
                  <a:pt x="10451" y="6077"/>
                  <a:pt x="10460" y="6077"/>
                  <a:pt x="10468" y="6077"/>
                </a:cubicBezTo>
              </a:path>
              <a:path w="5334" h="2110">
                <a:moveTo>
                  <a:pt x="10468" y="5953"/>
                </a:moveTo>
                <a:cubicBezTo>
                  <a:pt x="10468" y="5961"/>
                  <a:pt x="10468" y="5970"/>
                  <a:pt x="10468" y="5978"/>
                </a:cubicBezTo>
              </a:path>
              <a:path w="5334" h="2110">
                <a:moveTo>
                  <a:pt x="10443" y="6226"/>
                </a:moveTo>
                <a:lnTo>
                  <a:pt x="10443" y="6226"/>
                </a:lnTo>
                <a:lnTo>
                  <a:pt x="10443" y="6226"/>
                </a:lnTo>
              </a:path>
              <a:path w="5334" h="2110">
                <a:moveTo>
                  <a:pt x="10443" y="6226"/>
                </a:moveTo>
                <a:lnTo>
                  <a:pt x="10443" y="6226"/>
                </a:lnTo>
              </a:path>
              <a:path w="5334" h="2110">
                <a:moveTo>
                  <a:pt x="10641" y="6052"/>
                </a:moveTo>
                <a:cubicBezTo>
                  <a:pt x="10682" y="6036"/>
                  <a:pt x="10823" y="5962"/>
                  <a:pt x="10864" y="6003"/>
                </a:cubicBezTo>
                <a:cubicBezTo>
                  <a:pt x="10920" y="6059"/>
                  <a:pt x="10853" y="6211"/>
                  <a:pt x="10840" y="6276"/>
                </a:cubicBezTo>
                <a:cubicBezTo>
                  <a:pt x="10840" y="6284"/>
                  <a:pt x="10840" y="6292"/>
                  <a:pt x="10840" y="6300"/>
                </a:cubicBezTo>
              </a:path>
              <a:path w="5334" h="2110">
                <a:moveTo>
                  <a:pt x="11658" y="5556"/>
                </a:moveTo>
                <a:cubicBezTo>
                  <a:pt x="11707" y="5458"/>
                  <a:pt x="11979" y="5466"/>
                  <a:pt x="12080" y="5457"/>
                </a:cubicBezTo>
                <a:cubicBezTo>
                  <a:pt x="12292" y="5438"/>
                  <a:pt x="12067" y="5576"/>
                  <a:pt x="12005" y="5631"/>
                </a:cubicBezTo>
              </a:path>
              <a:path w="5334" h="2110">
                <a:moveTo>
                  <a:pt x="11708" y="5804"/>
                </a:moveTo>
                <a:cubicBezTo>
                  <a:pt x="11708" y="5742"/>
                  <a:pt x="11691" y="5944"/>
                  <a:pt x="11683" y="5978"/>
                </a:cubicBezTo>
                <a:cubicBezTo>
                  <a:pt x="11757" y="5978"/>
                  <a:pt x="11832" y="5978"/>
                  <a:pt x="11906" y="5978"/>
                </a:cubicBezTo>
              </a:path>
              <a:path w="5334" h="2110">
                <a:moveTo>
                  <a:pt x="11906" y="5779"/>
                </a:moveTo>
                <a:cubicBezTo>
                  <a:pt x="11906" y="5861"/>
                  <a:pt x="11950" y="6154"/>
                  <a:pt x="11881" y="6176"/>
                </a:cubicBezTo>
              </a:path>
              <a:path w="5334" h="2110">
                <a:moveTo>
                  <a:pt x="11385" y="6201"/>
                </a:moveTo>
                <a:cubicBezTo>
                  <a:pt x="11412" y="6224"/>
                  <a:pt x="11452" y="6274"/>
                  <a:pt x="11509" y="6300"/>
                </a:cubicBezTo>
                <a:cubicBezTo>
                  <a:pt x="11612" y="6347"/>
                  <a:pt x="11728" y="6330"/>
                  <a:pt x="11832" y="6300"/>
                </a:cubicBezTo>
                <a:cubicBezTo>
                  <a:pt x="11944" y="6267"/>
                  <a:pt x="12036" y="6211"/>
                  <a:pt x="12129" y="6152"/>
                </a:cubicBezTo>
                <a:cubicBezTo>
                  <a:pt x="12230" y="6089"/>
                  <a:pt x="12279" y="6019"/>
                  <a:pt x="12328" y="5928"/>
                </a:cubicBezTo>
                <a:cubicBezTo>
                  <a:pt x="12389" y="5817"/>
                  <a:pt x="12407" y="5728"/>
                  <a:pt x="12427" y="5606"/>
                </a:cubicBezTo>
                <a:cubicBezTo>
                  <a:pt x="12445" y="5498"/>
                  <a:pt x="12493" y="5344"/>
                  <a:pt x="12477" y="5234"/>
                </a:cubicBezTo>
                <a:cubicBezTo>
                  <a:pt x="12461" y="5125"/>
                  <a:pt x="12444" y="5015"/>
                  <a:pt x="12402" y="4911"/>
                </a:cubicBezTo>
                <a:cubicBezTo>
                  <a:pt x="12367" y="4826"/>
                  <a:pt x="12301" y="4722"/>
                  <a:pt x="12229" y="4663"/>
                </a:cubicBezTo>
                <a:cubicBezTo>
                  <a:pt x="12137" y="4588"/>
                  <a:pt x="12040" y="4493"/>
                  <a:pt x="11931" y="4440"/>
                </a:cubicBezTo>
                <a:cubicBezTo>
                  <a:pt x="11842" y="4397"/>
                  <a:pt x="11731" y="4375"/>
                  <a:pt x="11633" y="4390"/>
                </a:cubicBezTo>
                <a:cubicBezTo>
                  <a:pt x="11523" y="4407"/>
                  <a:pt x="11479" y="4449"/>
                  <a:pt x="11410" y="4539"/>
                </a:cubicBezTo>
                <a:cubicBezTo>
                  <a:pt x="11330" y="4642"/>
                  <a:pt x="11273" y="4807"/>
                  <a:pt x="11237" y="4936"/>
                </a:cubicBezTo>
                <a:cubicBezTo>
                  <a:pt x="11215" y="5015"/>
                  <a:pt x="11231" y="5106"/>
                  <a:pt x="11212" y="5184"/>
                </a:cubicBezTo>
                <a:cubicBezTo>
                  <a:pt x="11196" y="5251"/>
                  <a:pt x="11180" y="5317"/>
                  <a:pt x="11162" y="5383"/>
                </a:cubicBezTo>
                <a:cubicBezTo>
                  <a:pt x="11146" y="5440"/>
                  <a:pt x="11140" y="5495"/>
                  <a:pt x="11137" y="5556"/>
                </a:cubicBezTo>
                <a:cubicBezTo>
                  <a:pt x="11133" y="5631"/>
                  <a:pt x="11153" y="5687"/>
                  <a:pt x="11162" y="5755"/>
                </a:cubicBezTo>
                <a:cubicBezTo>
                  <a:pt x="11170" y="5820"/>
                  <a:pt x="11179" y="5898"/>
                  <a:pt x="11187" y="5953"/>
                </a:cubicBezTo>
                <a:cubicBezTo>
                  <a:pt x="11195" y="6006"/>
                  <a:pt x="11193" y="6023"/>
                  <a:pt x="11212" y="6077"/>
                </a:cubicBezTo>
                <a:cubicBezTo>
                  <a:pt x="11231" y="6130"/>
                  <a:pt x="11242" y="6184"/>
                  <a:pt x="11286" y="6226"/>
                </a:cubicBezTo>
                <a:cubicBezTo>
                  <a:pt x="11338" y="6276"/>
                  <a:pt x="11377" y="6279"/>
                  <a:pt x="11435" y="6300"/>
                </a:cubicBezTo>
                <a:cubicBezTo>
                  <a:pt x="11458" y="6323"/>
                  <a:pt x="11462" y="6331"/>
                  <a:pt x="11485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2276640"/>
            <a:ext cx="1768680" cy="1081080"/>
          </a:xfrm>
          <a:custGeom>
            <a:avLst/>
            <a:gdLst/>
            <a:ahLst/>
            <a:rect l="l" t="t" r="r" b="b"/>
            <a:pathLst>
              <a:path w="4912" h="3003">
                <a:moveTo>
                  <a:pt x="7045" y="8161"/>
                </a:moveTo>
                <a:cubicBezTo>
                  <a:pt x="7045" y="8310"/>
                  <a:pt x="7045" y="8458"/>
                  <a:pt x="7045" y="8607"/>
                </a:cubicBezTo>
              </a:path>
              <a:path w="4912" h="3003">
                <a:moveTo>
                  <a:pt x="6772" y="8756"/>
                </a:moveTo>
                <a:cubicBezTo>
                  <a:pt x="6895" y="8698"/>
                  <a:pt x="7007" y="8639"/>
                  <a:pt x="7144" y="8632"/>
                </a:cubicBezTo>
                <a:cubicBezTo>
                  <a:pt x="7177" y="8630"/>
                  <a:pt x="7210" y="8632"/>
                  <a:pt x="7243" y="8632"/>
                </a:cubicBezTo>
              </a:path>
              <a:path w="4912" h="3003">
                <a:moveTo>
                  <a:pt x="6921" y="8930"/>
                </a:moveTo>
                <a:cubicBezTo>
                  <a:pt x="6908" y="9008"/>
                  <a:pt x="6896" y="9071"/>
                  <a:pt x="6896" y="9153"/>
                </a:cubicBezTo>
                <a:cubicBezTo>
                  <a:pt x="6948" y="9149"/>
                  <a:pt x="7180" y="9152"/>
                  <a:pt x="7169" y="9079"/>
                </a:cubicBezTo>
                <a:cubicBezTo>
                  <a:pt x="7161" y="9062"/>
                  <a:pt x="7152" y="9046"/>
                  <a:pt x="7144" y="9029"/>
                </a:cubicBezTo>
              </a:path>
              <a:path w="4912" h="3003">
                <a:moveTo>
                  <a:pt x="7045" y="8880"/>
                </a:moveTo>
                <a:cubicBezTo>
                  <a:pt x="7085" y="9023"/>
                  <a:pt x="7062" y="9164"/>
                  <a:pt x="7094" y="9302"/>
                </a:cubicBezTo>
                <a:cubicBezTo>
                  <a:pt x="7102" y="9310"/>
                  <a:pt x="7111" y="9319"/>
                  <a:pt x="7119" y="9327"/>
                </a:cubicBezTo>
              </a:path>
              <a:path w="4912" h="3003">
                <a:moveTo>
                  <a:pt x="7417" y="8632"/>
                </a:moveTo>
                <a:cubicBezTo>
                  <a:pt x="7491" y="8682"/>
                  <a:pt x="7555" y="8779"/>
                  <a:pt x="7615" y="8855"/>
                </a:cubicBezTo>
                <a:cubicBezTo>
                  <a:pt x="7638" y="8878"/>
                  <a:pt x="7646" y="8882"/>
                  <a:pt x="7640" y="8905"/>
                </a:cubicBezTo>
              </a:path>
              <a:path w="4912" h="3003">
                <a:moveTo>
                  <a:pt x="7640" y="8533"/>
                </a:moveTo>
                <a:cubicBezTo>
                  <a:pt x="7566" y="8672"/>
                  <a:pt x="7505" y="8824"/>
                  <a:pt x="7466" y="8979"/>
                </a:cubicBezTo>
                <a:cubicBezTo>
                  <a:pt x="7466" y="9030"/>
                  <a:pt x="7472" y="9013"/>
                  <a:pt x="7491" y="8905"/>
                </a:cubicBezTo>
              </a:path>
              <a:path w="4912" h="3003">
                <a:moveTo>
                  <a:pt x="7813" y="8285"/>
                </a:moveTo>
                <a:cubicBezTo>
                  <a:pt x="7831" y="8232"/>
                  <a:pt x="7874" y="8217"/>
                  <a:pt x="7938" y="8186"/>
                </a:cubicBezTo>
                <a:cubicBezTo>
                  <a:pt x="7948" y="8313"/>
                  <a:pt x="7932" y="8307"/>
                  <a:pt x="7838" y="8409"/>
                </a:cubicBezTo>
                <a:cubicBezTo>
                  <a:pt x="7905" y="8369"/>
                  <a:pt x="8007" y="8372"/>
                  <a:pt x="8012" y="8483"/>
                </a:cubicBezTo>
                <a:cubicBezTo>
                  <a:pt x="8015" y="8552"/>
                  <a:pt x="7855" y="8605"/>
                  <a:pt x="7813" y="8582"/>
                </a:cubicBezTo>
                <a:cubicBezTo>
                  <a:pt x="7813" y="8574"/>
                  <a:pt x="7813" y="8566"/>
                  <a:pt x="7813" y="8558"/>
                </a:cubicBezTo>
              </a:path>
              <a:path w="4912" h="3003">
                <a:moveTo>
                  <a:pt x="7764" y="8806"/>
                </a:moveTo>
                <a:cubicBezTo>
                  <a:pt x="7886" y="8777"/>
                  <a:pt x="8116" y="8653"/>
                  <a:pt x="8235" y="8682"/>
                </a:cubicBezTo>
                <a:cubicBezTo>
                  <a:pt x="8235" y="8690"/>
                  <a:pt x="8235" y="8698"/>
                  <a:pt x="8235" y="8706"/>
                </a:cubicBezTo>
              </a:path>
              <a:path w="4912" h="3003">
                <a:moveTo>
                  <a:pt x="7987" y="8930"/>
                </a:moveTo>
                <a:cubicBezTo>
                  <a:pt x="7987" y="9023"/>
                  <a:pt x="7968" y="9111"/>
                  <a:pt x="7962" y="9203"/>
                </a:cubicBezTo>
                <a:cubicBezTo>
                  <a:pt x="7962" y="9231"/>
                  <a:pt x="7965" y="9241"/>
                  <a:pt x="7987" y="9252"/>
                </a:cubicBezTo>
              </a:path>
              <a:path w="4912" h="3003">
                <a:moveTo>
                  <a:pt x="8582" y="8682"/>
                </a:moveTo>
                <a:cubicBezTo>
                  <a:pt x="8610" y="8677"/>
                  <a:pt x="8744" y="8605"/>
                  <a:pt x="8756" y="8607"/>
                </a:cubicBezTo>
                <a:cubicBezTo>
                  <a:pt x="8756" y="8615"/>
                  <a:pt x="8756" y="8624"/>
                  <a:pt x="8756" y="8632"/>
                </a:cubicBezTo>
              </a:path>
              <a:path w="4912" h="3003">
                <a:moveTo>
                  <a:pt x="8533" y="8830"/>
                </a:moveTo>
                <a:cubicBezTo>
                  <a:pt x="8598" y="8813"/>
                  <a:pt x="8666" y="8792"/>
                  <a:pt x="8731" y="8781"/>
                </a:cubicBezTo>
              </a:path>
              <a:path w="4912" h="3003">
                <a:moveTo>
                  <a:pt x="9128" y="8037"/>
                </a:moveTo>
                <a:cubicBezTo>
                  <a:pt x="9167" y="8024"/>
                  <a:pt x="9191" y="7967"/>
                  <a:pt x="9252" y="7938"/>
                </a:cubicBezTo>
                <a:cubicBezTo>
                  <a:pt x="9277" y="7930"/>
                  <a:pt x="9302" y="7921"/>
                  <a:pt x="9327" y="7913"/>
                </a:cubicBezTo>
                <a:cubicBezTo>
                  <a:pt x="9389" y="8063"/>
                  <a:pt x="9308" y="8058"/>
                  <a:pt x="9227" y="8161"/>
                </a:cubicBezTo>
                <a:cubicBezTo>
                  <a:pt x="9227" y="8169"/>
                  <a:pt x="9227" y="8178"/>
                  <a:pt x="9227" y="8186"/>
                </a:cubicBezTo>
                <a:cubicBezTo>
                  <a:pt x="9248" y="8122"/>
                  <a:pt x="9343" y="8168"/>
                  <a:pt x="9401" y="8186"/>
                </a:cubicBezTo>
                <a:cubicBezTo>
                  <a:pt x="9379" y="8351"/>
                  <a:pt x="9347" y="8371"/>
                  <a:pt x="9178" y="8409"/>
                </a:cubicBezTo>
                <a:cubicBezTo>
                  <a:pt x="9153" y="8409"/>
                  <a:pt x="9145" y="8409"/>
                  <a:pt x="9178" y="8409"/>
                </a:cubicBezTo>
              </a:path>
              <a:path w="4912" h="3003">
                <a:moveTo>
                  <a:pt x="9029" y="8582"/>
                </a:moveTo>
                <a:cubicBezTo>
                  <a:pt x="9233" y="8512"/>
                  <a:pt x="9444" y="8473"/>
                  <a:pt x="9649" y="8409"/>
                </a:cubicBezTo>
                <a:cubicBezTo>
                  <a:pt x="9752" y="8377"/>
                  <a:pt x="9683" y="8413"/>
                  <a:pt x="9624" y="8458"/>
                </a:cubicBezTo>
              </a:path>
              <a:path w="4912" h="3003">
                <a:moveTo>
                  <a:pt x="9277" y="8781"/>
                </a:moveTo>
                <a:cubicBezTo>
                  <a:pt x="9188" y="8824"/>
                  <a:pt x="9129" y="8956"/>
                  <a:pt x="9227" y="8954"/>
                </a:cubicBezTo>
                <a:cubicBezTo>
                  <a:pt x="9345" y="8935"/>
                  <a:pt x="9366" y="8941"/>
                  <a:pt x="9426" y="8905"/>
                </a:cubicBezTo>
              </a:path>
              <a:path w="4912" h="3003">
                <a:moveTo>
                  <a:pt x="9426" y="8657"/>
                </a:moveTo>
                <a:cubicBezTo>
                  <a:pt x="9443" y="8812"/>
                  <a:pt x="9442" y="8927"/>
                  <a:pt x="9426" y="9079"/>
                </a:cubicBezTo>
                <a:cubicBezTo>
                  <a:pt x="9426" y="9120"/>
                  <a:pt x="9426" y="9144"/>
                  <a:pt x="9426" y="9103"/>
                </a:cubicBezTo>
              </a:path>
              <a:path w="4912" h="3003">
                <a:moveTo>
                  <a:pt x="8806" y="8954"/>
                </a:moveTo>
                <a:cubicBezTo>
                  <a:pt x="8840" y="9038"/>
                  <a:pt x="8871" y="9119"/>
                  <a:pt x="8954" y="9178"/>
                </a:cubicBezTo>
                <a:cubicBezTo>
                  <a:pt x="9107" y="9286"/>
                  <a:pt x="9315" y="9254"/>
                  <a:pt x="9475" y="9178"/>
                </a:cubicBezTo>
                <a:cubicBezTo>
                  <a:pt x="9774" y="9037"/>
                  <a:pt x="9911" y="8724"/>
                  <a:pt x="10021" y="8434"/>
                </a:cubicBezTo>
                <a:cubicBezTo>
                  <a:pt x="10109" y="8203"/>
                  <a:pt x="10027" y="8044"/>
                  <a:pt x="9872" y="7863"/>
                </a:cubicBezTo>
                <a:cubicBezTo>
                  <a:pt x="9685" y="7645"/>
                  <a:pt x="9486" y="7568"/>
                  <a:pt x="9203" y="7615"/>
                </a:cubicBezTo>
                <a:cubicBezTo>
                  <a:pt x="8920" y="7662"/>
                  <a:pt x="8715" y="7872"/>
                  <a:pt x="8632" y="8136"/>
                </a:cubicBezTo>
                <a:cubicBezTo>
                  <a:pt x="8531" y="8460"/>
                  <a:pt x="8612" y="8797"/>
                  <a:pt x="8731" y="9103"/>
                </a:cubicBezTo>
                <a:cubicBezTo>
                  <a:pt x="8787" y="9246"/>
                  <a:pt x="8818" y="9215"/>
                  <a:pt x="8930" y="9153"/>
                </a:cubicBezTo>
              </a:path>
              <a:path w="4912" h="3003">
                <a:moveTo>
                  <a:pt x="9947" y="7938"/>
                </a:moveTo>
                <a:cubicBezTo>
                  <a:pt x="10008" y="7933"/>
                  <a:pt x="10045" y="7928"/>
                  <a:pt x="10096" y="7913"/>
                </a:cubicBezTo>
                <a:cubicBezTo>
                  <a:pt x="10228" y="7873"/>
                  <a:pt x="10331" y="7820"/>
                  <a:pt x="10443" y="7739"/>
                </a:cubicBezTo>
                <a:cubicBezTo>
                  <a:pt x="10561" y="7654"/>
                  <a:pt x="10662" y="7556"/>
                  <a:pt x="10765" y="7466"/>
                </a:cubicBezTo>
                <a:cubicBezTo>
                  <a:pt x="10860" y="7383"/>
                  <a:pt x="10946" y="7304"/>
                  <a:pt x="11038" y="7218"/>
                </a:cubicBezTo>
                <a:cubicBezTo>
                  <a:pt x="11119" y="7142"/>
                  <a:pt x="11170" y="7042"/>
                  <a:pt x="11237" y="6970"/>
                </a:cubicBezTo>
                <a:cubicBezTo>
                  <a:pt x="11297" y="6906"/>
                  <a:pt x="11337" y="6851"/>
                  <a:pt x="11385" y="6772"/>
                </a:cubicBezTo>
                <a:cubicBezTo>
                  <a:pt x="11427" y="6703"/>
                  <a:pt x="11428" y="6647"/>
                  <a:pt x="11460" y="6573"/>
                </a:cubicBezTo>
                <a:cubicBezTo>
                  <a:pt x="11474" y="6539"/>
                  <a:pt x="11499" y="6533"/>
                  <a:pt x="11509" y="6474"/>
                </a:cubicBezTo>
                <a:cubicBezTo>
                  <a:pt x="11518" y="6419"/>
                  <a:pt x="11521" y="6377"/>
                  <a:pt x="11534" y="6325"/>
                </a:cubicBezTo>
                <a:cubicBezTo>
                  <a:pt x="11472" y="6365"/>
                  <a:pt x="11446" y="6373"/>
                  <a:pt x="11385" y="6449"/>
                </a:cubicBezTo>
                <a:cubicBezTo>
                  <a:pt x="11377" y="6457"/>
                  <a:pt x="11369" y="6466"/>
                  <a:pt x="11361" y="6474"/>
                </a:cubicBezTo>
                <a:cubicBezTo>
                  <a:pt x="11401" y="6442"/>
                  <a:pt x="11495" y="6339"/>
                  <a:pt x="11559" y="6325"/>
                </a:cubicBezTo>
                <a:cubicBezTo>
                  <a:pt x="11694" y="6295"/>
                  <a:pt x="11642" y="6443"/>
                  <a:pt x="11658" y="6524"/>
                </a:cubicBezTo>
                <a:cubicBezTo>
                  <a:pt x="11677" y="6581"/>
                  <a:pt x="11686" y="6588"/>
                  <a:pt x="11683" y="6623"/>
                </a:cubicBezTo>
              </a:path>
              <a:path w="4912" h="3003">
                <a:moveTo>
                  <a:pt x="10096" y="7813"/>
                </a:moveTo>
                <a:cubicBezTo>
                  <a:pt x="10096" y="7778"/>
                  <a:pt x="10025" y="7928"/>
                  <a:pt x="9996" y="7962"/>
                </a:cubicBezTo>
                <a:cubicBezTo>
                  <a:pt x="9941" y="8018"/>
                  <a:pt x="9916" y="8016"/>
                  <a:pt x="9922" y="8062"/>
                </a:cubicBezTo>
                <a:cubicBezTo>
                  <a:pt x="9983" y="8042"/>
                  <a:pt x="10029" y="8091"/>
                  <a:pt x="10120" y="8111"/>
                </a:cubicBezTo>
                <a:cubicBezTo>
                  <a:pt x="10187" y="8126"/>
                  <a:pt x="10176" y="8121"/>
                  <a:pt x="10220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4080" y="241200"/>
            <a:ext cx="1428840" cy="517680"/>
          </a:xfrm>
          <a:custGeom>
            <a:avLst/>
            <a:gdLst/>
            <a:ahLst/>
            <a:rect l="l" t="t" r="r" b="b"/>
            <a:pathLst>
              <a:path w="3970" h="1439">
                <a:moveTo>
                  <a:pt x="9426" y="695"/>
                </a:moveTo>
                <a:cubicBezTo>
                  <a:pt x="9501" y="544"/>
                  <a:pt x="9451" y="972"/>
                  <a:pt x="9451" y="1141"/>
                </a:cubicBezTo>
                <a:cubicBezTo>
                  <a:pt x="9451" y="1224"/>
                  <a:pt x="9344" y="1352"/>
                  <a:pt x="9426" y="1364"/>
                </a:cubicBezTo>
                <a:cubicBezTo>
                  <a:pt x="9442" y="1364"/>
                  <a:pt x="9459" y="1364"/>
                  <a:pt x="9475" y="1364"/>
                </a:cubicBezTo>
              </a:path>
              <a:path w="3970" h="1439">
                <a:moveTo>
                  <a:pt x="9674" y="1315"/>
                </a:moveTo>
                <a:lnTo>
                  <a:pt x="9674" y="1315"/>
                </a:lnTo>
                <a:lnTo>
                  <a:pt x="9674" y="1315"/>
                </a:lnTo>
                <a:lnTo>
                  <a:pt x="9674" y="1315"/>
                </a:lnTo>
              </a:path>
              <a:path w="3970" h="1439">
                <a:moveTo>
                  <a:pt x="9674" y="1315"/>
                </a:moveTo>
                <a:lnTo>
                  <a:pt x="9674" y="1315"/>
                </a:lnTo>
              </a:path>
              <a:path w="3970" h="1439">
                <a:moveTo>
                  <a:pt x="10294" y="744"/>
                </a:moveTo>
                <a:cubicBezTo>
                  <a:pt x="10111" y="777"/>
                  <a:pt x="10051" y="828"/>
                  <a:pt x="9947" y="992"/>
                </a:cubicBezTo>
                <a:cubicBezTo>
                  <a:pt x="10141" y="1079"/>
                  <a:pt x="10332" y="1103"/>
                  <a:pt x="10492" y="1240"/>
                </a:cubicBezTo>
                <a:cubicBezTo>
                  <a:pt x="10333" y="1366"/>
                  <a:pt x="10233" y="1467"/>
                  <a:pt x="10046" y="1364"/>
                </a:cubicBezTo>
              </a:path>
              <a:path w="3970" h="1439">
                <a:moveTo>
                  <a:pt x="10592" y="1240"/>
                </a:moveTo>
                <a:cubicBezTo>
                  <a:pt x="10608" y="1295"/>
                  <a:pt x="10611" y="1394"/>
                  <a:pt x="10641" y="1364"/>
                </a:cubicBezTo>
              </a:path>
              <a:path w="3970" h="1439">
                <a:moveTo>
                  <a:pt x="10592" y="918"/>
                </a:moveTo>
                <a:cubicBezTo>
                  <a:pt x="10592" y="926"/>
                  <a:pt x="10592" y="935"/>
                  <a:pt x="10592" y="943"/>
                </a:cubicBezTo>
              </a:path>
              <a:path w="3970" h="1439">
                <a:moveTo>
                  <a:pt x="10592" y="943"/>
                </a:moveTo>
                <a:lnTo>
                  <a:pt x="10592" y="943"/>
                </a:lnTo>
              </a:path>
              <a:path w="3970" h="1439">
                <a:moveTo>
                  <a:pt x="10889" y="1265"/>
                </a:moveTo>
                <a:cubicBezTo>
                  <a:pt x="10887" y="1276"/>
                  <a:pt x="10864" y="1504"/>
                  <a:pt x="10864" y="1439"/>
                </a:cubicBezTo>
                <a:cubicBezTo>
                  <a:pt x="10870" y="1375"/>
                  <a:pt x="10861" y="1021"/>
                  <a:pt x="11038" y="1166"/>
                </a:cubicBezTo>
                <a:cubicBezTo>
                  <a:pt x="11098" y="1215"/>
                  <a:pt x="11163" y="1316"/>
                  <a:pt x="11187" y="1389"/>
                </a:cubicBezTo>
                <a:cubicBezTo>
                  <a:pt x="11187" y="1254"/>
                  <a:pt x="11201" y="1210"/>
                  <a:pt x="11286" y="1116"/>
                </a:cubicBezTo>
                <a:cubicBezTo>
                  <a:pt x="11431" y="1199"/>
                  <a:pt x="11469" y="1308"/>
                  <a:pt x="11509" y="1488"/>
                </a:cubicBezTo>
                <a:cubicBezTo>
                  <a:pt x="11509" y="1558"/>
                  <a:pt x="11537" y="1531"/>
                  <a:pt x="11609" y="1389"/>
                </a:cubicBezTo>
              </a:path>
              <a:path w="3970" h="1439">
                <a:moveTo>
                  <a:pt x="11757" y="1240"/>
                </a:moveTo>
                <a:cubicBezTo>
                  <a:pt x="11738" y="1432"/>
                  <a:pt x="11737" y="1595"/>
                  <a:pt x="11757" y="1786"/>
                </a:cubicBezTo>
                <a:cubicBezTo>
                  <a:pt x="11734" y="1665"/>
                  <a:pt x="11692" y="1535"/>
                  <a:pt x="11658" y="1414"/>
                </a:cubicBezTo>
                <a:cubicBezTo>
                  <a:pt x="11610" y="1241"/>
                  <a:pt x="11605" y="970"/>
                  <a:pt x="11881" y="1141"/>
                </a:cubicBezTo>
                <a:cubicBezTo>
                  <a:pt x="11999" y="1259"/>
                  <a:pt x="12039" y="1293"/>
                  <a:pt x="12030" y="1414"/>
                </a:cubicBezTo>
                <a:cubicBezTo>
                  <a:pt x="11811" y="1544"/>
                  <a:pt x="11644" y="1651"/>
                  <a:pt x="11658" y="1364"/>
                </a:cubicBezTo>
              </a:path>
              <a:path w="3970" h="1439">
                <a:moveTo>
                  <a:pt x="12254" y="893"/>
                </a:moveTo>
                <a:cubicBezTo>
                  <a:pt x="12278" y="1141"/>
                  <a:pt x="12059" y="1685"/>
                  <a:pt x="12303" y="1637"/>
                </a:cubicBezTo>
                <a:cubicBezTo>
                  <a:pt x="12320" y="1612"/>
                  <a:pt x="12336" y="1588"/>
                  <a:pt x="12353" y="1563"/>
                </a:cubicBezTo>
              </a:path>
              <a:path w="3970" h="1439">
                <a:moveTo>
                  <a:pt x="12502" y="1315"/>
                </a:moveTo>
                <a:cubicBezTo>
                  <a:pt x="12523" y="1416"/>
                  <a:pt x="12524" y="1501"/>
                  <a:pt x="12576" y="1513"/>
                </a:cubicBezTo>
              </a:path>
              <a:path w="3970" h="1439">
                <a:moveTo>
                  <a:pt x="12576" y="1513"/>
                </a:moveTo>
                <a:lnTo>
                  <a:pt x="12576" y="1513"/>
                </a:lnTo>
              </a:path>
              <a:path w="3970" h="1439">
                <a:moveTo>
                  <a:pt x="12477" y="992"/>
                </a:moveTo>
                <a:lnTo>
                  <a:pt x="12477" y="992"/>
                </a:lnTo>
              </a:path>
              <a:path w="3970" h="1439">
                <a:moveTo>
                  <a:pt x="12998" y="868"/>
                </a:moveTo>
                <a:cubicBezTo>
                  <a:pt x="12811" y="906"/>
                  <a:pt x="12738" y="1042"/>
                  <a:pt x="12774" y="1240"/>
                </a:cubicBezTo>
                <a:cubicBezTo>
                  <a:pt x="12780" y="1272"/>
                  <a:pt x="12898" y="1615"/>
                  <a:pt x="12898" y="1588"/>
                </a:cubicBezTo>
              </a:path>
              <a:path w="3970" h="1439">
                <a:moveTo>
                  <a:pt x="12576" y="1240"/>
                </a:moveTo>
                <a:cubicBezTo>
                  <a:pt x="12746" y="1295"/>
                  <a:pt x="13022" y="1177"/>
                  <a:pt x="13097" y="1339"/>
                </a:cubicBezTo>
                <a:cubicBezTo>
                  <a:pt x="13114" y="1376"/>
                  <a:pt x="13051" y="1535"/>
                  <a:pt x="13047" y="1588"/>
                </a:cubicBezTo>
                <a:cubicBezTo>
                  <a:pt x="13202" y="1587"/>
                  <a:pt x="13309" y="1549"/>
                  <a:pt x="13395" y="1389"/>
                </a:cubicBezTo>
                <a:cubicBezTo>
                  <a:pt x="13395" y="1381"/>
                  <a:pt x="13395" y="1372"/>
                  <a:pt x="13395" y="1364"/>
                </a:cubicBezTo>
                <a:cubicBezTo>
                  <a:pt x="13395" y="1619"/>
                  <a:pt x="13411" y="1868"/>
                  <a:pt x="13345" y="2108"/>
                </a:cubicBezTo>
                <a:cubicBezTo>
                  <a:pt x="13127" y="2072"/>
                  <a:pt x="13115" y="2071"/>
                  <a:pt x="12998" y="18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785880"/>
            <a:ext cx="215640" cy="339480"/>
          </a:xfrm>
          <a:custGeom>
            <a:avLst/>
            <a:gdLst/>
            <a:ahLst/>
            <a:rect l="l" t="t" r="r" b="b"/>
            <a:pathLst>
              <a:path w="597" h="943">
                <a:moveTo>
                  <a:pt x="9178" y="2381"/>
                </a:moveTo>
                <a:cubicBezTo>
                  <a:pt x="9122" y="2362"/>
                  <a:pt x="9195" y="2296"/>
                  <a:pt x="9227" y="2257"/>
                </a:cubicBezTo>
                <a:cubicBezTo>
                  <a:pt x="9308" y="2160"/>
                  <a:pt x="9405" y="2169"/>
                  <a:pt x="9500" y="2232"/>
                </a:cubicBezTo>
                <a:cubicBezTo>
                  <a:pt x="9636" y="2322"/>
                  <a:pt x="9552" y="2435"/>
                  <a:pt x="9475" y="2555"/>
                </a:cubicBezTo>
                <a:cubicBezTo>
                  <a:pt x="9363" y="2730"/>
                  <a:pt x="9230" y="2865"/>
                  <a:pt x="9128" y="3051"/>
                </a:cubicBezTo>
                <a:cubicBezTo>
                  <a:pt x="9108" y="3091"/>
                  <a:pt x="9099" y="3098"/>
                  <a:pt x="9103" y="3125"/>
                </a:cubicBezTo>
                <a:cubicBezTo>
                  <a:pt x="9113" y="3076"/>
                  <a:pt x="9199" y="2893"/>
                  <a:pt x="9252" y="2902"/>
                </a:cubicBezTo>
                <a:cubicBezTo>
                  <a:pt x="9440" y="2935"/>
                  <a:pt x="9471" y="3103"/>
                  <a:pt x="9699" y="2952"/>
                </a:cubicBezTo>
                <a:cubicBezTo>
                  <a:pt x="9699" y="2927"/>
                  <a:pt x="9699" y="2919"/>
                  <a:pt x="9699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43200" y="103500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0120" y="2902"/>
                </a:moveTo>
                <a:cubicBezTo>
                  <a:pt x="10120" y="2894"/>
                  <a:pt x="10120" y="2885"/>
                  <a:pt x="10120" y="2877"/>
                </a:cubicBezTo>
              </a:path>
              <a:path w="1" h="26">
                <a:moveTo>
                  <a:pt x="10120" y="2877"/>
                </a:moveTo>
                <a:lnTo>
                  <a:pt x="10120" y="287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68840" y="776160"/>
            <a:ext cx="1268280" cy="393840"/>
          </a:xfrm>
          <a:custGeom>
            <a:avLst/>
            <a:gdLst/>
            <a:ahLst/>
            <a:rect l="l" t="t" r="r" b="b"/>
            <a:pathLst>
              <a:path w="3523" h="1092">
                <a:moveTo>
                  <a:pt x="10492" y="2530"/>
                </a:moveTo>
                <a:cubicBezTo>
                  <a:pt x="10492" y="2494"/>
                  <a:pt x="10474" y="2395"/>
                  <a:pt x="10468" y="2431"/>
                </a:cubicBezTo>
                <a:cubicBezTo>
                  <a:pt x="10440" y="2599"/>
                  <a:pt x="10483" y="2788"/>
                  <a:pt x="10517" y="2952"/>
                </a:cubicBezTo>
                <a:cubicBezTo>
                  <a:pt x="10517" y="2944"/>
                  <a:pt x="10517" y="2935"/>
                  <a:pt x="10517" y="2927"/>
                </a:cubicBezTo>
                <a:cubicBezTo>
                  <a:pt x="10515" y="2900"/>
                  <a:pt x="10446" y="2358"/>
                  <a:pt x="10542" y="2406"/>
                </a:cubicBezTo>
                <a:cubicBezTo>
                  <a:pt x="10722" y="2496"/>
                  <a:pt x="10754" y="2750"/>
                  <a:pt x="10790" y="2927"/>
                </a:cubicBezTo>
                <a:cubicBezTo>
                  <a:pt x="10779" y="2757"/>
                  <a:pt x="10747" y="2587"/>
                  <a:pt x="10790" y="2431"/>
                </a:cubicBezTo>
                <a:cubicBezTo>
                  <a:pt x="10951" y="2496"/>
                  <a:pt x="11090" y="2637"/>
                  <a:pt x="11137" y="2828"/>
                </a:cubicBezTo>
                <a:cubicBezTo>
                  <a:pt x="11129" y="2828"/>
                  <a:pt x="11120" y="2828"/>
                  <a:pt x="11112" y="2828"/>
                </a:cubicBezTo>
              </a:path>
              <a:path w="3523" h="1092">
                <a:moveTo>
                  <a:pt x="11212" y="2406"/>
                </a:moveTo>
                <a:cubicBezTo>
                  <a:pt x="11219" y="2567"/>
                  <a:pt x="11215" y="2736"/>
                  <a:pt x="11286" y="2877"/>
                </a:cubicBezTo>
                <a:cubicBezTo>
                  <a:pt x="11378" y="2786"/>
                  <a:pt x="11503" y="2683"/>
                  <a:pt x="11460" y="2555"/>
                </a:cubicBezTo>
                <a:cubicBezTo>
                  <a:pt x="11477" y="2769"/>
                  <a:pt x="11474" y="2840"/>
                  <a:pt x="11658" y="2902"/>
                </a:cubicBezTo>
              </a:path>
              <a:path w="3523" h="1092">
                <a:moveTo>
                  <a:pt x="11757" y="2282"/>
                </a:moveTo>
                <a:cubicBezTo>
                  <a:pt x="11782" y="2454"/>
                  <a:pt x="11857" y="2627"/>
                  <a:pt x="11857" y="2803"/>
                </a:cubicBezTo>
                <a:cubicBezTo>
                  <a:pt x="11835" y="2868"/>
                  <a:pt x="11827" y="2902"/>
                  <a:pt x="11832" y="2828"/>
                </a:cubicBezTo>
              </a:path>
              <a:path w="3523" h="1092">
                <a:moveTo>
                  <a:pt x="12080" y="2158"/>
                </a:moveTo>
                <a:cubicBezTo>
                  <a:pt x="12143" y="2405"/>
                  <a:pt x="12167" y="2657"/>
                  <a:pt x="12229" y="2902"/>
                </a:cubicBezTo>
                <a:cubicBezTo>
                  <a:pt x="12229" y="2894"/>
                  <a:pt x="12229" y="2885"/>
                  <a:pt x="12229" y="2877"/>
                </a:cubicBezTo>
              </a:path>
              <a:path w="3523" h="1092">
                <a:moveTo>
                  <a:pt x="11956" y="2456"/>
                </a:moveTo>
                <a:cubicBezTo>
                  <a:pt x="12081" y="2456"/>
                  <a:pt x="12442" y="2384"/>
                  <a:pt x="12526" y="2505"/>
                </a:cubicBezTo>
                <a:cubicBezTo>
                  <a:pt x="12610" y="2625"/>
                  <a:pt x="12488" y="2895"/>
                  <a:pt x="12626" y="2828"/>
                </a:cubicBezTo>
              </a:path>
              <a:path w="3523" h="1092">
                <a:moveTo>
                  <a:pt x="12576" y="2332"/>
                </a:moveTo>
                <a:cubicBezTo>
                  <a:pt x="12568" y="2332"/>
                  <a:pt x="12559" y="2332"/>
                  <a:pt x="12551" y="2332"/>
                </a:cubicBezTo>
              </a:path>
              <a:path w="3523" h="1092">
                <a:moveTo>
                  <a:pt x="12551" y="2332"/>
                </a:moveTo>
                <a:lnTo>
                  <a:pt x="12551" y="2332"/>
                </a:lnTo>
              </a:path>
              <a:path w="3523" h="1092">
                <a:moveTo>
                  <a:pt x="12874" y="2753"/>
                </a:moveTo>
                <a:cubicBezTo>
                  <a:pt x="12879" y="2792"/>
                  <a:pt x="12923" y="3210"/>
                  <a:pt x="12923" y="3175"/>
                </a:cubicBezTo>
                <a:cubicBezTo>
                  <a:pt x="12860" y="2922"/>
                  <a:pt x="12811" y="2691"/>
                  <a:pt x="12799" y="2431"/>
                </a:cubicBezTo>
                <a:cubicBezTo>
                  <a:pt x="12934" y="2431"/>
                  <a:pt x="13332" y="2527"/>
                  <a:pt x="13122" y="2753"/>
                </a:cubicBezTo>
                <a:cubicBezTo>
                  <a:pt x="13024" y="2859"/>
                  <a:pt x="12918" y="2788"/>
                  <a:pt x="12849" y="2729"/>
                </a:cubicBezTo>
              </a:path>
              <a:path w="3523" h="1092">
                <a:moveTo>
                  <a:pt x="13370" y="2232"/>
                </a:moveTo>
                <a:cubicBezTo>
                  <a:pt x="13392" y="2425"/>
                  <a:pt x="13448" y="2634"/>
                  <a:pt x="13444" y="2828"/>
                </a:cubicBezTo>
                <a:cubicBezTo>
                  <a:pt x="13418" y="2930"/>
                  <a:pt x="13411" y="2960"/>
                  <a:pt x="13469" y="2828"/>
                </a:cubicBezTo>
              </a:path>
              <a:path w="3523" h="1092">
                <a:moveTo>
                  <a:pt x="13593" y="2480"/>
                </a:moveTo>
                <a:cubicBezTo>
                  <a:pt x="13593" y="2593"/>
                  <a:pt x="13601" y="2691"/>
                  <a:pt x="13618" y="2803"/>
                </a:cubicBezTo>
                <a:cubicBezTo>
                  <a:pt x="13823" y="2815"/>
                  <a:pt x="13900" y="2753"/>
                  <a:pt x="13990" y="2555"/>
                </a:cubicBezTo>
                <a:cubicBezTo>
                  <a:pt x="13990" y="2530"/>
                  <a:pt x="13990" y="2522"/>
                  <a:pt x="13990" y="2555"/>
                </a:cubicBezTo>
                <a:cubicBezTo>
                  <a:pt x="13961" y="2727"/>
                  <a:pt x="14060" y="3065"/>
                  <a:pt x="13940" y="3200"/>
                </a:cubicBezTo>
                <a:cubicBezTo>
                  <a:pt x="13799" y="3256"/>
                  <a:pt x="13741" y="3265"/>
                  <a:pt x="13643" y="31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0720" y="1214280"/>
            <a:ext cx="277560" cy="312840"/>
          </a:xfrm>
          <a:custGeom>
            <a:avLst/>
            <a:gdLst/>
            <a:ahLst/>
            <a:rect l="l" t="t" r="r" b="b"/>
            <a:pathLst>
              <a:path w="770" h="870">
                <a:moveTo>
                  <a:pt x="9451" y="3572"/>
                </a:moveTo>
                <a:cubicBezTo>
                  <a:pt x="9392" y="3572"/>
                  <a:pt x="9395" y="3536"/>
                  <a:pt x="9451" y="3497"/>
                </a:cubicBezTo>
                <a:cubicBezTo>
                  <a:pt x="9530" y="3441"/>
                  <a:pt x="9634" y="3408"/>
                  <a:pt x="9723" y="3373"/>
                </a:cubicBezTo>
                <a:cubicBezTo>
                  <a:pt x="9780" y="3469"/>
                  <a:pt x="9742" y="3552"/>
                  <a:pt x="9674" y="3646"/>
                </a:cubicBezTo>
                <a:cubicBezTo>
                  <a:pt x="9632" y="3703"/>
                  <a:pt x="9569" y="3755"/>
                  <a:pt x="9550" y="3746"/>
                </a:cubicBezTo>
                <a:cubicBezTo>
                  <a:pt x="9656" y="3685"/>
                  <a:pt x="9769" y="3681"/>
                  <a:pt x="9773" y="3845"/>
                </a:cubicBezTo>
                <a:cubicBezTo>
                  <a:pt x="9777" y="4045"/>
                  <a:pt x="9582" y="4255"/>
                  <a:pt x="9376" y="4242"/>
                </a:cubicBezTo>
                <a:cubicBezTo>
                  <a:pt x="9238" y="4233"/>
                  <a:pt x="9252" y="4216"/>
                  <a:pt x="9252" y="4142"/>
                </a:cubicBezTo>
              </a:path>
              <a:path w="770" h="870">
                <a:moveTo>
                  <a:pt x="10021" y="4093"/>
                </a:moveTo>
                <a:cubicBezTo>
                  <a:pt x="10021" y="4101"/>
                  <a:pt x="10021" y="4110"/>
                  <a:pt x="10021" y="41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1040" y="1231920"/>
            <a:ext cx="1108080" cy="384120"/>
          </a:xfrm>
          <a:custGeom>
            <a:avLst/>
            <a:gdLst/>
            <a:ahLst/>
            <a:rect l="l" t="t" r="r" b="b"/>
            <a:pathLst>
              <a:path w="3077" h="1068">
                <a:moveTo>
                  <a:pt x="10765" y="3473"/>
                </a:moveTo>
                <a:cubicBezTo>
                  <a:pt x="10625" y="3528"/>
                  <a:pt x="10728" y="3609"/>
                  <a:pt x="10815" y="3671"/>
                </a:cubicBezTo>
                <a:cubicBezTo>
                  <a:pt x="10941" y="3761"/>
                  <a:pt x="11115" y="3873"/>
                  <a:pt x="10864" y="3969"/>
                </a:cubicBezTo>
                <a:cubicBezTo>
                  <a:pt x="10732" y="3991"/>
                  <a:pt x="10700" y="4000"/>
                  <a:pt x="10616" y="3994"/>
                </a:cubicBezTo>
              </a:path>
              <a:path w="3077" h="1068">
                <a:moveTo>
                  <a:pt x="11088" y="3820"/>
                </a:moveTo>
                <a:cubicBezTo>
                  <a:pt x="11106" y="3911"/>
                  <a:pt x="11114" y="3918"/>
                  <a:pt x="11112" y="3969"/>
                </a:cubicBezTo>
              </a:path>
              <a:path w="3077" h="1068">
                <a:moveTo>
                  <a:pt x="11038" y="3497"/>
                </a:moveTo>
                <a:cubicBezTo>
                  <a:pt x="11055" y="3522"/>
                  <a:pt x="11071" y="3547"/>
                  <a:pt x="11088" y="3572"/>
                </a:cubicBezTo>
              </a:path>
              <a:path w="3077" h="1068">
                <a:moveTo>
                  <a:pt x="11088" y="3572"/>
                </a:moveTo>
                <a:lnTo>
                  <a:pt x="11088" y="3572"/>
                </a:lnTo>
              </a:path>
              <a:path w="3077" h="1068">
                <a:moveTo>
                  <a:pt x="11336" y="3894"/>
                </a:moveTo>
                <a:cubicBezTo>
                  <a:pt x="11336" y="3952"/>
                  <a:pt x="11336" y="3961"/>
                  <a:pt x="11336" y="3994"/>
                </a:cubicBezTo>
                <a:cubicBezTo>
                  <a:pt x="11348" y="3908"/>
                  <a:pt x="11353" y="3765"/>
                  <a:pt x="11410" y="3696"/>
                </a:cubicBezTo>
                <a:cubicBezTo>
                  <a:pt x="11459" y="3636"/>
                  <a:pt x="11605" y="3914"/>
                  <a:pt x="11609" y="3919"/>
                </a:cubicBezTo>
                <a:cubicBezTo>
                  <a:pt x="11609" y="3966"/>
                  <a:pt x="11645" y="3772"/>
                  <a:pt x="11658" y="3746"/>
                </a:cubicBezTo>
                <a:cubicBezTo>
                  <a:pt x="11713" y="3636"/>
                  <a:pt x="11801" y="3895"/>
                  <a:pt x="11807" y="3919"/>
                </a:cubicBezTo>
                <a:cubicBezTo>
                  <a:pt x="11807" y="3944"/>
                  <a:pt x="11807" y="3969"/>
                  <a:pt x="11807" y="3994"/>
                </a:cubicBezTo>
              </a:path>
              <a:path w="3077" h="1068">
                <a:moveTo>
                  <a:pt x="12030" y="3820"/>
                </a:moveTo>
                <a:cubicBezTo>
                  <a:pt x="12049" y="3965"/>
                  <a:pt x="12063" y="4104"/>
                  <a:pt x="12105" y="4242"/>
                </a:cubicBezTo>
                <a:cubicBezTo>
                  <a:pt x="12105" y="4047"/>
                  <a:pt x="12066" y="3883"/>
                  <a:pt x="12030" y="3696"/>
                </a:cubicBezTo>
                <a:cubicBezTo>
                  <a:pt x="12030" y="3679"/>
                  <a:pt x="12030" y="3663"/>
                  <a:pt x="12030" y="3646"/>
                </a:cubicBezTo>
                <a:cubicBezTo>
                  <a:pt x="12123" y="3688"/>
                  <a:pt x="12445" y="3820"/>
                  <a:pt x="12303" y="3944"/>
                </a:cubicBezTo>
                <a:cubicBezTo>
                  <a:pt x="12159" y="4070"/>
                  <a:pt x="12096" y="3965"/>
                  <a:pt x="12030" y="3870"/>
                </a:cubicBezTo>
              </a:path>
              <a:path w="3077" h="1068">
                <a:moveTo>
                  <a:pt x="12526" y="3522"/>
                </a:moveTo>
                <a:cubicBezTo>
                  <a:pt x="12545" y="3651"/>
                  <a:pt x="12532" y="3895"/>
                  <a:pt x="12626" y="3894"/>
                </a:cubicBezTo>
              </a:path>
              <a:path w="3077" h="1068">
                <a:moveTo>
                  <a:pt x="12725" y="3770"/>
                </a:moveTo>
                <a:cubicBezTo>
                  <a:pt x="12725" y="3922"/>
                  <a:pt x="12685" y="3920"/>
                  <a:pt x="12799" y="3894"/>
                </a:cubicBezTo>
              </a:path>
              <a:path w="3077" h="1068">
                <a:moveTo>
                  <a:pt x="12774" y="3497"/>
                </a:moveTo>
                <a:lnTo>
                  <a:pt x="12774" y="3497"/>
                </a:lnTo>
                <a:lnTo>
                  <a:pt x="12774" y="3497"/>
                </a:lnTo>
              </a:path>
              <a:path w="3077" h="1068">
                <a:moveTo>
                  <a:pt x="12774" y="3497"/>
                </a:moveTo>
                <a:lnTo>
                  <a:pt x="12774" y="3497"/>
                </a:lnTo>
              </a:path>
              <a:path w="3077" h="1068">
                <a:moveTo>
                  <a:pt x="13295" y="3423"/>
                </a:moveTo>
                <a:cubicBezTo>
                  <a:pt x="13128" y="3521"/>
                  <a:pt x="13104" y="3645"/>
                  <a:pt x="13122" y="3845"/>
                </a:cubicBezTo>
                <a:cubicBezTo>
                  <a:pt x="13140" y="3919"/>
                  <a:pt x="13148" y="3926"/>
                  <a:pt x="13146" y="3969"/>
                </a:cubicBezTo>
              </a:path>
              <a:path w="3077" h="1068">
                <a:moveTo>
                  <a:pt x="13097" y="3746"/>
                </a:moveTo>
                <a:cubicBezTo>
                  <a:pt x="13189" y="3746"/>
                  <a:pt x="13267" y="3726"/>
                  <a:pt x="13345" y="3746"/>
                </a:cubicBezTo>
              </a:path>
              <a:path w="3077" h="1068">
                <a:moveTo>
                  <a:pt x="13469" y="3597"/>
                </a:moveTo>
                <a:cubicBezTo>
                  <a:pt x="13461" y="3630"/>
                  <a:pt x="13411" y="3936"/>
                  <a:pt x="13469" y="3944"/>
                </a:cubicBezTo>
                <a:cubicBezTo>
                  <a:pt x="13608" y="3964"/>
                  <a:pt x="13632" y="3835"/>
                  <a:pt x="13667" y="3746"/>
                </a:cubicBezTo>
                <a:cubicBezTo>
                  <a:pt x="13667" y="3738"/>
                  <a:pt x="13667" y="3729"/>
                  <a:pt x="13667" y="3721"/>
                </a:cubicBezTo>
                <a:cubicBezTo>
                  <a:pt x="13709" y="3868"/>
                  <a:pt x="13676" y="4175"/>
                  <a:pt x="13643" y="4341"/>
                </a:cubicBezTo>
                <a:cubicBezTo>
                  <a:pt x="13590" y="4605"/>
                  <a:pt x="13398" y="4446"/>
                  <a:pt x="13246" y="43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0040" y="1982880"/>
            <a:ext cx="268200" cy="258840"/>
          </a:xfrm>
          <a:custGeom>
            <a:avLst/>
            <a:gdLst/>
            <a:ahLst/>
            <a:rect l="l" t="t" r="r" b="b"/>
            <a:pathLst>
              <a:path w="746" h="720">
                <a:moveTo>
                  <a:pt x="4762" y="5606"/>
                </a:moveTo>
                <a:cubicBezTo>
                  <a:pt x="4790" y="5549"/>
                  <a:pt x="4789" y="5640"/>
                  <a:pt x="4812" y="5655"/>
                </a:cubicBezTo>
                <a:cubicBezTo>
                  <a:pt x="4843" y="5675"/>
                  <a:pt x="4848" y="5724"/>
                  <a:pt x="4887" y="5755"/>
                </a:cubicBezTo>
                <a:cubicBezTo>
                  <a:pt x="4914" y="5777"/>
                  <a:pt x="4955" y="5797"/>
                  <a:pt x="4986" y="5829"/>
                </a:cubicBezTo>
                <a:cubicBezTo>
                  <a:pt x="5016" y="5860"/>
                  <a:pt x="5061" y="5961"/>
                  <a:pt x="5085" y="5978"/>
                </a:cubicBezTo>
                <a:cubicBezTo>
                  <a:pt x="5122" y="6004"/>
                  <a:pt x="5181" y="6010"/>
                  <a:pt x="5209" y="6052"/>
                </a:cubicBezTo>
                <a:cubicBezTo>
                  <a:pt x="5226" y="6077"/>
                  <a:pt x="5250" y="6115"/>
                  <a:pt x="5283" y="6152"/>
                </a:cubicBezTo>
                <a:cubicBezTo>
                  <a:pt x="5291" y="6160"/>
                  <a:pt x="5300" y="6168"/>
                  <a:pt x="5308" y="6176"/>
                </a:cubicBezTo>
                <a:cubicBezTo>
                  <a:pt x="5294" y="6122"/>
                  <a:pt x="5251" y="6115"/>
                  <a:pt x="5209" y="6077"/>
                </a:cubicBezTo>
                <a:cubicBezTo>
                  <a:pt x="5187" y="6057"/>
                  <a:pt x="5114" y="5980"/>
                  <a:pt x="5110" y="5978"/>
                </a:cubicBezTo>
                <a:cubicBezTo>
                  <a:pt x="5047" y="5957"/>
                  <a:pt x="5065" y="5958"/>
                  <a:pt x="5011" y="5904"/>
                </a:cubicBezTo>
                <a:cubicBezTo>
                  <a:pt x="4979" y="5872"/>
                  <a:pt x="4946" y="5865"/>
                  <a:pt x="4911" y="5829"/>
                </a:cubicBezTo>
                <a:cubicBezTo>
                  <a:pt x="4878" y="5796"/>
                  <a:pt x="4858" y="5762"/>
                  <a:pt x="4837" y="5730"/>
                </a:cubicBezTo>
                <a:cubicBezTo>
                  <a:pt x="4806" y="5684"/>
                  <a:pt x="4744" y="5663"/>
                  <a:pt x="4738" y="5606"/>
                </a:cubicBezTo>
                <a:cubicBezTo>
                  <a:pt x="4738" y="5581"/>
                  <a:pt x="4738" y="5573"/>
                  <a:pt x="4713" y="5581"/>
                </a:cubicBezTo>
              </a:path>
              <a:path w="746" h="720">
                <a:moveTo>
                  <a:pt x="4713" y="5581"/>
                </a:moveTo>
                <a:lnTo>
                  <a:pt x="4713" y="5581"/>
                </a:lnTo>
              </a:path>
              <a:path w="746" h="720">
                <a:moveTo>
                  <a:pt x="4638" y="5507"/>
                </a:moveTo>
                <a:cubicBezTo>
                  <a:pt x="4663" y="5507"/>
                  <a:pt x="4671" y="5507"/>
                  <a:pt x="4688" y="5507"/>
                </a:cubicBezTo>
                <a:cubicBezTo>
                  <a:pt x="4701" y="5544"/>
                  <a:pt x="4713" y="5528"/>
                  <a:pt x="4713" y="5581"/>
                </a:cubicBezTo>
                <a:cubicBezTo>
                  <a:pt x="4736" y="5589"/>
                  <a:pt x="4766" y="5623"/>
                  <a:pt x="4787" y="5655"/>
                </a:cubicBezTo>
                <a:cubicBezTo>
                  <a:pt x="4822" y="5709"/>
                  <a:pt x="4815" y="5733"/>
                  <a:pt x="4862" y="5779"/>
                </a:cubicBezTo>
                <a:cubicBezTo>
                  <a:pt x="4896" y="5813"/>
                  <a:pt x="4917" y="5843"/>
                  <a:pt x="4961" y="5854"/>
                </a:cubicBezTo>
                <a:cubicBezTo>
                  <a:pt x="4977" y="5903"/>
                  <a:pt x="5001" y="5876"/>
                  <a:pt x="5035" y="5928"/>
                </a:cubicBezTo>
                <a:cubicBezTo>
                  <a:pt x="5035" y="5936"/>
                  <a:pt x="5035" y="5945"/>
                  <a:pt x="5035" y="5953"/>
                </a:cubicBezTo>
                <a:cubicBezTo>
                  <a:pt x="5083" y="5965"/>
                  <a:pt x="5092" y="6008"/>
                  <a:pt x="5135" y="6028"/>
                </a:cubicBezTo>
                <a:cubicBezTo>
                  <a:pt x="5171" y="6044"/>
                  <a:pt x="5202" y="6048"/>
                  <a:pt x="5234" y="6077"/>
                </a:cubicBezTo>
                <a:cubicBezTo>
                  <a:pt x="5256" y="6099"/>
                  <a:pt x="5261" y="6108"/>
                  <a:pt x="5283" y="6102"/>
                </a:cubicBezTo>
                <a:cubicBezTo>
                  <a:pt x="5296" y="6142"/>
                  <a:pt x="5295" y="6112"/>
                  <a:pt x="5308" y="6152"/>
                </a:cubicBezTo>
                <a:cubicBezTo>
                  <a:pt x="5340" y="6162"/>
                  <a:pt x="5346" y="6173"/>
                  <a:pt x="5383" y="6201"/>
                </a:cubicBezTo>
              </a:path>
              <a:path w="746" h="720">
                <a:moveTo>
                  <a:pt x="5383" y="6201"/>
                </a:moveTo>
                <a:lnTo>
                  <a:pt x="5383" y="6201"/>
                </a:lnTo>
              </a:path>
              <a:path w="746" h="720">
                <a:moveTo>
                  <a:pt x="5383" y="6226"/>
                </a:moveTo>
                <a:lnTo>
                  <a:pt x="5383" y="6226"/>
                </a:lnTo>
              </a:path>
              <a:path w="746" h="720">
                <a:moveTo>
                  <a:pt x="5383" y="6226"/>
                </a:moveTo>
                <a:lnTo>
                  <a:pt x="5383" y="62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54080" y="2660760"/>
            <a:ext cx="1000080" cy="1071360"/>
          </a:xfrm>
          <a:custGeom>
            <a:avLst/>
            <a:gdLst/>
            <a:ahLst/>
            <a:rect l="l" t="t" r="r" b="b"/>
            <a:pathLst>
              <a:path w="2779" h="2977">
                <a:moveTo>
                  <a:pt x="5705" y="7392"/>
                </a:moveTo>
                <a:cubicBezTo>
                  <a:pt x="5683" y="7615"/>
                  <a:pt x="5674" y="7840"/>
                  <a:pt x="5655" y="8062"/>
                </a:cubicBezTo>
                <a:cubicBezTo>
                  <a:pt x="5643" y="8195"/>
                  <a:pt x="5602" y="8187"/>
                  <a:pt x="5655" y="8260"/>
                </a:cubicBezTo>
              </a:path>
              <a:path w="2779" h="2977">
                <a:moveTo>
                  <a:pt x="3299" y="8235"/>
                </a:moveTo>
                <a:cubicBezTo>
                  <a:pt x="3323" y="8383"/>
                  <a:pt x="3359" y="8580"/>
                  <a:pt x="3324" y="8731"/>
                </a:cubicBezTo>
                <a:cubicBezTo>
                  <a:pt x="3316" y="8739"/>
                  <a:pt x="3307" y="8748"/>
                  <a:pt x="3299" y="8756"/>
                </a:cubicBezTo>
              </a:path>
              <a:path w="2779" h="2977">
                <a:moveTo>
                  <a:pt x="2927" y="8855"/>
                </a:moveTo>
                <a:cubicBezTo>
                  <a:pt x="3112" y="8809"/>
                  <a:pt x="3307" y="8779"/>
                  <a:pt x="3497" y="8756"/>
                </a:cubicBezTo>
                <a:cubicBezTo>
                  <a:pt x="3539" y="8756"/>
                  <a:pt x="3547" y="8756"/>
                  <a:pt x="3572" y="8756"/>
                </a:cubicBezTo>
              </a:path>
              <a:path w="2779" h="2977">
                <a:moveTo>
                  <a:pt x="3497" y="8954"/>
                </a:moveTo>
                <a:cubicBezTo>
                  <a:pt x="3364" y="8967"/>
                  <a:pt x="3323" y="8993"/>
                  <a:pt x="3249" y="9103"/>
                </a:cubicBezTo>
                <a:cubicBezTo>
                  <a:pt x="3325" y="9168"/>
                  <a:pt x="3488" y="9220"/>
                  <a:pt x="3497" y="9327"/>
                </a:cubicBezTo>
                <a:cubicBezTo>
                  <a:pt x="3473" y="9401"/>
                  <a:pt x="3464" y="9426"/>
                  <a:pt x="3398" y="9426"/>
                </a:cubicBezTo>
                <a:cubicBezTo>
                  <a:pt x="3310" y="9266"/>
                  <a:pt x="3349" y="9281"/>
                  <a:pt x="3448" y="9128"/>
                </a:cubicBezTo>
                <a:cubicBezTo>
                  <a:pt x="3488" y="9066"/>
                  <a:pt x="3533" y="8996"/>
                  <a:pt x="3547" y="8954"/>
                </a:cubicBezTo>
              </a:path>
              <a:path w="2779" h="2977">
                <a:moveTo>
                  <a:pt x="3894" y="8706"/>
                </a:moveTo>
                <a:cubicBezTo>
                  <a:pt x="3925" y="8799"/>
                  <a:pt x="4047" y="8860"/>
                  <a:pt x="4018" y="8954"/>
                </a:cubicBezTo>
                <a:cubicBezTo>
                  <a:pt x="4010" y="8954"/>
                  <a:pt x="4002" y="8954"/>
                  <a:pt x="3994" y="8954"/>
                </a:cubicBezTo>
              </a:path>
              <a:path w="2779" h="2977">
                <a:moveTo>
                  <a:pt x="4018" y="8682"/>
                </a:moveTo>
                <a:cubicBezTo>
                  <a:pt x="3993" y="8754"/>
                  <a:pt x="3937" y="8995"/>
                  <a:pt x="3870" y="9029"/>
                </a:cubicBezTo>
                <a:cubicBezTo>
                  <a:pt x="3870" y="9021"/>
                  <a:pt x="3870" y="9012"/>
                  <a:pt x="3870" y="9004"/>
                </a:cubicBezTo>
              </a:path>
              <a:path w="2779" h="2977">
                <a:moveTo>
                  <a:pt x="4366" y="8334"/>
                </a:moveTo>
                <a:cubicBezTo>
                  <a:pt x="4340" y="8448"/>
                  <a:pt x="4311" y="8566"/>
                  <a:pt x="4291" y="8682"/>
                </a:cubicBezTo>
                <a:cubicBezTo>
                  <a:pt x="4291" y="8698"/>
                  <a:pt x="4291" y="8715"/>
                  <a:pt x="4291" y="8731"/>
                </a:cubicBezTo>
                <a:cubicBezTo>
                  <a:pt x="4312" y="8817"/>
                  <a:pt x="4423" y="8794"/>
                  <a:pt x="4490" y="8756"/>
                </a:cubicBezTo>
                <a:cubicBezTo>
                  <a:pt x="4551" y="8721"/>
                  <a:pt x="4589" y="8649"/>
                  <a:pt x="4589" y="8582"/>
                </a:cubicBezTo>
                <a:cubicBezTo>
                  <a:pt x="4430" y="8611"/>
                  <a:pt x="4464" y="8649"/>
                  <a:pt x="4415" y="8781"/>
                </a:cubicBezTo>
                <a:cubicBezTo>
                  <a:pt x="4400" y="8821"/>
                  <a:pt x="4364" y="8814"/>
                  <a:pt x="4415" y="8830"/>
                </a:cubicBezTo>
              </a:path>
              <a:path w="2779" h="2977">
                <a:moveTo>
                  <a:pt x="4192" y="9004"/>
                </a:moveTo>
                <a:cubicBezTo>
                  <a:pt x="4288" y="8972"/>
                  <a:pt x="4387" y="8935"/>
                  <a:pt x="4490" y="8905"/>
                </a:cubicBezTo>
                <a:cubicBezTo>
                  <a:pt x="4555" y="8883"/>
                  <a:pt x="4570" y="8875"/>
                  <a:pt x="4614" y="8880"/>
                </a:cubicBezTo>
              </a:path>
              <a:path w="2779" h="2977">
                <a:moveTo>
                  <a:pt x="4465" y="9103"/>
                </a:moveTo>
                <a:cubicBezTo>
                  <a:pt x="4390" y="9055"/>
                  <a:pt x="4424" y="9277"/>
                  <a:pt x="4415" y="9327"/>
                </a:cubicBezTo>
                <a:cubicBezTo>
                  <a:pt x="4401" y="9406"/>
                  <a:pt x="4369" y="9415"/>
                  <a:pt x="4415" y="9475"/>
                </a:cubicBezTo>
              </a:path>
              <a:path w="2779" h="2977">
                <a:moveTo>
                  <a:pt x="4018" y="8756"/>
                </a:moveTo>
                <a:cubicBezTo>
                  <a:pt x="4018" y="8745"/>
                  <a:pt x="3990" y="8729"/>
                  <a:pt x="3969" y="8756"/>
                </a:cubicBezTo>
                <a:cubicBezTo>
                  <a:pt x="3960" y="8767"/>
                  <a:pt x="3922" y="8800"/>
                  <a:pt x="3919" y="8806"/>
                </a:cubicBezTo>
                <a:cubicBezTo>
                  <a:pt x="3902" y="8839"/>
                  <a:pt x="3898" y="8834"/>
                  <a:pt x="3870" y="8855"/>
                </a:cubicBezTo>
                <a:cubicBezTo>
                  <a:pt x="3844" y="8875"/>
                  <a:pt x="3809" y="8945"/>
                  <a:pt x="3795" y="8954"/>
                </a:cubicBezTo>
                <a:cubicBezTo>
                  <a:pt x="3766" y="8973"/>
                  <a:pt x="3758" y="8967"/>
                  <a:pt x="3746" y="9004"/>
                </a:cubicBezTo>
                <a:cubicBezTo>
                  <a:pt x="3806" y="8989"/>
                  <a:pt x="3870" y="8900"/>
                  <a:pt x="3919" y="8855"/>
                </a:cubicBezTo>
                <a:cubicBezTo>
                  <a:pt x="3989" y="8791"/>
                  <a:pt x="4043" y="8719"/>
                  <a:pt x="4118" y="8706"/>
                </a:cubicBezTo>
              </a:path>
              <a:path w="2779" h="2977">
                <a:moveTo>
                  <a:pt x="3547" y="9451"/>
                </a:moveTo>
                <a:cubicBezTo>
                  <a:pt x="3547" y="9393"/>
                  <a:pt x="3618" y="9434"/>
                  <a:pt x="3646" y="9451"/>
                </a:cubicBezTo>
              </a:path>
              <a:path w="2779" h="2977">
                <a:moveTo>
                  <a:pt x="3621" y="9376"/>
                </a:moveTo>
                <a:cubicBezTo>
                  <a:pt x="3613" y="9376"/>
                  <a:pt x="3605" y="9376"/>
                  <a:pt x="3597" y="9376"/>
                </a:cubicBezTo>
              </a:path>
              <a:path w="2779" h="2977">
                <a:moveTo>
                  <a:pt x="3572" y="9599"/>
                </a:moveTo>
                <a:lnTo>
                  <a:pt x="3572" y="9599"/>
                </a:lnTo>
              </a:path>
              <a:path w="2779" h="2977">
                <a:moveTo>
                  <a:pt x="3721" y="9426"/>
                </a:moveTo>
                <a:cubicBezTo>
                  <a:pt x="3762" y="9426"/>
                  <a:pt x="3804" y="9426"/>
                  <a:pt x="3845" y="9426"/>
                </a:cubicBezTo>
                <a:cubicBezTo>
                  <a:pt x="3833" y="9487"/>
                  <a:pt x="3799" y="9542"/>
                  <a:pt x="3770" y="9599"/>
                </a:cubicBezTo>
                <a:cubicBezTo>
                  <a:pt x="3816" y="9599"/>
                  <a:pt x="3857" y="9614"/>
                  <a:pt x="3870" y="9575"/>
                </a:cubicBezTo>
                <a:cubicBezTo>
                  <a:pt x="3878" y="9550"/>
                  <a:pt x="3886" y="9525"/>
                  <a:pt x="3894" y="9500"/>
                </a:cubicBezTo>
              </a:path>
              <a:path w="2779" h="2977">
                <a:moveTo>
                  <a:pt x="4638" y="8483"/>
                </a:moveTo>
                <a:cubicBezTo>
                  <a:pt x="4638" y="8449"/>
                  <a:pt x="4680" y="8442"/>
                  <a:pt x="4713" y="8434"/>
                </a:cubicBezTo>
              </a:path>
              <a:path w="2779" h="2977">
                <a:moveTo>
                  <a:pt x="4638" y="8310"/>
                </a:moveTo>
                <a:lnTo>
                  <a:pt x="4638" y="8310"/>
                </a:lnTo>
              </a:path>
              <a:path w="2779" h="2977">
                <a:moveTo>
                  <a:pt x="4663" y="8632"/>
                </a:moveTo>
                <a:cubicBezTo>
                  <a:pt x="4655" y="8632"/>
                  <a:pt x="4646" y="8632"/>
                  <a:pt x="4638" y="8632"/>
                </a:cubicBezTo>
              </a:path>
              <a:path w="2779" h="2977">
                <a:moveTo>
                  <a:pt x="4837" y="8359"/>
                </a:moveTo>
                <a:cubicBezTo>
                  <a:pt x="4854" y="8317"/>
                  <a:pt x="4869" y="8302"/>
                  <a:pt x="4911" y="8285"/>
                </a:cubicBezTo>
                <a:cubicBezTo>
                  <a:pt x="4911" y="8366"/>
                  <a:pt x="4891" y="8469"/>
                  <a:pt x="4837" y="8533"/>
                </a:cubicBezTo>
                <a:cubicBezTo>
                  <a:pt x="4812" y="8533"/>
                  <a:pt x="4804" y="8533"/>
                  <a:pt x="4812" y="8558"/>
                </a:cubicBezTo>
                <a:cubicBezTo>
                  <a:pt x="4871" y="8558"/>
                  <a:pt x="4908" y="8535"/>
                  <a:pt x="4961" y="8508"/>
                </a:cubicBezTo>
              </a:path>
              <a:path w="2779" h="2977">
                <a:moveTo>
                  <a:pt x="4663" y="8657"/>
                </a:moveTo>
                <a:cubicBezTo>
                  <a:pt x="4663" y="8649"/>
                  <a:pt x="4663" y="8640"/>
                  <a:pt x="4663" y="8632"/>
                </a:cubicBezTo>
              </a:path>
              <a:path w="2779" h="2977">
                <a:moveTo>
                  <a:pt x="4465" y="7565"/>
                </a:moveTo>
                <a:cubicBezTo>
                  <a:pt x="4432" y="7598"/>
                  <a:pt x="4433" y="7625"/>
                  <a:pt x="4415" y="7590"/>
                </a:cubicBezTo>
                <a:cubicBezTo>
                  <a:pt x="4465" y="7524"/>
                  <a:pt x="4484" y="7509"/>
                  <a:pt x="4564" y="7491"/>
                </a:cubicBezTo>
                <a:cubicBezTo>
                  <a:pt x="4564" y="7592"/>
                  <a:pt x="4541" y="7688"/>
                  <a:pt x="4465" y="7764"/>
                </a:cubicBezTo>
                <a:cubicBezTo>
                  <a:pt x="4457" y="7764"/>
                  <a:pt x="4448" y="7764"/>
                  <a:pt x="4440" y="7764"/>
                </a:cubicBezTo>
                <a:cubicBezTo>
                  <a:pt x="4493" y="7764"/>
                  <a:pt x="4503" y="7757"/>
                  <a:pt x="4564" y="7739"/>
                </a:cubicBezTo>
                <a:cubicBezTo>
                  <a:pt x="4591" y="7875"/>
                  <a:pt x="4557" y="7977"/>
                  <a:pt x="4415" y="8037"/>
                </a:cubicBezTo>
                <a:cubicBezTo>
                  <a:pt x="4371" y="8037"/>
                  <a:pt x="4357" y="8034"/>
                  <a:pt x="4341" y="8062"/>
                </a:cubicBezTo>
              </a:path>
              <a:path w="2779" h="2977">
                <a:moveTo>
                  <a:pt x="4192" y="8756"/>
                </a:moveTo>
                <a:cubicBezTo>
                  <a:pt x="4293" y="8684"/>
                  <a:pt x="4431" y="8591"/>
                  <a:pt x="4539" y="8533"/>
                </a:cubicBezTo>
                <a:cubicBezTo>
                  <a:pt x="4709" y="8442"/>
                  <a:pt x="4900" y="8339"/>
                  <a:pt x="5085" y="8285"/>
                </a:cubicBezTo>
                <a:cubicBezTo>
                  <a:pt x="5093" y="8285"/>
                  <a:pt x="5102" y="8285"/>
                  <a:pt x="5110" y="8285"/>
                </a:cubicBezTo>
                <a:cubicBezTo>
                  <a:pt x="4990" y="8315"/>
                  <a:pt x="4779" y="8422"/>
                  <a:pt x="4663" y="8483"/>
                </a:cubicBezTo>
                <a:cubicBezTo>
                  <a:pt x="4524" y="8556"/>
                  <a:pt x="4400" y="8661"/>
                  <a:pt x="4242" y="8682"/>
                </a:cubicBezTo>
                <a:cubicBezTo>
                  <a:pt x="4217" y="8682"/>
                  <a:pt x="4209" y="8682"/>
                  <a:pt x="4217" y="8706"/>
                </a:cubicBezTo>
              </a:path>
              <a:path w="2779" h="2977">
                <a:moveTo>
                  <a:pt x="3249" y="9922"/>
                </a:moveTo>
                <a:cubicBezTo>
                  <a:pt x="3249" y="10005"/>
                  <a:pt x="3249" y="10087"/>
                  <a:pt x="3249" y="10170"/>
                </a:cubicBezTo>
                <a:cubicBezTo>
                  <a:pt x="3315" y="10170"/>
                  <a:pt x="3382" y="10170"/>
                  <a:pt x="3448" y="10170"/>
                </a:cubicBezTo>
              </a:path>
              <a:path w="2779" h="2977">
                <a:moveTo>
                  <a:pt x="3398" y="9947"/>
                </a:moveTo>
                <a:cubicBezTo>
                  <a:pt x="3419" y="10047"/>
                  <a:pt x="3483" y="10138"/>
                  <a:pt x="3497" y="10244"/>
                </a:cubicBezTo>
                <a:cubicBezTo>
                  <a:pt x="3497" y="10319"/>
                  <a:pt x="3497" y="10327"/>
                  <a:pt x="3497" y="10368"/>
                </a:cubicBezTo>
              </a:path>
              <a:path w="2779" h="2977">
                <a:moveTo>
                  <a:pt x="3249" y="9252"/>
                </a:moveTo>
                <a:cubicBezTo>
                  <a:pt x="3266" y="9200"/>
                  <a:pt x="3375" y="9279"/>
                  <a:pt x="3423" y="9302"/>
                </a:cubicBezTo>
                <a:cubicBezTo>
                  <a:pt x="3633" y="9403"/>
                  <a:pt x="3760" y="9552"/>
                  <a:pt x="3944" y="9674"/>
                </a:cubicBezTo>
                <a:cubicBezTo>
                  <a:pt x="3969" y="9674"/>
                  <a:pt x="3977" y="9674"/>
                  <a:pt x="3994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63800" y="2214720"/>
            <a:ext cx="376200" cy="303120"/>
          </a:xfrm>
          <a:custGeom>
            <a:avLst/>
            <a:gdLst/>
            <a:ahLst/>
            <a:rect l="l" t="t" r="r" b="b"/>
            <a:pathLst>
              <a:path w="1043" h="844">
                <a:moveTo>
                  <a:pt x="5457" y="6152"/>
                </a:moveTo>
                <a:cubicBezTo>
                  <a:pt x="5518" y="6169"/>
                  <a:pt x="5594" y="6226"/>
                  <a:pt x="5655" y="6276"/>
                </a:cubicBezTo>
                <a:cubicBezTo>
                  <a:pt x="5744" y="6350"/>
                  <a:pt x="5807" y="6410"/>
                  <a:pt x="5904" y="6474"/>
                </a:cubicBezTo>
                <a:cubicBezTo>
                  <a:pt x="5987" y="6529"/>
                  <a:pt x="6078" y="6581"/>
                  <a:pt x="6152" y="6648"/>
                </a:cubicBezTo>
                <a:cubicBezTo>
                  <a:pt x="6200" y="6692"/>
                  <a:pt x="6252" y="6724"/>
                  <a:pt x="6300" y="6772"/>
                </a:cubicBezTo>
                <a:cubicBezTo>
                  <a:pt x="6343" y="6815"/>
                  <a:pt x="6363" y="6828"/>
                  <a:pt x="6400" y="6871"/>
                </a:cubicBezTo>
                <a:cubicBezTo>
                  <a:pt x="6422" y="6896"/>
                  <a:pt x="6454" y="6927"/>
                  <a:pt x="6474" y="6945"/>
                </a:cubicBezTo>
                <a:cubicBezTo>
                  <a:pt x="6501" y="6969"/>
                  <a:pt x="6488" y="6967"/>
                  <a:pt x="6474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54840" y="2027160"/>
            <a:ext cx="179280" cy="17964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6942" y="5779"/>
                </a:moveTo>
                <a:cubicBezTo>
                  <a:pt x="16931" y="5747"/>
                  <a:pt x="16902" y="5749"/>
                  <a:pt x="16892" y="5730"/>
                </a:cubicBezTo>
                <a:cubicBezTo>
                  <a:pt x="16892" y="5705"/>
                  <a:pt x="16892" y="5697"/>
                  <a:pt x="16867" y="5705"/>
                </a:cubicBezTo>
                <a:cubicBezTo>
                  <a:pt x="16911" y="5749"/>
                  <a:pt x="16980" y="5787"/>
                  <a:pt x="17016" y="5829"/>
                </a:cubicBezTo>
                <a:cubicBezTo>
                  <a:pt x="17055" y="5875"/>
                  <a:pt x="17096" y="5919"/>
                  <a:pt x="17140" y="5953"/>
                </a:cubicBezTo>
                <a:cubicBezTo>
                  <a:pt x="17167" y="5974"/>
                  <a:pt x="17233" y="6039"/>
                  <a:pt x="17264" y="6052"/>
                </a:cubicBezTo>
                <a:cubicBezTo>
                  <a:pt x="17283" y="6060"/>
                  <a:pt x="17324" y="6102"/>
                  <a:pt x="17289" y="6077"/>
                </a:cubicBezTo>
                <a:cubicBezTo>
                  <a:pt x="17254" y="6052"/>
                  <a:pt x="17186" y="5990"/>
                  <a:pt x="17165" y="5978"/>
                </a:cubicBezTo>
                <a:cubicBezTo>
                  <a:pt x="17143" y="5966"/>
                  <a:pt x="17097" y="5941"/>
                  <a:pt x="17090" y="5928"/>
                </a:cubicBezTo>
                <a:cubicBezTo>
                  <a:pt x="17067" y="5883"/>
                  <a:pt x="17029" y="5888"/>
                  <a:pt x="16991" y="5854"/>
                </a:cubicBezTo>
                <a:cubicBezTo>
                  <a:pt x="16969" y="5835"/>
                  <a:pt x="16924" y="5783"/>
                  <a:pt x="16917" y="5779"/>
                </a:cubicBezTo>
                <a:cubicBezTo>
                  <a:pt x="16893" y="5767"/>
                  <a:pt x="16882" y="5737"/>
                  <a:pt x="16867" y="5730"/>
                </a:cubicBezTo>
                <a:cubicBezTo>
                  <a:pt x="16828" y="5711"/>
                  <a:pt x="16859" y="5694"/>
                  <a:pt x="16818" y="5680"/>
                </a:cubicBezTo>
              </a:path>
              <a:path w="497" h="497">
                <a:moveTo>
                  <a:pt x="16818" y="5655"/>
                </a:moveTo>
                <a:lnTo>
                  <a:pt x="16818" y="5655"/>
                </a:lnTo>
              </a:path>
              <a:path w="497" h="497">
                <a:moveTo>
                  <a:pt x="16966" y="6003"/>
                </a:moveTo>
                <a:cubicBezTo>
                  <a:pt x="16902" y="5981"/>
                  <a:pt x="17003" y="5902"/>
                  <a:pt x="17041" y="5879"/>
                </a:cubicBezTo>
                <a:cubicBezTo>
                  <a:pt x="17074" y="5859"/>
                  <a:pt x="17066" y="5841"/>
                  <a:pt x="17090" y="5804"/>
                </a:cubicBezTo>
                <a:cubicBezTo>
                  <a:pt x="17122" y="5756"/>
                  <a:pt x="17185" y="5730"/>
                  <a:pt x="17214" y="5680"/>
                </a:cubicBezTo>
                <a:cubicBezTo>
                  <a:pt x="17231" y="5651"/>
                  <a:pt x="17228" y="5663"/>
                  <a:pt x="17239" y="5631"/>
                </a:cubicBezTo>
                <a:cubicBezTo>
                  <a:pt x="17293" y="5631"/>
                  <a:pt x="17187" y="5677"/>
                  <a:pt x="17165" y="5705"/>
                </a:cubicBezTo>
                <a:cubicBezTo>
                  <a:pt x="17118" y="5764"/>
                  <a:pt x="17106" y="5793"/>
                  <a:pt x="17066" y="5854"/>
                </a:cubicBezTo>
                <a:cubicBezTo>
                  <a:pt x="17044" y="5888"/>
                  <a:pt x="16987" y="5934"/>
                  <a:pt x="16966" y="5953"/>
                </a:cubicBezTo>
                <a:cubicBezTo>
                  <a:pt x="16923" y="5992"/>
                  <a:pt x="16894" y="6005"/>
                  <a:pt x="16867" y="6052"/>
                </a:cubicBezTo>
                <a:cubicBezTo>
                  <a:pt x="16859" y="6069"/>
                  <a:pt x="16850" y="6085"/>
                  <a:pt x="16842" y="6102"/>
                </a:cubicBezTo>
                <a:cubicBezTo>
                  <a:pt x="16757" y="6132"/>
                  <a:pt x="16887" y="6078"/>
                  <a:pt x="16917" y="6052"/>
                </a:cubicBezTo>
                <a:cubicBezTo>
                  <a:pt x="16975" y="6002"/>
                  <a:pt x="17003" y="5920"/>
                  <a:pt x="17066" y="5879"/>
                </a:cubicBezTo>
                <a:cubicBezTo>
                  <a:pt x="17106" y="5853"/>
                  <a:pt x="17174" y="5784"/>
                  <a:pt x="17190" y="5755"/>
                </a:cubicBezTo>
                <a:cubicBezTo>
                  <a:pt x="17190" y="5730"/>
                  <a:pt x="17190" y="5722"/>
                  <a:pt x="17214" y="5730"/>
                </a:cubicBezTo>
              </a:path>
              <a:path w="497" h="497">
                <a:moveTo>
                  <a:pt x="17214" y="5730"/>
                </a:moveTo>
                <a:lnTo>
                  <a:pt x="17214" y="5730"/>
                </a:lnTo>
              </a:path>
              <a:path w="497" h="497">
                <a:moveTo>
                  <a:pt x="17214" y="5730"/>
                </a:moveTo>
                <a:lnTo>
                  <a:pt x="17214" y="5730"/>
                </a:lnTo>
              </a:path>
              <a:path w="497" h="497">
                <a:moveTo>
                  <a:pt x="17239" y="5730"/>
                </a:moveTo>
                <a:lnTo>
                  <a:pt x="17239" y="573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15080" y="1535040"/>
            <a:ext cx="731880" cy="1063800"/>
          </a:xfrm>
          <a:custGeom>
            <a:avLst/>
            <a:gdLst/>
            <a:ahLst/>
            <a:rect l="l" t="t" r="r" b="b"/>
            <a:pathLst>
              <a:path w="2035" h="2953">
                <a:moveTo>
                  <a:pt x="19273" y="5035"/>
                </a:moveTo>
                <a:cubicBezTo>
                  <a:pt x="19246" y="4970"/>
                  <a:pt x="19303" y="4887"/>
                  <a:pt x="19397" y="4887"/>
                </a:cubicBezTo>
                <a:cubicBezTo>
                  <a:pt x="19617" y="4886"/>
                  <a:pt x="19521" y="5172"/>
                  <a:pt x="19447" y="5259"/>
                </a:cubicBezTo>
                <a:cubicBezTo>
                  <a:pt x="19373" y="5346"/>
                  <a:pt x="19228" y="5475"/>
                  <a:pt x="19149" y="5358"/>
                </a:cubicBezTo>
                <a:cubicBezTo>
                  <a:pt x="19270" y="5225"/>
                  <a:pt x="19331" y="5214"/>
                  <a:pt x="19496" y="5308"/>
                </a:cubicBezTo>
                <a:cubicBezTo>
                  <a:pt x="19549" y="5338"/>
                  <a:pt x="19491" y="5399"/>
                  <a:pt x="19546" y="5308"/>
                </a:cubicBezTo>
              </a:path>
              <a:path w="2035" h="2953">
                <a:moveTo>
                  <a:pt x="19670" y="4911"/>
                </a:moveTo>
                <a:cubicBezTo>
                  <a:pt x="19749" y="4885"/>
                  <a:pt x="19873" y="4872"/>
                  <a:pt x="19943" y="4837"/>
                </a:cubicBezTo>
                <a:cubicBezTo>
                  <a:pt x="19966" y="4814"/>
                  <a:pt x="19970" y="4806"/>
                  <a:pt x="19993" y="4812"/>
                </a:cubicBezTo>
                <a:cubicBezTo>
                  <a:pt x="20026" y="4931"/>
                  <a:pt x="19960" y="5098"/>
                  <a:pt x="19943" y="5234"/>
                </a:cubicBezTo>
                <a:cubicBezTo>
                  <a:pt x="19943" y="5250"/>
                  <a:pt x="19943" y="5267"/>
                  <a:pt x="19943" y="5283"/>
                </a:cubicBezTo>
              </a:path>
              <a:path w="2035" h="2953">
                <a:moveTo>
                  <a:pt x="19149" y="5730"/>
                </a:moveTo>
                <a:cubicBezTo>
                  <a:pt x="19149" y="5702"/>
                  <a:pt x="19147" y="5691"/>
                  <a:pt x="19124" y="5680"/>
                </a:cubicBezTo>
                <a:cubicBezTo>
                  <a:pt x="19267" y="5680"/>
                  <a:pt x="19432" y="5656"/>
                  <a:pt x="19571" y="5631"/>
                </a:cubicBezTo>
                <a:cubicBezTo>
                  <a:pt x="19718" y="5605"/>
                  <a:pt x="19943" y="5614"/>
                  <a:pt x="20067" y="5531"/>
                </a:cubicBezTo>
              </a:path>
              <a:path w="2035" h="2953">
                <a:moveTo>
                  <a:pt x="19645" y="5755"/>
                </a:moveTo>
                <a:cubicBezTo>
                  <a:pt x="19545" y="5775"/>
                  <a:pt x="19454" y="5801"/>
                  <a:pt x="19348" y="5804"/>
                </a:cubicBezTo>
                <a:cubicBezTo>
                  <a:pt x="19224" y="5808"/>
                  <a:pt x="19251" y="5894"/>
                  <a:pt x="19224" y="6003"/>
                </a:cubicBezTo>
                <a:cubicBezTo>
                  <a:pt x="19282" y="6003"/>
                  <a:pt x="19399" y="6004"/>
                  <a:pt x="19447" y="6028"/>
                </a:cubicBezTo>
                <a:cubicBezTo>
                  <a:pt x="19542" y="6075"/>
                  <a:pt x="19534" y="6197"/>
                  <a:pt x="19496" y="6276"/>
                </a:cubicBezTo>
                <a:cubicBezTo>
                  <a:pt x="19451" y="6370"/>
                  <a:pt x="19298" y="6416"/>
                  <a:pt x="19199" y="6375"/>
                </a:cubicBezTo>
                <a:cubicBezTo>
                  <a:pt x="19171" y="6347"/>
                  <a:pt x="19162" y="6333"/>
                  <a:pt x="19174" y="6300"/>
                </a:cubicBezTo>
              </a:path>
              <a:path w="2035" h="2953">
                <a:moveTo>
                  <a:pt x="19844" y="5680"/>
                </a:moveTo>
                <a:cubicBezTo>
                  <a:pt x="19844" y="5767"/>
                  <a:pt x="19828" y="5847"/>
                  <a:pt x="19794" y="5928"/>
                </a:cubicBezTo>
                <a:cubicBezTo>
                  <a:pt x="19755" y="6020"/>
                  <a:pt x="19691" y="6127"/>
                  <a:pt x="19670" y="6226"/>
                </a:cubicBezTo>
                <a:cubicBezTo>
                  <a:pt x="19661" y="6270"/>
                  <a:pt x="19680" y="6377"/>
                  <a:pt x="19720" y="6400"/>
                </a:cubicBezTo>
                <a:cubicBezTo>
                  <a:pt x="19767" y="6427"/>
                  <a:pt x="19883" y="6394"/>
                  <a:pt x="19918" y="6375"/>
                </a:cubicBezTo>
                <a:cubicBezTo>
                  <a:pt x="19990" y="6336"/>
                  <a:pt x="20003" y="6289"/>
                  <a:pt x="20042" y="6251"/>
                </a:cubicBezTo>
                <a:cubicBezTo>
                  <a:pt x="20084" y="6210"/>
                  <a:pt x="20078" y="6193"/>
                  <a:pt x="20067" y="6127"/>
                </a:cubicBezTo>
                <a:cubicBezTo>
                  <a:pt x="20063" y="6104"/>
                  <a:pt x="20022" y="6087"/>
                  <a:pt x="19993" y="6077"/>
                </a:cubicBezTo>
                <a:cubicBezTo>
                  <a:pt x="19985" y="6077"/>
                  <a:pt x="19976" y="6077"/>
                  <a:pt x="19968" y="6077"/>
                </a:cubicBezTo>
                <a:cubicBezTo>
                  <a:pt x="19931" y="6141"/>
                  <a:pt x="19899" y="6176"/>
                  <a:pt x="19893" y="6251"/>
                </a:cubicBezTo>
                <a:cubicBezTo>
                  <a:pt x="19889" y="6305"/>
                  <a:pt x="19874" y="6385"/>
                  <a:pt x="19918" y="6400"/>
                </a:cubicBezTo>
              </a:path>
              <a:path w="2035" h="2953">
                <a:moveTo>
                  <a:pt x="20538" y="5135"/>
                </a:moveTo>
                <a:cubicBezTo>
                  <a:pt x="20550" y="5095"/>
                  <a:pt x="20563" y="4991"/>
                  <a:pt x="20563" y="4911"/>
                </a:cubicBezTo>
                <a:cubicBezTo>
                  <a:pt x="20563" y="4791"/>
                  <a:pt x="20557" y="4739"/>
                  <a:pt x="20489" y="4638"/>
                </a:cubicBezTo>
                <a:cubicBezTo>
                  <a:pt x="20425" y="4542"/>
                  <a:pt x="20306" y="4432"/>
                  <a:pt x="20216" y="4366"/>
                </a:cubicBezTo>
                <a:cubicBezTo>
                  <a:pt x="20113" y="4290"/>
                  <a:pt x="19993" y="4269"/>
                  <a:pt x="19869" y="4266"/>
                </a:cubicBezTo>
                <a:cubicBezTo>
                  <a:pt x="19736" y="4263"/>
                  <a:pt x="19602" y="4268"/>
                  <a:pt x="19472" y="4291"/>
                </a:cubicBezTo>
                <a:cubicBezTo>
                  <a:pt x="19278" y="4326"/>
                  <a:pt x="19112" y="4385"/>
                  <a:pt x="18976" y="4539"/>
                </a:cubicBezTo>
                <a:cubicBezTo>
                  <a:pt x="18885" y="4642"/>
                  <a:pt x="18797" y="4805"/>
                  <a:pt x="18752" y="4936"/>
                </a:cubicBezTo>
                <a:cubicBezTo>
                  <a:pt x="18704" y="5077"/>
                  <a:pt x="18656" y="5209"/>
                  <a:pt x="18653" y="5358"/>
                </a:cubicBezTo>
                <a:cubicBezTo>
                  <a:pt x="18649" y="5572"/>
                  <a:pt x="18637" y="5792"/>
                  <a:pt x="18678" y="6003"/>
                </a:cubicBezTo>
                <a:cubicBezTo>
                  <a:pt x="18715" y="6189"/>
                  <a:pt x="18744" y="6392"/>
                  <a:pt x="18802" y="6573"/>
                </a:cubicBezTo>
                <a:cubicBezTo>
                  <a:pt x="18851" y="6727"/>
                  <a:pt x="18911" y="6862"/>
                  <a:pt x="19000" y="6995"/>
                </a:cubicBezTo>
                <a:cubicBezTo>
                  <a:pt x="19092" y="7132"/>
                  <a:pt x="19243" y="7159"/>
                  <a:pt x="19397" y="7193"/>
                </a:cubicBezTo>
                <a:cubicBezTo>
                  <a:pt x="19551" y="7227"/>
                  <a:pt x="19691" y="7226"/>
                  <a:pt x="19844" y="7193"/>
                </a:cubicBezTo>
                <a:cubicBezTo>
                  <a:pt x="20037" y="7152"/>
                  <a:pt x="20224" y="7091"/>
                  <a:pt x="20365" y="6945"/>
                </a:cubicBezTo>
                <a:cubicBezTo>
                  <a:pt x="20480" y="6826"/>
                  <a:pt x="20589" y="6684"/>
                  <a:pt x="20638" y="6524"/>
                </a:cubicBezTo>
                <a:cubicBezTo>
                  <a:pt x="20691" y="6353"/>
                  <a:pt x="20674" y="6222"/>
                  <a:pt x="20662" y="6052"/>
                </a:cubicBezTo>
                <a:cubicBezTo>
                  <a:pt x="20652" y="5911"/>
                  <a:pt x="20623" y="5794"/>
                  <a:pt x="20588" y="5655"/>
                </a:cubicBezTo>
                <a:cubicBezTo>
                  <a:pt x="20554" y="5521"/>
                  <a:pt x="20517" y="5406"/>
                  <a:pt x="20464" y="5283"/>
                </a:cubicBezTo>
                <a:cubicBezTo>
                  <a:pt x="20440" y="5228"/>
                  <a:pt x="20413" y="5144"/>
                  <a:pt x="20414" y="5085"/>
                </a:cubicBezTo>
                <a:cubicBezTo>
                  <a:pt x="20416" y="5001"/>
                  <a:pt x="20436" y="4922"/>
                  <a:pt x="20439" y="4837"/>
                </a:cubicBezTo>
                <a:cubicBezTo>
                  <a:pt x="20445" y="4666"/>
                  <a:pt x="20446" y="4714"/>
                  <a:pt x="20538" y="4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60920" y="2268360"/>
            <a:ext cx="581040" cy="901800"/>
          </a:xfrm>
          <a:custGeom>
            <a:avLst/>
            <a:gdLst/>
            <a:ahLst/>
            <a:rect l="l" t="t" r="r" b="b"/>
            <a:pathLst>
              <a:path w="1613" h="2507">
                <a:moveTo>
                  <a:pt x="13692" y="6896"/>
                </a:moveTo>
                <a:cubicBezTo>
                  <a:pt x="13725" y="6896"/>
                  <a:pt x="13734" y="6888"/>
                  <a:pt x="13717" y="6846"/>
                </a:cubicBezTo>
                <a:cubicBezTo>
                  <a:pt x="13717" y="7007"/>
                  <a:pt x="13714" y="7158"/>
                  <a:pt x="13692" y="7317"/>
                </a:cubicBezTo>
              </a:path>
              <a:path w="1613" h="2507">
                <a:moveTo>
                  <a:pt x="14015" y="6821"/>
                </a:moveTo>
                <a:cubicBezTo>
                  <a:pt x="14015" y="6877"/>
                  <a:pt x="13999" y="6991"/>
                  <a:pt x="14015" y="6995"/>
                </a:cubicBezTo>
                <a:cubicBezTo>
                  <a:pt x="14101" y="7019"/>
                  <a:pt x="14175" y="7020"/>
                  <a:pt x="14263" y="7020"/>
                </a:cubicBezTo>
              </a:path>
              <a:path w="1613" h="2507">
                <a:moveTo>
                  <a:pt x="14238" y="6697"/>
                </a:moveTo>
                <a:cubicBezTo>
                  <a:pt x="14238" y="6899"/>
                  <a:pt x="14243" y="7097"/>
                  <a:pt x="14213" y="7293"/>
                </a:cubicBezTo>
                <a:cubicBezTo>
                  <a:pt x="14213" y="7301"/>
                  <a:pt x="14213" y="7309"/>
                  <a:pt x="14213" y="7317"/>
                </a:cubicBezTo>
              </a:path>
              <a:path w="1613" h="2507">
                <a:moveTo>
                  <a:pt x="14139" y="7541"/>
                </a:moveTo>
                <a:cubicBezTo>
                  <a:pt x="14117" y="7615"/>
                  <a:pt x="14114" y="7764"/>
                  <a:pt x="14064" y="7665"/>
                </a:cubicBezTo>
                <a:cubicBezTo>
                  <a:pt x="14166" y="7577"/>
                  <a:pt x="14233" y="7693"/>
                  <a:pt x="14312" y="7665"/>
                </a:cubicBezTo>
                <a:cubicBezTo>
                  <a:pt x="14329" y="7648"/>
                  <a:pt x="14345" y="7632"/>
                  <a:pt x="14362" y="7615"/>
                </a:cubicBezTo>
              </a:path>
              <a:path w="1613" h="2507">
                <a:moveTo>
                  <a:pt x="14362" y="7317"/>
                </a:moveTo>
                <a:cubicBezTo>
                  <a:pt x="14335" y="7524"/>
                  <a:pt x="14335" y="7731"/>
                  <a:pt x="14312" y="7938"/>
                </a:cubicBezTo>
                <a:cubicBezTo>
                  <a:pt x="14312" y="7946"/>
                  <a:pt x="14312" y="7954"/>
                  <a:pt x="14312" y="7962"/>
                </a:cubicBezTo>
              </a:path>
              <a:path w="1613" h="2507">
                <a:moveTo>
                  <a:pt x="13271" y="7665"/>
                </a:moveTo>
                <a:cubicBezTo>
                  <a:pt x="13297" y="7756"/>
                  <a:pt x="13319" y="7847"/>
                  <a:pt x="13345" y="7938"/>
                </a:cubicBezTo>
              </a:path>
              <a:path w="1613" h="2507">
                <a:moveTo>
                  <a:pt x="13370" y="7640"/>
                </a:moveTo>
                <a:cubicBezTo>
                  <a:pt x="13334" y="7749"/>
                  <a:pt x="13300" y="7865"/>
                  <a:pt x="13246" y="7962"/>
                </a:cubicBezTo>
              </a:path>
              <a:path w="1613" h="2507">
                <a:moveTo>
                  <a:pt x="12948" y="8260"/>
                </a:moveTo>
                <a:cubicBezTo>
                  <a:pt x="13377" y="8139"/>
                  <a:pt x="13800" y="8101"/>
                  <a:pt x="14238" y="8037"/>
                </a:cubicBezTo>
                <a:cubicBezTo>
                  <a:pt x="14379" y="8016"/>
                  <a:pt x="14444" y="7999"/>
                  <a:pt x="14560" y="7987"/>
                </a:cubicBezTo>
              </a:path>
              <a:path w="1613" h="2507">
                <a:moveTo>
                  <a:pt x="14238" y="8260"/>
                </a:moveTo>
                <a:cubicBezTo>
                  <a:pt x="14206" y="8165"/>
                  <a:pt x="14169" y="8375"/>
                  <a:pt x="14163" y="8409"/>
                </a:cubicBezTo>
                <a:cubicBezTo>
                  <a:pt x="14154" y="8460"/>
                  <a:pt x="14139" y="8598"/>
                  <a:pt x="14188" y="8632"/>
                </a:cubicBezTo>
                <a:cubicBezTo>
                  <a:pt x="14258" y="8680"/>
                  <a:pt x="14399" y="8669"/>
                  <a:pt x="14461" y="8607"/>
                </a:cubicBezTo>
                <a:cubicBezTo>
                  <a:pt x="14507" y="8561"/>
                  <a:pt x="14530" y="8471"/>
                  <a:pt x="14536" y="8409"/>
                </a:cubicBezTo>
                <a:cubicBezTo>
                  <a:pt x="14536" y="8401"/>
                  <a:pt x="14536" y="8392"/>
                  <a:pt x="14536" y="8384"/>
                </a:cubicBezTo>
                <a:cubicBezTo>
                  <a:pt x="14465" y="8384"/>
                  <a:pt x="14452" y="8370"/>
                  <a:pt x="14412" y="8434"/>
                </a:cubicBezTo>
                <a:cubicBezTo>
                  <a:pt x="14366" y="8507"/>
                  <a:pt x="14354" y="8532"/>
                  <a:pt x="14387" y="8607"/>
                </a:cubicBezTo>
              </a:path>
              <a:path w="1613" h="2507">
                <a:moveTo>
                  <a:pt x="13667" y="6325"/>
                </a:moveTo>
                <a:cubicBezTo>
                  <a:pt x="13667" y="6242"/>
                  <a:pt x="13667" y="6441"/>
                  <a:pt x="13667" y="6524"/>
                </a:cubicBezTo>
                <a:cubicBezTo>
                  <a:pt x="13667" y="6565"/>
                  <a:pt x="13659" y="6581"/>
                  <a:pt x="13692" y="6573"/>
                </a:cubicBezTo>
              </a:path>
              <a:path w="1613" h="2507">
                <a:moveTo>
                  <a:pt x="13667" y="8334"/>
                </a:moveTo>
                <a:cubicBezTo>
                  <a:pt x="13706" y="8296"/>
                  <a:pt x="13708" y="8279"/>
                  <a:pt x="13742" y="8285"/>
                </a:cubicBezTo>
                <a:cubicBezTo>
                  <a:pt x="13664" y="8289"/>
                  <a:pt x="13519" y="8250"/>
                  <a:pt x="13519" y="8359"/>
                </a:cubicBezTo>
                <a:cubicBezTo>
                  <a:pt x="13519" y="8409"/>
                  <a:pt x="13519" y="8458"/>
                  <a:pt x="13519" y="8508"/>
                </a:cubicBezTo>
                <a:cubicBezTo>
                  <a:pt x="13575" y="8488"/>
                  <a:pt x="13598" y="8441"/>
                  <a:pt x="13692" y="8483"/>
                </a:cubicBezTo>
                <a:cubicBezTo>
                  <a:pt x="13859" y="8558"/>
                  <a:pt x="13779" y="8682"/>
                  <a:pt x="13667" y="8756"/>
                </a:cubicBezTo>
                <a:cubicBezTo>
                  <a:pt x="13607" y="8796"/>
                  <a:pt x="13430" y="8788"/>
                  <a:pt x="13494" y="8756"/>
                </a:cubicBezTo>
                <a:cubicBezTo>
                  <a:pt x="13502" y="8756"/>
                  <a:pt x="13511" y="8756"/>
                  <a:pt x="13519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9040" y="3537000"/>
            <a:ext cx="687240" cy="714240"/>
          </a:xfrm>
          <a:custGeom>
            <a:avLst/>
            <a:gdLst/>
            <a:ahLst/>
            <a:rect l="l" t="t" r="r" b="b"/>
            <a:pathLst>
              <a:path w="1911" h="1985">
                <a:moveTo>
                  <a:pt x="11981" y="10244"/>
                </a:moveTo>
                <a:cubicBezTo>
                  <a:pt x="11866" y="10226"/>
                  <a:pt x="11750" y="10210"/>
                  <a:pt x="11633" y="10195"/>
                </a:cubicBezTo>
                <a:cubicBezTo>
                  <a:pt x="11595" y="10190"/>
                  <a:pt x="11603" y="10290"/>
                  <a:pt x="11584" y="10319"/>
                </a:cubicBezTo>
                <a:cubicBezTo>
                  <a:pt x="11542" y="10360"/>
                  <a:pt x="11534" y="10368"/>
                  <a:pt x="11509" y="10393"/>
                </a:cubicBezTo>
                <a:cubicBezTo>
                  <a:pt x="11616" y="10393"/>
                  <a:pt x="11778" y="10400"/>
                  <a:pt x="11807" y="10542"/>
                </a:cubicBezTo>
                <a:cubicBezTo>
                  <a:pt x="11850" y="10753"/>
                  <a:pt x="11582" y="10814"/>
                  <a:pt x="11435" y="10790"/>
                </a:cubicBezTo>
                <a:cubicBezTo>
                  <a:pt x="11400" y="10755"/>
                  <a:pt x="11396" y="10733"/>
                  <a:pt x="11435" y="10691"/>
                </a:cubicBezTo>
              </a:path>
              <a:path w="1911" h="1985">
                <a:moveTo>
                  <a:pt x="12452" y="9922"/>
                </a:moveTo>
                <a:cubicBezTo>
                  <a:pt x="12551" y="9922"/>
                  <a:pt x="12651" y="9922"/>
                  <a:pt x="12750" y="9922"/>
                </a:cubicBezTo>
                <a:cubicBezTo>
                  <a:pt x="12716" y="10025"/>
                  <a:pt x="12630" y="10121"/>
                  <a:pt x="12576" y="10220"/>
                </a:cubicBezTo>
                <a:cubicBezTo>
                  <a:pt x="12568" y="10236"/>
                  <a:pt x="12559" y="10253"/>
                  <a:pt x="12551" y="10269"/>
                </a:cubicBezTo>
              </a:path>
              <a:path w="1911" h="1985">
                <a:moveTo>
                  <a:pt x="12254" y="10393"/>
                </a:moveTo>
                <a:cubicBezTo>
                  <a:pt x="12445" y="10386"/>
                  <a:pt x="12642" y="10347"/>
                  <a:pt x="12824" y="10393"/>
                </a:cubicBezTo>
              </a:path>
              <a:path w="1911" h="1985">
                <a:moveTo>
                  <a:pt x="12278" y="10468"/>
                </a:moveTo>
                <a:cubicBezTo>
                  <a:pt x="12219" y="10588"/>
                  <a:pt x="12213" y="10747"/>
                  <a:pt x="12129" y="10864"/>
                </a:cubicBezTo>
                <a:cubicBezTo>
                  <a:pt x="12109" y="10893"/>
                  <a:pt x="12144" y="10844"/>
                  <a:pt x="12179" y="10815"/>
                </a:cubicBezTo>
              </a:path>
              <a:path w="1911" h="1985">
                <a:moveTo>
                  <a:pt x="12725" y="10492"/>
                </a:moveTo>
                <a:cubicBezTo>
                  <a:pt x="12665" y="10528"/>
                  <a:pt x="12558" y="10508"/>
                  <a:pt x="12502" y="10542"/>
                </a:cubicBezTo>
                <a:cubicBezTo>
                  <a:pt x="12494" y="10547"/>
                  <a:pt x="12457" y="10648"/>
                  <a:pt x="12452" y="10666"/>
                </a:cubicBezTo>
                <a:cubicBezTo>
                  <a:pt x="12547" y="10673"/>
                  <a:pt x="12729" y="10658"/>
                  <a:pt x="12675" y="10815"/>
                </a:cubicBezTo>
                <a:cubicBezTo>
                  <a:pt x="12627" y="10955"/>
                  <a:pt x="12473" y="10926"/>
                  <a:pt x="12402" y="10864"/>
                </a:cubicBezTo>
              </a:path>
              <a:path w="1911" h="1985">
                <a:moveTo>
                  <a:pt x="11733" y="10889"/>
                </a:moveTo>
                <a:cubicBezTo>
                  <a:pt x="11775" y="10940"/>
                  <a:pt x="11853" y="11005"/>
                  <a:pt x="11881" y="11063"/>
                </a:cubicBezTo>
                <a:cubicBezTo>
                  <a:pt x="11881" y="11088"/>
                  <a:pt x="11881" y="11096"/>
                  <a:pt x="11906" y="11088"/>
                </a:cubicBezTo>
              </a:path>
              <a:path w="1911" h="1985">
                <a:moveTo>
                  <a:pt x="11981" y="10840"/>
                </a:moveTo>
                <a:cubicBezTo>
                  <a:pt x="11930" y="10939"/>
                  <a:pt x="11813" y="11033"/>
                  <a:pt x="11708" y="11088"/>
                </a:cubicBezTo>
                <a:cubicBezTo>
                  <a:pt x="11683" y="11088"/>
                  <a:pt x="11675" y="11088"/>
                  <a:pt x="11683" y="11112"/>
                </a:cubicBezTo>
              </a:path>
              <a:path w="1911" h="1985">
                <a:moveTo>
                  <a:pt x="11311" y="11410"/>
                </a:moveTo>
                <a:cubicBezTo>
                  <a:pt x="11372" y="11364"/>
                  <a:pt x="11429" y="11345"/>
                  <a:pt x="11509" y="11336"/>
                </a:cubicBezTo>
                <a:cubicBezTo>
                  <a:pt x="11610" y="11324"/>
                  <a:pt x="11515" y="11631"/>
                  <a:pt x="11509" y="11658"/>
                </a:cubicBezTo>
                <a:cubicBezTo>
                  <a:pt x="11494" y="11728"/>
                  <a:pt x="11485" y="11748"/>
                  <a:pt x="11485" y="11807"/>
                </a:cubicBezTo>
              </a:path>
              <a:path w="1911" h="1985">
                <a:moveTo>
                  <a:pt x="11683" y="11361"/>
                </a:moveTo>
                <a:cubicBezTo>
                  <a:pt x="11675" y="11400"/>
                  <a:pt x="11622" y="11483"/>
                  <a:pt x="11683" y="11509"/>
                </a:cubicBezTo>
                <a:cubicBezTo>
                  <a:pt x="11766" y="11545"/>
                  <a:pt x="11806" y="11562"/>
                  <a:pt x="11881" y="11609"/>
                </a:cubicBezTo>
                <a:cubicBezTo>
                  <a:pt x="11860" y="11667"/>
                  <a:pt x="11827" y="11815"/>
                  <a:pt x="11733" y="11733"/>
                </a:cubicBezTo>
                <a:cubicBezTo>
                  <a:pt x="11733" y="11725"/>
                  <a:pt x="11733" y="11716"/>
                  <a:pt x="11733" y="11708"/>
                </a:cubicBezTo>
              </a:path>
              <a:path w="1911" h="1985">
                <a:moveTo>
                  <a:pt x="11708" y="11361"/>
                </a:moveTo>
                <a:cubicBezTo>
                  <a:pt x="11725" y="11326"/>
                  <a:pt x="11810" y="11272"/>
                  <a:pt x="11832" y="11261"/>
                </a:cubicBezTo>
                <a:cubicBezTo>
                  <a:pt x="11840" y="11261"/>
                  <a:pt x="11849" y="11261"/>
                  <a:pt x="11857" y="11261"/>
                </a:cubicBezTo>
              </a:path>
              <a:path w="1911" h="1985">
                <a:moveTo>
                  <a:pt x="11311" y="11286"/>
                </a:moveTo>
                <a:cubicBezTo>
                  <a:pt x="11242" y="11302"/>
                  <a:pt x="11266" y="11317"/>
                  <a:pt x="11187" y="11286"/>
                </a:cubicBezTo>
                <a:cubicBezTo>
                  <a:pt x="11137" y="11266"/>
                  <a:pt x="11106" y="11228"/>
                  <a:pt x="11063" y="11187"/>
                </a:cubicBezTo>
                <a:cubicBezTo>
                  <a:pt x="11029" y="11155"/>
                  <a:pt x="10987" y="11096"/>
                  <a:pt x="10964" y="11038"/>
                </a:cubicBezTo>
                <a:cubicBezTo>
                  <a:pt x="10948" y="10998"/>
                  <a:pt x="10922" y="10937"/>
                  <a:pt x="10914" y="10889"/>
                </a:cubicBezTo>
                <a:cubicBezTo>
                  <a:pt x="10901" y="10809"/>
                  <a:pt x="10927" y="10739"/>
                  <a:pt x="10939" y="10666"/>
                </a:cubicBezTo>
                <a:cubicBezTo>
                  <a:pt x="10949" y="10604"/>
                  <a:pt x="10942" y="10551"/>
                  <a:pt x="10964" y="10492"/>
                </a:cubicBezTo>
                <a:cubicBezTo>
                  <a:pt x="10985" y="10436"/>
                  <a:pt x="10980" y="10389"/>
                  <a:pt x="11013" y="10344"/>
                </a:cubicBezTo>
                <a:cubicBezTo>
                  <a:pt x="11066" y="10271"/>
                  <a:pt x="11146" y="10225"/>
                  <a:pt x="11212" y="10170"/>
                </a:cubicBezTo>
                <a:cubicBezTo>
                  <a:pt x="11268" y="10123"/>
                  <a:pt x="11293" y="10097"/>
                  <a:pt x="11361" y="10071"/>
                </a:cubicBezTo>
                <a:cubicBezTo>
                  <a:pt x="11432" y="10043"/>
                  <a:pt x="11432" y="10043"/>
                  <a:pt x="11509" y="10021"/>
                </a:cubicBezTo>
                <a:cubicBezTo>
                  <a:pt x="11552" y="10009"/>
                  <a:pt x="11613" y="9969"/>
                  <a:pt x="11658" y="9947"/>
                </a:cubicBezTo>
                <a:cubicBezTo>
                  <a:pt x="11691" y="9931"/>
                  <a:pt x="11717" y="9924"/>
                  <a:pt x="11757" y="9922"/>
                </a:cubicBezTo>
                <a:cubicBezTo>
                  <a:pt x="11853" y="9917"/>
                  <a:pt x="11949" y="9916"/>
                  <a:pt x="12030" y="9947"/>
                </a:cubicBezTo>
                <a:cubicBezTo>
                  <a:pt x="12014" y="9919"/>
                  <a:pt x="11985" y="9846"/>
                  <a:pt x="11956" y="9823"/>
                </a:cubicBezTo>
                <a:cubicBezTo>
                  <a:pt x="11948" y="9823"/>
                  <a:pt x="11939" y="9823"/>
                  <a:pt x="11931" y="9823"/>
                </a:cubicBezTo>
                <a:cubicBezTo>
                  <a:pt x="11941" y="9835"/>
                  <a:pt x="12002" y="9894"/>
                  <a:pt x="12005" y="9922"/>
                </a:cubicBezTo>
                <a:cubicBezTo>
                  <a:pt x="12010" y="9972"/>
                  <a:pt x="11903" y="10061"/>
                  <a:pt x="11881" y="10096"/>
                </a:cubicBezTo>
                <a:cubicBezTo>
                  <a:pt x="11855" y="10136"/>
                  <a:pt x="11868" y="10127"/>
                  <a:pt x="11857" y="10170"/>
                </a:cubicBezTo>
              </a:path>
              <a:path w="1911" h="1985">
                <a:moveTo>
                  <a:pt x="12179" y="9971"/>
                </a:moveTo>
                <a:cubicBezTo>
                  <a:pt x="12179" y="10030"/>
                  <a:pt x="12155" y="10154"/>
                  <a:pt x="12204" y="10170"/>
                </a:cubicBezTo>
              </a:path>
              <a:path w="1911" h="1985">
                <a:moveTo>
                  <a:pt x="12105" y="10071"/>
                </a:moveTo>
                <a:cubicBezTo>
                  <a:pt x="12097" y="10071"/>
                  <a:pt x="12088" y="10071"/>
                  <a:pt x="12080" y="10071"/>
                </a:cubicBezTo>
                <a:cubicBezTo>
                  <a:pt x="12171" y="10071"/>
                  <a:pt x="12262" y="10071"/>
                  <a:pt x="12353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71760" y="3741840"/>
            <a:ext cx="830160" cy="2098440"/>
          </a:xfrm>
          <a:custGeom>
            <a:avLst/>
            <a:gdLst/>
            <a:ahLst/>
            <a:rect l="l" t="t" r="r" b="b"/>
            <a:pathLst>
              <a:path w="2307" h="5830">
                <a:moveTo>
                  <a:pt x="5556" y="12452"/>
                </a:moveTo>
                <a:cubicBezTo>
                  <a:pt x="5454" y="12452"/>
                  <a:pt x="5704" y="12420"/>
                  <a:pt x="5804" y="12402"/>
                </a:cubicBezTo>
                <a:cubicBezTo>
                  <a:pt x="5931" y="12379"/>
                  <a:pt x="6049" y="12378"/>
                  <a:pt x="6176" y="12378"/>
                </a:cubicBezTo>
                <a:cubicBezTo>
                  <a:pt x="6228" y="12378"/>
                  <a:pt x="6246" y="12377"/>
                  <a:pt x="6276" y="12353"/>
                </a:cubicBezTo>
              </a:path>
              <a:path w="2307" h="5830">
                <a:moveTo>
                  <a:pt x="5953" y="12601"/>
                </a:moveTo>
                <a:cubicBezTo>
                  <a:pt x="5953" y="12766"/>
                  <a:pt x="5953" y="12932"/>
                  <a:pt x="5953" y="13097"/>
                </a:cubicBezTo>
              </a:path>
              <a:path w="2307" h="5830">
                <a:moveTo>
                  <a:pt x="5457" y="11931"/>
                </a:moveTo>
                <a:cubicBezTo>
                  <a:pt x="5483" y="11898"/>
                  <a:pt x="5505" y="11865"/>
                  <a:pt x="5531" y="11832"/>
                </a:cubicBezTo>
                <a:cubicBezTo>
                  <a:pt x="5534" y="11831"/>
                  <a:pt x="5618" y="11775"/>
                  <a:pt x="5581" y="11807"/>
                </a:cubicBezTo>
                <a:cubicBezTo>
                  <a:pt x="5498" y="11879"/>
                  <a:pt x="5453" y="11947"/>
                  <a:pt x="5383" y="12030"/>
                </a:cubicBezTo>
                <a:cubicBezTo>
                  <a:pt x="5375" y="12039"/>
                  <a:pt x="5291" y="12139"/>
                  <a:pt x="5283" y="12129"/>
                </a:cubicBezTo>
                <a:cubicBezTo>
                  <a:pt x="5255" y="12093"/>
                  <a:pt x="5409" y="11985"/>
                  <a:pt x="5432" y="11956"/>
                </a:cubicBezTo>
                <a:cubicBezTo>
                  <a:pt x="5478" y="11887"/>
                  <a:pt x="5490" y="11867"/>
                  <a:pt x="5531" y="11832"/>
                </a:cubicBezTo>
                <a:cubicBezTo>
                  <a:pt x="5580" y="11832"/>
                  <a:pt x="5398" y="11958"/>
                  <a:pt x="5358" y="12005"/>
                </a:cubicBezTo>
                <a:cubicBezTo>
                  <a:pt x="5305" y="12068"/>
                  <a:pt x="5249" y="12197"/>
                  <a:pt x="5184" y="12229"/>
                </a:cubicBezTo>
                <a:cubicBezTo>
                  <a:pt x="5211" y="12147"/>
                  <a:pt x="5292" y="12042"/>
                  <a:pt x="5358" y="11981"/>
                </a:cubicBezTo>
                <a:cubicBezTo>
                  <a:pt x="5393" y="11949"/>
                  <a:pt x="5449" y="11897"/>
                  <a:pt x="5482" y="11881"/>
                </a:cubicBezTo>
                <a:cubicBezTo>
                  <a:pt x="5386" y="11985"/>
                  <a:pt x="5296" y="12081"/>
                  <a:pt x="5234" y="12204"/>
                </a:cubicBezTo>
                <a:cubicBezTo>
                  <a:pt x="5193" y="12285"/>
                  <a:pt x="5162" y="12254"/>
                  <a:pt x="5234" y="12179"/>
                </a:cubicBezTo>
                <a:cubicBezTo>
                  <a:pt x="5311" y="12099"/>
                  <a:pt x="5457" y="11987"/>
                  <a:pt x="5507" y="11906"/>
                </a:cubicBezTo>
                <a:cubicBezTo>
                  <a:pt x="5507" y="11898"/>
                  <a:pt x="5507" y="11889"/>
                  <a:pt x="5507" y="11881"/>
                </a:cubicBezTo>
                <a:cubicBezTo>
                  <a:pt x="5588" y="11909"/>
                  <a:pt x="5348" y="12087"/>
                  <a:pt x="5333" y="12105"/>
                </a:cubicBezTo>
                <a:cubicBezTo>
                  <a:pt x="5221" y="12236"/>
                  <a:pt x="5275" y="12159"/>
                  <a:pt x="5333" y="12080"/>
                </a:cubicBezTo>
                <a:cubicBezTo>
                  <a:pt x="5394" y="11997"/>
                  <a:pt x="5479" y="11899"/>
                  <a:pt x="5531" y="11832"/>
                </a:cubicBezTo>
                <a:cubicBezTo>
                  <a:pt x="5539" y="11824"/>
                  <a:pt x="5548" y="11815"/>
                  <a:pt x="5556" y="11807"/>
                </a:cubicBezTo>
              </a:path>
              <a:path w="2307" h="5830">
                <a:moveTo>
                  <a:pt x="6201" y="11410"/>
                </a:moveTo>
                <a:cubicBezTo>
                  <a:pt x="6249" y="11429"/>
                  <a:pt x="6286" y="11410"/>
                  <a:pt x="6350" y="11410"/>
                </a:cubicBezTo>
              </a:path>
              <a:path w="2307" h="5830">
                <a:moveTo>
                  <a:pt x="6251" y="11261"/>
                </a:moveTo>
                <a:lnTo>
                  <a:pt x="6251" y="11261"/>
                </a:lnTo>
              </a:path>
              <a:path w="2307" h="5830">
                <a:moveTo>
                  <a:pt x="6300" y="11584"/>
                </a:moveTo>
                <a:cubicBezTo>
                  <a:pt x="6300" y="11592"/>
                  <a:pt x="6300" y="11601"/>
                  <a:pt x="6300" y="11609"/>
                </a:cubicBezTo>
              </a:path>
              <a:path w="2307" h="5830">
                <a:moveTo>
                  <a:pt x="6524" y="11137"/>
                </a:moveTo>
                <a:cubicBezTo>
                  <a:pt x="6445" y="11144"/>
                  <a:pt x="6434" y="11139"/>
                  <a:pt x="6375" y="11187"/>
                </a:cubicBezTo>
                <a:cubicBezTo>
                  <a:pt x="6409" y="11240"/>
                  <a:pt x="6498" y="11226"/>
                  <a:pt x="6524" y="11336"/>
                </a:cubicBezTo>
                <a:cubicBezTo>
                  <a:pt x="6524" y="11361"/>
                  <a:pt x="6524" y="11385"/>
                  <a:pt x="6524" y="11410"/>
                </a:cubicBezTo>
                <a:cubicBezTo>
                  <a:pt x="6439" y="11349"/>
                  <a:pt x="6445" y="11292"/>
                  <a:pt x="6474" y="11187"/>
                </a:cubicBezTo>
                <a:cubicBezTo>
                  <a:pt x="6489" y="11133"/>
                  <a:pt x="6556" y="11131"/>
                  <a:pt x="6499" y="11112"/>
                </a:cubicBezTo>
              </a:path>
              <a:path w="2307" h="5830">
                <a:moveTo>
                  <a:pt x="5854" y="11906"/>
                </a:moveTo>
                <a:cubicBezTo>
                  <a:pt x="5848" y="11950"/>
                  <a:pt x="5850" y="11955"/>
                  <a:pt x="5829" y="11981"/>
                </a:cubicBezTo>
                <a:cubicBezTo>
                  <a:pt x="5821" y="11989"/>
                  <a:pt x="5812" y="11997"/>
                  <a:pt x="5804" y="12005"/>
                </a:cubicBezTo>
                <a:cubicBezTo>
                  <a:pt x="5879" y="11882"/>
                  <a:pt x="5979" y="11787"/>
                  <a:pt x="6077" y="11683"/>
                </a:cubicBezTo>
                <a:cubicBezTo>
                  <a:pt x="6162" y="11593"/>
                  <a:pt x="6247" y="11531"/>
                  <a:pt x="6325" y="11435"/>
                </a:cubicBezTo>
                <a:cubicBezTo>
                  <a:pt x="6403" y="11339"/>
                  <a:pt x="6459" y="11241"/>
                  <a:pt x="6548" y="11162"/>
                </a:cubicBezTo>
                <a:cubicBezTo>
                  <a:pt x="6599" y="11117"/>
                  <a:pt x="6625" y="11061"/>
                  <a:pt x="6672" y="11013"/>
                </a:cubicBezTo>
              </a:path>
              <a:path w="2307" h="5830">
                <a:moveTo>
                  <a:pt x="6052" y="10418"/>
                </a:moveTo>
                <a:cubicBezTo>
                  <a:pt x="6060" y="10410"/>
                  <a:pt x="6069" y="10401"/>
                  <a:pt x="6077" y="10393"/>
                </a:cubicBezTo>
                <a:cubicBezTo>
                  <a:pt x="6077" y="10519"/>
                  <a:pt x="6117" y="10640"/>
                  <a:pt x="6127" y="10765"/>
                </a:cubicBezTo>
                <a:cubicBezTo>
                  <a:pt x="6135" y="10866"/>
                  <a:pt x="6102" y="10941"/>
                  <a:pt x="6102" y="11038"/>
                </a:cubicBezTo>
              </a:path>
              <a:path w="2307" h="5830">
                <a:moveTo>
                  <a:pt x="4911" y="12303"/>
                </a:moveTo>
                <a:cubicBezTo>
                  <a:pt x="4911" y="12251"/>
                  <a:pt x="4882" y="12354"/>
                  <a:pt x="4862" y="12378"/>
                </a:cubicBezTo>
                <a:cubicBezTo>
                  <a:pt x="4804" y="12448"/>
                  <a:pt x="4768" y="12531"/>
                  <a:pt x="4713" y="12601"/>
                </a:cubicBezTo>
                <a:cubicBezTo>
                  <a:pt x="4639" y="12695"/>
                  <a:pt x="4573" y="12791"/>
                  <a:pt x="4514" y="12898"/>
                </a:cubicBezTo>
                <a:cubicBezTo>
                  <a:pt x="4473" y="12972"/>
                  <a:pt x="4436" y="13050"/>
                  <a:pt x="4390" y="13122"/>
                </a:cubicBezTo>
                <a:cubicBezTo>
                  <a:pt x="4368" y="13144"/>
                  <a:pt x="4360" y="13149"/>
                  <a:pt x="4366" y="13171"/>
                </a:cubicBezTo>
              </a:path>
              <a:path w="2307" h="5830">
                <a:moveTo>
                  <a:pt x="4539" y="13717"/>
                </a:moveTo>
                <a:cubicBezTo>
                  <a:pt x="4512" y="13690"/>
                  <a:pt x="4548" y="13639"/>
                  <a:pt x="4589" y="13593"/>
                </a:cubicBezTo>
                <a:cubicBezTo>
                  <a:pt x="4597" y="13585"/>
                  <a:pt x="4606" y="13576"/>
                  <a:pt x="4614" y="13568"/>
                </a:cubicBezTo>
                <a:cubicBezTo>
                  <a:pt x="4745" y="13649"/>
                  <a:pt x="4687" y="13789"/>
                  <a:pt x="4638" y="13915"/>
                </a:cubicBezTo>
                <a:cubicBezTo>
                  <a:pt x="4619" y="13963"/>
                  <a:pt x="4535" y="14127"/>
                  <a:pt x="4490" y="14163"/>
                </a:cubicBezTo>
                <a:cubicBezTo>
                  <a:pt x="4490" y="14155"/>
                  <a:pt x="4490" y="14147"/>
                  <a:pt x="4490" y="14139"/>
                </a:cubicBezTo>
                <a:cubicBezTo>
                  <a:pt x="4514" y="14100"/>
                  <a:pt x="4574" y="13986"/>
                  <a:pt x="4638" y="13990"/>
                </a:cubicBezTo>
                <a:cubicBezTo>
                  <a:pt x="4692" y="13993"/>
                  <a:pt x="4759" y="14051"/>
                  <a:pt x="4812" y="13990"/>
                </a:cubicBezTo>
                <a:cubicBezTo>
                  <a:pt x="4812" y="13955"/>
                  <a:pt x="4821" y="13942"/>
                  <a:pt x="4862" y="13940"/>
                </a:cubicBezTo>
              </a:path>
              <a:path w="2307" h="5830">
                <a:moveTo>
                  <a:pt x="4440" y="15255"/>
                </a:moveTo>
                <a:cubicBezTo>
                  <a:pt x="4432" y="15247"/>
                  <a:pt x="4423" y="15238"/>
                  <a:pt x="4415" y="15230"/>
                </a:cubicBezTo>
                <a:cubicBezTo>
                  <a:pt x="4415" y="15366"/>
                  <a:pt x="4404" y="15494"/>
                  <a:pt x="4390" y="15627"/>
                </a:cubicBezTo>
                <a:cubicBezTo>
                  <a:pt x="4390" y="15644"/>
                  <a:pt x="4390" y="15660"/>
                  <a:pt x="4390" y="15677"/>
                </a:cubicBezTo>
              </a:path>
              <a:path w="2307" h="5830">
                <a:moveTo>
                  <a:pt x="4911" y="14957"/>
                </a:moveTo>
                <a:cubicBezTo>
                  <a:pt x="4861" y="14979"/>
                  <a:pt x="4666" y="15081"/>
                  <a:pt x="4663" y="15131"/>
                </a:cubicBezTo>
                <a:cubicBezTo>
                  <a:pt x="4663" y="15213"/>
                  <a:pt x="4663" y="15246"/>
                  <a:pt x="4663" y="15304"/>
                </a:cubicBezTo>
                <a:cubicBezTo>
                  <a:pt x="4742" y="15285"/>
                  <a:pt x="4759" y="15172"/>
                  <a:pt x="4862" y="15205"/>
                </a:cubicBezTo>
                <a:cubicBezTo>
                  <a:pt x="4998" y="15249"/>
                  <a:pt x="4922" y="15433"/>
                  <a:pt x="4837" y="15478"/>
                </a:cubicBezTo>
                <a:cubicBezTo>
                  <a:pt x="4781" y="15508"/>
                  <a:pt x="4705" y="15520"/>
                  <a:pt x="4688" y="15503"/>
                </a:cubicBezTo>
              </a:path>
              <a:path w="2307" h="5830">
                <a:moveTo>
                  <a:pt x="4366" y="15825"/>
                </a:moveTo>
                <a:cubicBezTo>
                  <a:pt x="4546" y="15739"/>
                  <a:pt x="4730" y="15662"/>
                  <a:pt x="4911" y="15577"/>
                </a:cubicBezTo>
              </a:path>
              <a:path w="2307" h="5830">
                <a:moveTo>
                  <a:pt x="4663" y="15900"/>
                </a:moveTo>
                <a:cubicBezTo>
                  <a:pt x="4710" y="15829"/>
                  <a:pt x="4721" y="15804"/>
                  <a:pt x="4787" y="15825"/>
                </a:cubicBezTo>
                <a:cubicBezTo>
                  <a:pt x="4862" y="15936"/>
                  <a:pt x="4839" y="16112"/>
                  <a:pt x="4688" y="16197"/>
                </a:cubicBezTo>
                <a:cubicBezTo>
                  <a:pt x="4551" y="16274"/>
                  <a:pt x="4551" y="16213"/>
                  <a:pt x="4514" y="16123"/>
                </a:cubicBezTo>
                <a:cubicBezTo>
                  <a:pt x="4603" y="16052"/>
                  <a:pt x="4678" y="16092"/>
                  <a:pt x="4787" y="16098"/>
                </a:cubicBezTo>
                <a:cubicBezTo>
                  <a:pt x="4812" y="16098"/>
                  <a:pt x="4820" y="16098"/>
                  <a:pt x="4837" y="160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55840" y="4732200"/>
            <a:ext cx="44280" cy="90720"/>
          </a:xfrm>
          <a:custGeom>
            <a:avLst/>
            <a:gdLst/>
            <a:ahLst/>
            <a:rect l="l" t="t" r="r" b="b"/>
            <a:pathLst>
              <a:path w="125" h="250">
                <a:moveTo>
                  <a:pt x="4043" y="13295"/>
                </a:moveTo>
                <a:cubicBezTo>
                  <a:pt x="4084" y="13288"/>
                  <a:pt x="4126" y="13278"/>
                  <a:pt x="4167" y="13271"/>
                </a:cubicBezTo>
              </a:path>
              <a:path w="125" h="250">
                <a:moveTo>
                  <a:pt x="4142" y="13146"/>
                </a:moveTo>
                <a:lnTo>
                  <a:pt x="4142" y="13146"/>
                </a:lnTo>
              </a:path>
              <a:path w="125" h="250">
                <a:moveTo>
                  <a:pt x="4167" y="13395"/>
                </a:moveTo>
                <a:lnTo>
                  <a:pt x="4167" y="1339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33680" y="4697280"/>
            <a:ext cx="54000" cy="88920"/>
          </a:xfrm>
          <a:custGeom>
            <a:avLst/>
            <a:gdLst/>
            <a:ahLst/>
            <a:rect l="l" t="t" r="r" b="b"/>
            <a:pathLst>
              <a:path w="150" h="249">
                <a:moveTo>
                  <a:pt x="4638" y="13072"/>
                </a:moveTo>
                <a:cubicBezTo>
                  <a:pt x="4608" y="13042"/>
                  <a:pt x="4591" y="13084"/>
                  <a:pt x="4539" y="13097"/>
                </a:cubicBezTo>
                <a:cubicBezTo>
                  <a:pt x="4613" y="13138"/>
                  <a:pt x="4717" y="13165"/>
                  <a:pt x="4688" y="13271"/>
                </a:cubicBezTo>
                <a:cubicBezTo>
                  <a:pt x="4680" y="13279"/>
                  <a:pt x="4671" y="13287"/>
                  <a:pt x="4663" y="13295"/>
                </a:cubicBezTo>
                <a:cubicBezTo>
                  <a:pt x="4646" y="13246"/>
                  <a:pt x="4612" y="13139"/>
                  <a:pt x="4663" y="13097"/>
                </a:cubicBezTo>
                <a:cubicBezTo>
                  <a:pt x="4688" y="13097"/>
                  <a:pt x="4696" y="13097"/>
                  <a:pt x="4688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57240" y="5180040"/>
            <a:ext cx="938520" cy="623880"/>
          </a:xfrm>
          <a:custGeom>
            <a:avLst/>
            <a:gdLst/>
            <a:ahLst/>
            <a:rect l="l" t="t" r="r" b="b"/>
            <a:pathLst>
              <a:path w="2606" h="1737">
                <a:moveTo>
                  <a:pt x="5159" y="15652"/>
                </a:moveTo>
                <a:cubicBezTo>
                  <a:pt x="5254" y="15692"/>
                  <a:pt x="5293" y="15748"/>
                  <a:pt x="5358" y="15825"/>
                </a:cubicBezTo>
              </a:path>
              <a:path w="2606" h="1737">
                <a:moveTo>
                  <a:pt x="5383" y="15503"/>
                </a:moveTo>
                <a:cubicBezTo>
                  <a:pt x="5352" y="15609"/>
                  <a:pt x="5306" y="15722"/>
                  <a:pt x="5259" y="15825"/>
                </a:cubicBezTo>
                <a:cubicBezTo>
                  <a:pt x="5212" y="15927"/>
                  <a:pt x="5306" y="15727"/>
                  <a:pt x="5358" y="15627"/>
                </a:cubicBezTo>
              </a:path>
              <a:path w="2606" h="1737">
                <a:moveTo>
                  <a:pt x="5755" y="14858"/>
                </a:moveTo>
                <a:cubicBezTo>
                  <a:pt x="5755" y="15007"/>
                  <a:pt x="5755" y="15155"/>
                  <a:pt x="5755" y="15304"/>
                </a:cubicBezTo>
              </a:path>
              <a:path w="2606" h="1737">
                <a:moveTo>
                  <a:pt x="5581" y="15503"/>
                </a:moveTo>
                <a:cubicBezTo>
                  <a:pt x="5719" y="15438"/>
                  <a:pt x="5860" y="15359"/>
                  <a:pt x="6003" y="15304"/>
                </a:cubicBezTo>
                <a:cubicBezTo>
                  <a:pt x="6028" y="15304"/>
                  <a:pt x="6036" y="15304"/>
                  <a:pt x="6028" y="15329"/>
                </a:cubicBezTo>
              </a:path>
              <a:path w="2606" h="1737">
                <a:moveTo>
                  <a:pt x="5829" y="15652"/>
                </a:moveTo>
                <a:cubicBezTo>
                  <a:pt x="5795" y="15754"/>
                  <a:pt x="5804" y="15882"/>
                  <a:pt x="5804" y="15999"/>
                </a:cubicBezTo>
                <a:cubicBezTo>
                  <a:pt x="5804" y="16007"/>
                  <a:pt x="5804" y="16016"/>
                  <a:pt x="5804" y="16024"/>
                </a:cubicBezTo>
              </a:path>
              <a:path w="2606" h="1737">
                <a:moveTo>
                  <a:pt x="6400" y="15304"/>
                </a:moveTo>
                <a:cubicBezTo>
                  <a:pt x="6432" y="15295"/>
                  <a:pt x="6584" y="15203"/>
                  <a:pt x="6623" y="15230"/>
                </a:cubicBezTo>
                <a:cubicBezTo>
                  <a:pt x="6623" y="15238"/>
                  <a:pt x="6623" y="15247"/>
                  <a:pt x="6623" y="15255"/>
                </a:cubicBezTo>
              </a:path>
              <a:path w="2606" h="1737">
                <a:moveTo>
                  <a:pt x="6499" y="15429"/>
                </a:moveTo>
                <a:cubicBezTo>
                  <a:pt x="6566" y="15407"/>
                  <a:pt x="6626" y="15379"/>
                  <a:pt x="6697" y="15379"/>
                </a:cubicBezTo>
              </a:path>
              <a:path w="2606" h="1737">
                <a:moveTo>
                  <a:pt x="7119" y="14635"/>
                </a:moveTo>
                <a:cubicBezTo>
                  <a:pt x="7127" y="14618"/>
                  <a:pt x="7136" y="14602"/>
                  <a:pt x="7144" y="14585"/>
                </a:cubicBezTo>
                <a:cubicBezTo>
                  <a:pt x="7144" y="14729"/>
                  <a:pt x="7129" y="14864"/>
                  <a:pt x="7119" y="15007"/>
                </a:cubicBezTo>
                <a:cubicBezTo>
                  <a:pt x="7119" y="15032"/>
                  <a:pt x="7119" y="15056"/>
                  <a:pt x="7119" y="15081"/>
                </a:cubicBezTo>
              </a:path>
              <a:path w="2606" h="1737">
                <a:moveTo>
                  <a:pt x="7615" y="14387"/>
                </a:moveTo>
                <a:cubicBezTo>
                  <a:pt x="7569" y="14449"/>
                  <a:pt x="7504" y="14512"/>
                  <a:pt x="7466" y="14560"/>
                </a:cubicBezTo>
                <a:cubicBezTo>
                  <a:pt x="7420" y="14619"/>
                  <a:pt x="7441" y="14709"/>
                  <a:pt x="7441" y="14784"/>
                </a:cubicBezTo>
                <a:cubicBezTo>
                  <a:pt x="7500" y="14760"/>
                  <a:pt x="7550" y="14706"/>
                  <a:pt x="7615" y="14684"/>
                </a:cubicBezTo>
                <a:cubicBezTo>
                  <a:pt x="7679" y="14833"/>
                  <a:pt x="7699" y="14938"/>
                  <a:pt x="7516" y="15007"/>
                </a:cubicBezTo>
                <a:cubicBezTo>
                  <a:pt x="7499" y="15007"/>
                  <a:pt x="7483" y="15007"/>
                  <a:pt x="7466" y="15007"/>
                </a:cubicBezTo>
              </a:path>
              <a:path w="2606" h="1737">
                <a:moveTo>
                  <a:pt x="6995" y="15404"/>
                </a:moveTo>
                <a:cubicBezTo>
                  <a:pt x="7172" y="15281"/>
                  <a:pt x="7387" y="15214"/>
                  <a:pt x="7590" y="15131"/>
                </a:cubicBezTo>
                <a:cubicBezTo>
                  <a:pt x="7688" y="15091"/>
                  <a:pt x="7702" y="15075"/>
                  <a:pt x="7764" y="15081"/>
                </a:cubicBezTo>
              </a:path>
              <a:path w="2606" h="1737">
                <a:moveTo>
                  <a:pt x="7342" y="15528"/>
                </a:moveTo>
                <a:cubicBezTo>
                  <a:pt x="7310" y="15539"/>
                  <a:pt x="7303" y="15561"/>
                  <a:pt x="7293" y="15602"/>
                </a:cubicBezTo>
                <a:cubicBezTo>
                  <a:pt x="7293" y="15540"/>
                  <a:pt x="7323" y="15522"/>
                  <a:pt x="7367" y="15478"/>
                </a:cubicBezTo>
                <a:cubicBezTo>
                  <a:pt x="7390" y="15455"/>
                  <a:pt x="7394" y="15447"/>
                  <a:pt x="7417" y="15453"/>
                </a:cubicBezTo>
                <a:cubicBezTo>
                  <a:pt x="7475" y="15588"/>
                  <a:pt x="7454" y="15637"/>
                  <a:pt x="7392" y="15776"/>
                </a:cubicBezTo>
                <a:cubicBezTo>
                  <a:pt x="7337" y="15898"/>
                  <a:pt x="7230" y="15983"/>
                  <a:pt x="7169" y="16098"/>
                </a:cubicBezTo>
                <a:cubicBezTo>
                  <a:pt x="7169" y="16106"/>
                  <a:pt x="7169" y="16115"/>
                  <a:pt x="7169" y="16123"/>
                </a:cubicBezTo>
                <a:cubicBezTo>
                  <a:pt x="7158" y="16063"/>
                  <a:pt x="7205" y="15954"/>
                  <a:pt x="7293" y="15925"/>
                </a:cubicBezTo>
                <a:cubicBezTo>
                  <a:pt x="7360" y="15903"/>
                  <a:pt x="7416" y="16009"/>
                  <a:pt x="7491" y="15974"/>
                </a:cubicBezTo>
                <a:cubicBezTo>
                  <a:pt x="7546" y="15948"/>
                  <a:pt x="7537" y="15913"/>
                  <a:pt x="7590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32080" y="5099040"/>
            <a:ext cx="652680" cy="982800"/>
          </a:xfrm>
          <a:custGeom>
            <a:avLst/>
            <a:gdLst/>
            <a:ahLst/>
            <a:rect l="l" t="t" r="r" b="b"/>
            <a:pathLst>
              <a:path w="1812" h="2730">
                <a:moveTo>
                  <a:pt x="9823" y="15032"/>
                </a:moveTo>
                <a:cubicBezTo>
                  <a:pt x="9859" y="14921"/>
                  <a:pt x="9817" y="15189"/>
                  <a:pt x="9798" y="15304"/>
                </a:cubicBezTo>
                <a:cubicBezTo>
                  <a:pt x="9778" y="15422"/>
                  <a:pt x="9784" y="15443"/>
                  <a:pt x="9748" y="15503"/>
                </a:cubicBezTo>
              </a:path>
              <a:path w="1812" h="2730">
                <a:moveTo>
                  <a:pt x="10344" y="14808"/>
                </a:moveTo>
                <a:cubicBezTo>
                  <a:pt x="10315" y="14847"/>
                  <a:pt x="10204" y="14869"/>
                  <a:pt x="10170" y="14908"/>
                </a:cubicBezTo>
                <a:cubicBezTo>
                  <a:pt x="10129" y="14955"/>
                  <a:pt x="10154" y="15073"/>
                  <a:pt x="10120" y="15106"/>
                </a:cubicBezTo>
                <a:cubicBezTo>
                  <a:pt x="10179" y="15093"/>
                  <a:pt x="10334" y="14988"/>
                  <a:pt x="10368" y="15106"/>
                </a:cubicBezTo>
                <a:cubicBezTo>
                  <a:pt x="10420" y="15288"/>
                  <a:pt x="10291" y="15363"/>
                  <a:pt x="10145" y="15379"/>
                </a:cubicBezTo>
                <a:cubicBezTo>
                  <a:pt x="10137" y="15379"/>
                  <a:pt x="10128" y="15379"/>
                  <a:pt x="10120" y="15379"/>
                </a:cubicBezTo>
              </a:path>
              <a:path w="1812" h="2730">
                <a:moveTo>
                  <a:pt x="9599" y="15801"/>
                </a:moveTo>
                <a:cubicBezTo>
                  <a:pt x="9578" y="15652"/>
                  <a:pt x="9573" y="15504"/>
                  <a:pt x="9550" y="15354"/>
                </a:cubicBezTo>
                <a:cubicBezTo>
                  <a:pt x="9532" y="15239"/>
                  <a:pt x="9506" y="15122"/>
                  <a:pt x="9500" y="15007"/>
                </a:cubicBezTo>
                <a:cubicBezTo>
                  <a:pt x="9495" y="14919"/>
                  <a:pt x="9624" y="14931"/>
                  <a:pt x="9699" y="14908"/>
                </a:cubicBezTo>
                <a:cubicBezTo>
                  <a:pt x="9969" y="14824"/>
                  <a:pt x="10246" y="14764"/>
                  <a:pt x="10517" y="14684"/>
                </a:cubicBezTo>
                <a:cubicBezTo>
                  <a:pt x="10629" y="14651"/>
                  <a:pt x="10683" y="14635"/>
                  <a:pt x="10790" y="14635"/>
                </a:cubicBezTo>
                <a:cubicBezTo>
                  <a:pt x="10782" y="14635"/>
                  <a:pt x="10773" y="14635"/>
                  <a:pt x="10765" y="14635"/>
                </a:cubicBezTo>
              </a:path>
              <a:path w="1812" h="2730">
                <a:moveTo>
                  <a:pt x="9203" y="15131"/>
                </a:moveTo>
                <a:cubicBezTo>
                  <a:pt x="9188" y="15190"/>
                  <a:pt x="9168" y="15221"/>
                  <a:pt x="9153" y="15280"/>
                </a:cubicBezTo>
                <a:cubicBezTo>
                  <a:pt x="9118" y="15233"/>
                  <a:pt x="9125" y="15124"/>
                  <a:pt x="9203" y="15106"/>
                </a:cubicBezTo>
                <a:cubicBezTo>
                  <a:pt x="9405" y="15058"/>
                  <a:pt x="9222" y="15497"/>
                  <a:pt x="9203" y="15528"/>
                </a:cubicBezTo>
                <a:cubicBezTo>
                  <a:pt x="9143" y="15626"/>
                  <a:pt x="9077" y="15684"/>
                  <a:pt x="8979" y="15726"/>
                </a:cubicBezTo>
                <a:cubicBezTo>
                  <a:pt x="8993" y="15631"/>
                  <a:pt x="9069" y="15577"/>
                  <a:pt x="9178" y="15602"/>
                </a:cubicBezTo>
                <a:cubicBezTo>
                  <a:pt x="9242" y="15617"/>
                  <a:pt x="9367" y="15677"/>
                  <a:pt x="9302" y="15677"/>
                </a:cubicBezTo>
              </a:path>
              <a:path w="1812" h="2730">
                <a:moveTo>
                  <a:pt x="10046" y="14238"/>
                </a:moveTo>
                <a:cubicBezTo>
                  <a:pt x="10046" y="14323"/>
                  <a:pt x="10048" y="14356"/>
                  <a:pt x="10021" y="14436"/>
                </a:cubicBezTo>
                <a:cubicBezTo>
                  <a:pt x="10021" y="14380"/>
                  <a:pt x="10009" y="14333"/>
                  <a:pt x="10046" y="14288"/>
                </a:cubicBezTo>
                <a:cubicBezTo>
                  <a:pt x="10121" y="14197"/>
                  <a:pt x="10157" y="14253"/>
                  <a:pt x="10244" y="14213"/>
                </a:cubicBezTo>
                <a:cubicBezTo>
                  <a:pt x="10278" y="14197"/>
                  <a:pt x="10286" y="14188"/>
                  <a:pt x="10294" y="14163"/>
                </a:cubicBezTo>
                <a:cubicBezTo>
                  <a:pt x="10280" y="14304"/>
                  <a:pt x="10239" y="14444"/>
                  <a:pt x="10220" y="14585"/>
                </a:cubicBezTo>
                <a:cubicBezTo>
                  <a:pt x="10220" y="14627"/>
                  <a:pt x="10220" y="14635"/>
                  <a:pt x="10220" y="14660"/>
                </a:cubicBezTo>
              </a:path>
              <a:path w="1812" h="2730">
                <a:moveTo>
                  <a:pt x="9823" y="15726"/>
                </a:moveTo>
                <a:lnTo>
                  <a:pt x="9823" y="15726"/>
                </a:lnTo>
                <a:lnTo>
                  <a:pt x="9823" y="15751"/>
                </a:lnTo>
                <a:lnTo>
                  <a:pt x="9823" y="15776"/>
                </a:lnTo>
                <a:lnTo>
                  <a:pt x="9847" y="15925"/>
                </a:lnTo>
                <a:lnTo>
                  <a:pt x="9823" y="16073"/>
                </a:lnTo>
                <a:lnTo>
                  <a:pt x="9823" y="16148"/>
                </a:lnTo>
                <a:lnTo>
                  <a:pt x="9823" y="16148"/>
                </a:lnTo>
                <a:lnTo>
                  <a:pt x="9823" y="16123"/>
                </a:lnTo>
                <a:lnTo>
                  <a:pt x="9823" y="16123"/>
                </a:lnTo>
              </a:path>
              <a:path w="1812" h="2730">
                <a:moveTo>
                  <a:pt x="10145" y="15776"/>
                </a:moveTo>
                <a:cubicBezTo>
                  <a:pt x="10138" y="15837"/>
                  <a:pt x="10129" y="15873"/>
                  <a:pt x="10096" y="15925"/>
                </a:cubicBezTo>
                <a:cubicBezTo>
                  <a:pt x="10182" y="15914"/>
                  <a:pt x="10260" y="15873"/>
                  <a:pt x="10344" y="15850"/>
                </a:cubicBezTo>
                <a:cubicBezTo>
                  <a:pt x="10352" y="15850"/>
                  <a:pt x="10360" y="15850"/>
                  <a:pt x="10368" y="15850"/>
                </a:cubicBezTo>
              </a:path>
              <a:path w="1812" h="2730">
                <a:moveTo>
                  <a:pt x="10344" y="15528"/>
                </a:moveTo>
                <a:cubicBezTo>
                  <a:pt x="10305" y="15692"/>
                  <a:pt x="10342" y="15896"/>
                  <a:pt x="10294" y="16049"/>
                </a:cubicBezTo>
                <a:cubicBezTo>
                  <a:pt x="10286" y="16049"/>
                  <a:pt x="10277" y="16049"/>
                  <a:pt x="10269" y="16049"/>
                </a:cubicBezTo>
              </a:path>
              <a:path w="1812" h="2730">
                <a:moveTo>
                  <a:pt x="9426" y="16073"/>
                </a:moveTo>
                <a:cubicBezTo>
                  <a:pt x="9500" y="16073"/>
                  <a:pt x="9575" y="16073"/>
                  <a:pt x="9649" y="16073"/>
                </a:cubicBezTo>
              </a:path>
              <a:path w="1812" h="2730">
                <a:moveTo>
                  <a:pt x="9550" y="16371"/>
                </a:moveTo>
                <a:cubicBezTo>
                  <a:pt x="9689" y="16278"/>
                  <a:pt x="9885" y="16268"/>
                  <a:pt x="10046" y="16222"/>
                </a:cubicBezTo>
                <a:cubicBezTo>
                  <a:pt x="10172" y="16186"/>
                  <a:pt x="10301" y="16141"/>
                  <a:pt x="10418" y="16098"/>
                </a:cubicBezTo>
                <a:cubicBezTo>
                  <a:pt x="10426" y="16098"/>
                  <a:pt x="10435" y="16098"/>
                  <a:pt x="10443" y="16098"/>
                </a:cubicBezTo>
              </a:path>
              <a:path w="1812" h="2730">
                <a:moveTo>
                  <a:pt x="10195" y="16570"/>
                </a:moveTo>
                <a:cubicBezTo>
                  <a:pt x="10195" y="16553"/>
                  <a:pt x="10181" y="16461"/>
                  <a:pt x="10195" y="16520"/>
                </a:cubicBezTo>
                <a:cubicBezTo>
                  <a:pt x="10224" y="16648"/>
                  <a:pt x="10195" y="16761"/>
                  <a:pt x="10195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17800" y="5956200"/>
            <a:ext cx="822240" cy="679680"/>
          </a:xfrm>
          <a:custGeom>
            <a:avLst/>
            <a:gdLst/>
            <a:ahLst/>
            <a:rect l="l" t="t" r="r" b="b"/>
            <a:pathLst>
              <a:path w="2283" h="1886">
                <a:moveTo>
                  <a:pt x="5879" y="17239"/>
                </a:moveTo>
                <a:cubicBezTo>
                  <a:pt x="5910" y="17208"/>
                  <a:pt x="5916" y="17367"/>
                  <a:pt x="5928" y="17413"/>
                </a:cubicBezTo>
                <a:cubicBezTo>
                  <a:pt x="5936" y="17438"/>
                  <a:pt x="5945" y="17462"/>
                  <a:pt x="5953" y="17487"/>
                </a:cubicBezTo>
                <a:cubicBezTo>
                  <a:pt x="5942" y="17431"/>
                  <a:pt x="5889" y="17333"/>
                  <a:pt x="5978" y="17314"/>
                </a:cubicBezTo>
                <a:cubicBezTo>
                  <a:pt x="6068" y="17295"/>
                  <a:pt x="6191" y="17299"/>
                  <a:pt x="6276" y="17264"/>
                </a:cubicBezTo>
                <a:cubicBezTo>
                  <a:pt x="6314" y="17249"/>
                  <a:pt x="6359" y="17222"/>
                  <a:pt x="6375" y="17190"/>
                </a:cubicBezTo>
                <a:cubicBezTo>
                  <a:pt x="6375" y="17462"/>
                  <a:pt x="6394" y="17747"/>
                  <a:pt x="6350" y="18008"/>
                </a:cubicBezTo>
                <a:cubicBezTo>
                  <a:pt x="6350" y="18050"/>
                  <a:pt x="6350" y="18058"/>
                  <a:pt x="6350" y="18083"/>
                </a:cubicBezTo>
              </a:path>
              <a:path w="2283" h="1886">
                <a:moveTo>
                  <a:pt x="6896" y="16867"/>
                </a:moveTo>
                <a:cubicBezTo>
                  <a:pt x="6896" y="16842"/>
                  <a:pt x="6896" y="16834"/>
                  <a:pt x="6896" y="16818"/>
                </a:cubicBezTo>
                <a:cubicBezTo>
                  <a:pt x="6915" y="16984"/>
                  <a:pt x="6938" y="17146"/>
                  <a:pt x="6945" y="17314"/>
                </a:cubicBezTo>
              </a:path>
              <a:path w="2283" h="1886">
                <a:moveTo>
                  <a:pt x="6846" y="17512"/>
                </a:moveTo>
                <a:cubicBezTo>
                  <a:pt x="6970" y="17496"/>
                  <a:pt x="7100" y="17413"/>
                  <a:pt x="7218" y="17363"/>
                </a:cubicBezTo>
                <a:cubicBezTo>
                  <a:pt x="7259" y="17343"/>
                  <a:pt x="7265" y="17334"/>
                  <a:pt x="7293" y="17338"/>
                </a:cubicBezTo>
              </a:path>
              <a:path w="2283" h="1886">
                <a:moveTo>
                  <a:pt x="6945" y="17711"/>
                </a:moveTo>
                <a:cubicBezTo>
                  <a:pt x="6921" y="17711"/>
                  <a:pt x="6912" y="17711"/>
                  <a:pt x="6896" y="17711"/>
                </a:cubicBezTo>
                <a:cubicBezTo>
                  <a:pt x="6910" y="17640"/>
                  <a:pt x="6944" y="17562"/>
                  <a:pt x="7020" y="17537"/>
                </a:cubicBezTo>
                <a:cubicBezTo>
                  <a:pt x="7149" y="17494"/>
                  <a:pt x="7106" y="17765"/>
                  <a:pt x="7094" y="17810"/>
                </a:cubicBezTo>
                <a:cubicBezTo>
                  <a:pt x="7085" y="17844"/>
                  <a:pt x="7023" y="18089"/>
                  <a:pt x="6995" y="18033"/>
                </a:cubicBezTo>
                <a:cubicBezTo>
                  <a:pt x="7006" y="17945"/>
                  <a:pt x="7029" y="17901"/>
                  <a:pt x="7144" y="17909"/>
                </a:cubicBezTo>
                <a:cubicBezTo>
                  <a:pt x="7263" y="17918"/>
                  <a:pt x="7253" y="17929"/>
                  <a:pt x="7342" y="17884"/>
                </a:cubicBezTo>
              </a:path>
              <a:path w="2283" h="1886">
                <a:moveTo>
                  <a:pt x="5928" y="18405"/>
                </a:moveTo>
                <a:cubicBezTo>
                  <a:pt x="6084" y="18413"/>
                  <a:pt x="6216" y="18433"/>
                  <a:pt x="6375" y="18405"/>
                </a:cubicBezTo>
                <a:cubicBezTo>
                  <a:pt x="6676" y="18352"/>
                  <a:pt x="6940" y="18249"/>
                  <a:pt x="7218" y="18132"/>
                </a:cubicBezTo>
                <a:cubicBezTo>
                  <a:pt x="7477" y="18023"/>
                  <a:pt x="7704" y="17899"/>
                  <a:pt x="7838" y="17636"/>
                </a:cubicBezTo>
                <a:cubicBezTo>
                  <a:pt x="7919" y="17478"/>
                  <a:pt x="7903" y="17229"/>
                  <a:pt x="7838" y="17066"/>
                </a:cubicBezTo>
                <a:cubicBezTo>
                  <a:pt x="7767" y="16886"/>
                  <a:pt x="7604" y="16687"/>
                  <a:pt x="7417" y="16619"/>
                </a:cubicBezTo>
                <a:cubicBezTo>
                  <a:pt x="7249" y="16558"/>
                  <a:pt x="7023" y="16549"/>
                  <a:pt x="6846" y="16545"/>
                </a:cubicBezTo>
                <a:cubicBezTo>
                  <a:pt x="6642" y="16541"/>
                  <a:pt x="6495" y="16579"/>
                  <a:pt x="6300" y="16619"/>
                </a:cubicBezTo>
                <a:cubicBezTo>
                  <a:pt x="6042" y="16672"/>
                  <a:pt x="5831" y="16709"/>
                  <a:pt x="5705" y="16966"/>
                </a:cubicBezTo>
                <a:cubicBezTo>
                  <a:pt x="5620" y="17139"/>
                  <a:pt x="5572" y="17343"/>
                  <a:pt x="5606" y="17537"/>
                </a:cubicBezTo>
                <a:cubicBezTo>
                  <a:pt x="5648" y="17778"/>
                  <a:pt x="5761" y="18025"/>
                  <a:pt x="5953" y="18182"/>
                </a:cubicBezTo>
                <a:cubicBezTo>
                  <a:pt x="6090" y="18294"/>
                  <a:pt x="6241" y="18273"/>
                  <a:pt x="6400" y="18306"/>
                </a:cubicBezTo>
                <a:cubicBezTo>
                  <a:pt x="6470" y="18321"/>
                  <a:pt x="6457" y="18306"/>
                  <a:pt x="6474" y="183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57960" y="2643120"/>
            <a:ext cx="1384200" cy="884160"/>
          </a:xfrm>
          <a:custGeom>
            <a:avLst/>
            <a:gdLst/>
            <a:ahLst/>
            <a:rect l="l" t="t" r="r" b="b"/>
            <a:pathLst>
              <a:path w="3846" h="2457">
                <a:moveTo>
                  <a:pt x="18231" y="8781"/>
                </a:moveTo>
                <a:cubicBezTo>
                  <a:pt x="18230" y="8779"/>
                  <a:pt x="18290" y="8726"/>
                  <a:pt x="18157" y="8731"/>
                </a:cubicBezTo>
                <a:cubicBezTo>
                  <a:pt x="18103" y="8733"/>
                  <a:pt x="18052" y="8763"/>
                  <a:pt x="18008" y="8781"/>
                </a:cubicBezTo>
                <a:cubicBezTo>
                  <a:pt x="17924" y="8815"/>
                  <a:pt x="17834" y="8844"/>
                  <a:pt x="17785" y="8930"/>
                </a:cubicBezTo>
                <a:cubicBezTo>
                  <a:pt x="17728" y="9030"/>
                  <a:pt x="17715" y="9123"/>
                  <a:pt x="17686" y="9227"/>
                </a:cubicBezTo>
                <a:cubicBezTo>
                  <a:pt x="17658" y="9329"/>
                  <a:pt x="17676" y="9369"/>
                  <a:pt x="17711" y="9475"/>
                </a:cubicBezTo>
                <a:cubicBezTo>
                  <a:pt x="17739" y="9559"/>
                  <a:pt x="17786" y="9667"/>
                  <a:pt x="17859" y="9723"/>
                </a:cubicBezTo>
                <a:cubicBezTo>
                  <a:pt x="17934" y="9780"/>
                  <a:pt x="18067" y="9795"/>
                  <a:pt x="18157" y="9798"/>
                </a:cubicBezTo>
                <a:cubicBezTo>
                  <a:pt x="18274" y="9802"/>
                  <a:pt x="18370" y="9793"/>
                  <a:pt x="18479" y="9748"/>
                </a:cubicBezTo>
                <a:cubicBezTo>
                  <a:pt x="18552" y="9718"/>
                  <a:pt x="18645" y="9701"/>
                  <a:pt x="18703" y="9649"/>
                </a:cubicBezTo>
                <a:cubicBezTo>
                  <a:pt x="18767" y="9592"/>
                  <a:pt x="18821" y="9532"/>
                  <a:pt x="18852" y="9451"/>
                </a:cubicBezTo>
                <a:cubicBezTo>
                  <a:pt x="18876" y="9389"/>
                  <a:pt x="18897" y="9316"/>
                  <a:pt x="18901" y="9252"/>
                </a:cubicBezTo>
                <a:cubicBezTo>
                  <a:pt x="18905" y="9184"/>
                  <a:pt x="18897" y="9141"/>
                  <a:pt x="18876" y="9079"/>
                </a:cubicBezTo>
                <a:cubicBezTo>
                  <a:pt x="18866" y="9048"/>
                  <a:pt x="18849" y="8974"/>
                  <a:pt x="18827" y="8954"/>
                </a:cubicBezTo>
                <a:cubicBezTo>
                  <a:pt x="18790" y="8920"/>
                  <a:pt x="18733" y="8853"/>
                  <a:pt x="18703" y="8830"/>
                </a:cubicBezTo>
                <a:cubicBezTo>
                  <a:pt x="18651" y="8790"/>
                  <a:pt x="18600" y="8793"/>
                  <a:pt x="18554" y="8756"/>
                </a:cubicBezTo>
                <a:cubicBezTo>
                  <a:pt x="18520" y="8729"/>
                  <a:pt x="18428" y="8693"/>
                  <a:pt x="18380" y="8682"/>
                </a:cubicBezTo>
                <a:cubicBezTo>
                  <a:pt x="18302" y="8665"/>
                  <a:pt x="18147" y="8667"/>
                  <a:pt x="18083" y="8706"/>
                </a:cubicBezTo>
                <a:cubicBezTo>
                  <a:pt x="18058" y="8706"/>
                  <a:pt x="18050" y="8706"/>
                  <a:pt x="18058" y="8731"/>
                </a:cubicBezTo>
              </a:path>
              <a:path w="3846" h="2457">
                <a:moveTo>
                  <a:pt x="18083" y="8905"/>
                </a:moveTo>
                <a:cubicBezTo>
                  <a:pt x="17995" y="9015"/>
                  <a:pt x="17904" y="9122"/>
                  <a:pt x="17810" y="9227"/>
                </a:cubicBezTo>
              </a:path>
              <a:path w="3846" h="2457">
                <a:moveTo>
                  <a:pt x="18256" y="8781"/>
                </a:moveTo>
                <a:cubicBezTo>
                  <a:pt x="18206" y="8907"/>
                  <a:pt x="18078" y="9051"/>
                  <a:pt x="18008" y="9178"/>
                </a:cubicBezTo>
                <a:cubicBezTo>
                  <a:pt x="17950" y="9283"/>
                  <a:pt x="17878" y="9436"/>
                  <a:pt x="18033" y="9203"/>
                </a:cubicBezTo>
              </a:path>
              <a:path w="3846" h="2457">
                <a:moveTo>
                  <a:pt x="18331" y="8880"/>
                </a:moveTo>
                <a:cubicBezTo>
                  <a:pt x="18213" y="9069"/>
                  <a:pt x="18101" y="9262"/>
                  <a:pt x="17983" y="9451"/>
                </a:cubicBezTo>
                <a:cubicBezTo>
                  <a:pt x="17880" y="9616"/>
                  <a:pt x="17967" y="9468"/>
                  <a:pt x="17983" y="9426"/>
                </a:cubicBezTo>
              </a:path>
              <a:path w="3846" h="2457">
                <a:moveTo>
                  <a:pt x="18430" y="8905"/>
                </a:moveTo>
                <a:cubicBezTo>
                  <a:pt x="18399" y="9057"/>
                  <a:pt x="18283" y="9171"/>
                  <a:pt x="18207" y="9302"/>
                </a:cubicBezTo>
                <a:cubicBezTo>
                  <a:pt x="18113" y="9463"/>
                  <a:pt x="18064" y="9591"/>
                  <a:pt x="18231" y="9327"/>
                </a:cubicBezTo>
              </a:path>
              <a:path w="3846" h="2457">
                <a:moveTo>
                  <a:pt x="18529" y="9029"/>
                </a:moveTo>
                <a:cubicBezTo>
                  <a:pt x="18465" y="9203"/>
                  <a:pt x="18408" y="9378"/>
                  <a:pt x="18331" y="9550"/>
                </a:cubicBezTo>
                <a:cubicBezTo>
                  <a:pt x="18273" y="9679"/>
                  <a:pt x="18431" y="9423"/>
                  <a:pt x="18504" y="9302"/>
                </a:cubicBezTo>
              </a:path>
              <a:path w="3846" h="2457">
                <a:moveTo>
                  <a:pt x="18653" y="9153"/>
                </a:moveTo>
                <a:cubicBezTo>
                  <a:pt x="18599" y="9276"/>
                  <a:pt x="18552" y="9399"/>
                  <a:pt x="18504" y="9525"/>
                </a:cubicBezTo>
              </a:path>
              <a:path w="3846" h="2457">
                <a:moveTo>
                  <a:pt x="18504" y="9525"/>
                </a:moveTo>
                <a:lnTo>
                  <a:pt x="18504" y="9525"/>
                </a:lnTo>
              </a:path>
              <a:path w="3846" h="2457">
                <a:moveTo>
                  <a:pt x="19918" y="8731"/>
                </a:moveTo>
                <a:cubicBezTo>
                  <a:pt x="19832" y="8705"/>
                  <a:pt x="19789" y="8697"/>
                  <a:pt x="19695" y="8731"/>
                </a:cubicBezTo>
                <a:cubicBezTo>
                  <a:pt x="19606" y="8764"/>
                  <a:pt x="19514" y="8873"/>
                  <a:pt x="19472" y="8954"/>
                </a:cubicBezTo>
                <a:cubicBezTo>
                  <a:pt x="19428" y="9040"/>
                  <a:pt x="19410" y="9159"/>
                  <a:pt x="19397" y="9252"/>
                </a:cubicBezTo>
                <a:cubicBezTo>
                  <a:pt x="19388" y="9320"/>
                  <a:pt x="19431" y="9493"/>
                  <a:pt x="19472" y="9550"/>
                </a:cubicBezTo>
                <a:cubicBezTo>
                  <a:pt x="19534" y="9636"/>
                  <a:pt x="19631" y="9651"/>
                  <a:pt x="19720" y="9674"/>
                </a:cubicBezTo>
                <a:cubicBezTo>
                  <a:pt x="19821" y="9700"/>
                  <a:pt x="19915" y="9679"/>
                  <a:pt x="20017" y="9649"/>
                </a:cubicBezTo>
                <a:cubicBezTo>
                  <a:pt x="20097" y="9625"/>
                  <a:pt x="20220" y="9597"/>
                  <a:pt x="20290" y="9550"/>
                </a:cubicBezTo>
                <a:cubicBezTo>
                  <a:pt x="20333" y="9521"/>
                  <a:pt x="20411" y="9437"/>
                  <a:pt x="20439" y="9401"/>
                </a:cubicBezTo>
                <a:cubicBezTo>
                  <a:pt x="20464" y="9370"/>
                  <a:pt x="20531" y="9267"/>
                  <a:pt x="20538" y="9227"/>
                </a:cubicBezTo>
                <a:cubicBezTo>
                  <a:pt x="20551" y="9158"/>
                  <a:pt x="20540" y="9084"/>
                  <a:pt x="20513" y="9029"/>
                </a:cubicBezTo>
                <a:cubicBezTo>
                  <a:pt x="20498" y="8998"/>
                  <a:pt x="20469" y="8930"/>
                  <a:pt x="20439" y="8905"/>
                </a:cubicBezTo>
                <a:cubicBezTo>
                  <a:pt x="20407" y="8878"/>
                  <a:pt x="20350" y="8861"/>
                  <a:pt x="20315" y="8830"/>
                </a:cubicBezTo>
                <a:cubicBezTo>
                  <a:pt x="20305" y="8821"/>
                  <a:pt x="20264" y="8788"/>
                  <a:pt x="20241" y="8781"/>
                </a:cubicBezTo>
                <a:cubicBezTo>
                  <a:pt x="20202" y="8770"/>
                  <a:pt x="20175" y="8741"/>
                  <a:pt x="20141" y="8731"/>
                </a:cubicBezTo>
                <a:cubicBezTo>
                  <a:pt x="20086" y="8715"/>
                  <a:pt x="20099" y="8726"/>
                  <a:pt x="20042" y="8706"/>
                </a:cubicBezTo>
                <a:cubicBezTo>
                  <a:pt x="19992" y="8689"/>
                  <a:pt x="19970" y="8687"/>
                  <a:pt x="19918" y="8682"/>
                </a:cubicBezTo>
                <a:cubicBezTo>
                  <a:pt x="19904" y="8718"/>
                  <a:pt x="19895" y="8738"/>
                  <a:pt x="19893" y="8781"/>
                </a:cubicBezTo>
                <a:cubicBezTo>
                  <a:pt x="19890" y="8856"/>
                  <a:pt x="19915" y="8908"/>
                  <a:pt x="19918" y="8979"/>
                </a:cubicBezTo>
                <a:cubicBezTo>
                  <a:pt x="19921" y="9041"/>
                  <a:pt x="19933" y="9080"/>
                  <a:pt x="19943" y="9128"/>
                </a:cubicBezTo>
                <a:cubicBezTo>
                  <a:pt x="19952" y="9175"/>
                  <a:pt x="19901" y="9226"/>
                  <a:pt x="19869" y="9252"/>
                </a:cubicBezTo>
                <a:cubicBezTo>
                  <a:pt x="19817" y="9294"/>
                  <a:pt x="19771" y="9329"/>
                  <a:pt x="19720" y="9376"/>
                </a:cubicBezTo>
                <a:cubicBezTo>
                  <a:pt x="19672" y="9421"/>
                  <a:pt x="19629" y="9470"/>
                  <a:pt x="19596" y="9525"/>
                </a:cubicBezTo>
                <a:cubicBezTo>
                  <a:pt x="19589" y="9537"/>
                  <a:pt x="19518" y="9611"/>
                  <a:pt x="19521" y="9624"/>
                </a:cubicBezTo>
                <a:cubicBezTo>
                  <a:pt x="19529" y="9624"/>
                  <a:pt x="19538" y="9624"/>
                  <a:pt x="19546" y="9624"/>
                </a:cubicBezTo>
                <a:cubicBezTo>
                  <a:pt x="19586" y="9565"/>
                  <a:pt x="19630" y="9476"/>
                  <a:pt x="19695" y="9426"/>
                </a:cubicBezTo>
                <a:cubicBezTo>
                  <a:pt x="19752" y="9382"/>
                  <a:pt x="19791" y="9330"/>
                  <a:pt x="19844" y="9277"/>
                </a:cubicBezTo>
                <a:cubicBezTo>
                  <a:pt x="19893" y="9228"/>
                  <a:pt x="19860" y="9250"/>
                  <a:pt x="19918" y="9227"/>
                </a:cubicBezTo>
                <a:cubicBezTo>
                  <a:pt x="19940" y="9218"/>
                  <a:pt x="19987" y="9203"/>
                  <a:pt x="20042" y="9203"/>
                </a:cubicBezTo>
                <a:cubicBezTo>
                  <a:pt x="20099" y="9203"/>
                  <a:pt x="20123" y="9222"/>
                  <a:pt x="20166" y="9252"/>
                </a:cubicBezTo>
                <a:cubicBezTo>
                  <a:pt x="20194" y="9271"/>
                  <a:pt x="20325" y="9346"/>
                  <a:pt x="20340" y="9351"/>
                </a:cubicBezTo>
                <a:cubicBezTo>
                  <a:pt x="20365" y="9351"/>
                  <a:pt x="20373" y="9351"/>
                  <a:pt x="20389" y="9351"/>
                </a:cubicBezTo>
              </a:path>
              <a:path w="3846" h="2457">
                <a:moveTo>
                  <a:pt x="20166" y="8806"/>
                </a:moveTo>
                <a:cubicBezTo>
                  <a:pt x="20134" y="8816"/>
                  <a:pt x="20080" y="8926"/>
                  <a:pt x="20067" y="8930"/>
                </a:cubicBezTo>
                <a:cubicBezTo>
                  <a:pt x="20067" y="8890"/>
                  <a:pt x="20078" y="8871"/>
                  <a:pt x="20117" y="8855"/>
                </a:cubicBezTo>
              </a:path>
              <a:path w="3846" h="2457">
                <a:moveTo>
                  <a:pt x="20141" y="8756"/>
                </a:moveTo>
                <a:cubicBezTo>
                  <a:pt x="20129" y="8784"/>
                  <a:pt x="20015" y="9026"/>
                  <a:pt x="20042" y="9004"/>
                </a:cubicBezTo>
                <a:cubicBezTo>
                  <a:pt x="20067" y="8979"/>
                  <a:pt x="20092" y="8955"/>
                  <a:pt x="20117" y="8930"/>
                </a:cubicBezTo>
              </a:path>
              <a:path w="3846" h="2457">
                <a:moveTo>
                  <a:pt x="20166" y="8905"/>
                </a:moveTo>
                <a:cubicBezTo>
                  <a:pt x="20106" y="9004"/>
                  <a:pt x="20005" y="9077"/>
                  <a:pt x="20092" y="9079"/>
                </a:cubicBezTo>
              </a:path>
              <a:path w="3846" h="2457">
                <a:moveTo>
                  <a:pt x="20092" y="9079"/>
                </a:moveTo>
                <a:lnTo>
                  <a:pt x="20092" y="9079"/>
                </a:lnTo>
              </a:path>
              <a:path w="3846" h="2457">
                <a:moveTo>
                  <a:pt x="20340" y="8880"/>
                </a:moveTo>
                <a:cubicBezTo>
                  <a:pt x="20281" y="8948"/>
                  <a:pt x="20017" y="9197"/>
                  <a:pt x="20017" y="9277"/>
                </a:cubicBezTo>
                <a:cubicBezTo>
                  <a:pt x="20109" y="9277"/>
                  <a:pt x="20155" y="9247"/>
                  <a:pt x="20191" y="9153"/>
                </a:cubicBezTo>
              </a:path>
              <a:path w="3846" h="2457">
                <a:moveTo>
                  <a:pt x="20241" y="9128"/>
                </a:moveTo>
                <a:cubicBezTo>
                  <a:pt x="20167" y="9195"/>
                  <a:pt x="19902" y="9385"/>
                  <a:pt x="19893" y="9401"/>
                </a:cubicBezTo>
              </a:path>
              <a:path w="3846" h="2457">
                <a:moveTo>
                  <a:pt x="19869" y="9376"/>
                </a:moveTo>
                <a:cubicBezTo>
                  <a:pt x="19673" y="9570"/>
                  <a:pt x="19782" y="9480"/>
                  <a:pt x="19918" y="9376"/>
                </a:cubicBezTo>
              </a:path>
              <a:path w="3846" h="2457">
                <a:moveTo>
                  <a:pt x="19993" y="9351"/>
                </a:moveTo>
                <a:cubicBezTo>
                  <a:pt x="19968" y="9368"/>
                  <a:pt x="19943" y="9384"/>
                  <a:pt x="19918" y="9401"/>
                </a:cubicBezTo>
                <a:cubicBezTo>
                  <a:pt x="19964" y="9470"/>
                  <a:pt x="20132" y="9288"/>
                  <a:pt x="20191" y="9252"/>
                </a:cubicBezTo>
                <a:cubicBezTo>
                  <a:pt x="20435" y="9104"/>
                  <a:pt x="20156" y="9402"/>
                  <a:pt x="20117" y="9451"/>
                </a:cubicBezTo>
                <a:cubicBezTo>
                  <a:pt x="20078" y="9489"/>
                  <a:pt x="20046" y="9506"/>
                  <a:pt x="20092" y="9500"/>
                </a:cubicBezTo>
                <a:cubicBezTo>
                  <a:pt x="20130" y="9459"/>
                  <a:pt x="20337" y="9197"/>
                  <a:pt x="20216" y="9401"/>
                </a:cubicBezTo>
                <a:cubicBezTo>
                  <a:pt x="20160" y="9494"/>
                  <a:pt x="20160" y="9508"/>
                  <a:pt x="20117" y="9550"/>
                </a:cubicBezTo>
              </a:path>
              <a:path w="3846" h="2457">
                <a:moveTo>
                  <a:pt x="20340" y="9327"/>
                </a:moveTo>
                <a:lnTo>
                  <a:pt x="20340" y="9327"/>
                </a:lnTo>
                <a:lnTo>
                  <a:pt x="20340" y="9327"/>
                </a:lnTo>
                <a:lnTo>
                  <a:pt x="20340" y="9327"/>
                </a:lnTo>
              </a:path>
              <a:path w="3846" h="2457">
                <a:moveTo>
                  <a:pt x="20340" y="9327"/>
                </a:moveTo>
                <a:lnTo>
                  <a:pt x="20340" y="9327"/>
                </a:lnTo>
              </a:path>
              <a:path w="3846" h="2457">
                <a:moveTo>
                  <a:pt x="19968" y="8756"/>
                </a:moveTo>
                <a:cubicBezTo>
                  <a:pt x="19968" y="8764"/>
                  <a:pt x="19968" y="8773"/>
                  <a:pt x="19968" y="8781"/>
                </a:cubicBezTo>
              </a:path>
              <a:path w="3846" h="2457">
                <a:moveTo>
                  <a:pt x="19968" y="8781"/>
                </a:moveTo>
                <a:cubicBezTo>
                  <a:pt x="19968" y="8773"/>
                  <a:pt x="19968" y="8764"/>
                  <a:pt x="19968" y="8756"/>
                </a:cubicBezTo>
                <a:cubicBezTo>
                  <a:pt x="19911" y="8767"/>
                  <a:pt x="19897" y="8910"/>
                  <a:pt x="19918" y="8905"/>
                </a:cubicBezTo>
                <a:cubicBezTo>
                  <a:pt x="20015" y="8856"/>
                  <a:pt x="20047" y="8840"/>
                  <a:pt x="20092" y="8781"/>
                </a:cubicBezTo>
                <a:cubicBezTo>
                  <a:pt x="20106" y="8819"/>
                  <a:pt x="20106" y="9031"/>
                  <a:pt x="20141" y="9029"/>
                </a:cubicBezTo>
                <a:cubicBezTo>
                  <a:pt x="20241" y="9004"/>
                  <a:pt x="20274" y="8996"/>
                  <a:pt x="20340" y="8979"/>
                </a:cubicBezTo>
                <a:cubicBezTo>
                  <a:pt x="20340" y="9029"/>
                  <a:pt x="20340" y="9078"/>
                  <a:pt x="20340" y="9128"/>
                </a:cubicBezTo>
                <a:cubicBezTo>
                  <a:pt x="20450" y="9090"/>
                  <a:pt x="20348" y="9148"/>
                  <a:pt x="20414" y="9203"/>
                </a:cubicBezTo>
                <a:cubicBezTo>
                  <a:pt x="20442" y="9226"/>
                  <a:pt x="20517" y="9174"/>
                  <a:pt x="20489" y="9252"/>
                </a:cubicBezTo>
                <a:cubicBezTo>
                  <a:pt x="20481" y="9269"/>
                  <a:pt x="20472" y="9285"/>
                  <a:pt x="20464" y="9302"/>
                </a:cubicBezTo>
              </a:path>
              <a:path w="3846" h="2457">
                <a:moveTo>
                  <a:pt x="19794" y="7590"/>
                </a:moveTo>
                <a:cubicBezTo>
                  <a:pt x="19747" y="7574"/>
                  <a:pt x="19780" y="7541"/>
                  <a:pt x="19819" y="7516"/>
                </a:cubicBezTo>
                <a:cubicBezTo>
                  <a:pt x="19859" y="7496"/>
                  <a:pt x="19866" y="7487"/>
                  <a:pt x="19893" y="7491"/>
                </a:cubicBezTo>
                <a:cubicBezTo>
                  <a:pt x="19911" y="7600"/>
                  <a:pt x="19918" y="7663"/>
                  <a:pt x="19844" y="7764"/>
                </a:cubicBezTo>
                <a:cubicBezTo>
                  <a:pt x="19781" y="7826"/>
                  <a:pt x="19763" y="7836"/>
                  <a:pt x="19745" y="7888"/>
                </a:cubicBezTo>
                <a:cubicBezTo>
                  <a:pt x="19803" y="7849"/>
                  <a:pt x="19870" y="7820"/>
                  <a:pt x="19943" y="7813"/>
                </a:cubicBezTo>
                <a:cubicBezTo>
                  <a:pt x="19968" y="7813"/>
                  <a:pt x="19976" y="7813"/>
                  <a:pt x="19993" y="7813"/>
                </a:cubicBezTo>
              </a:path>
              <a:path w="3846" h="2457">
                <a:moveTo>
                  <a:pt x="19645" y="7987"/>
                </a:moveTo>
                <a:cubicBezTo>
                  <a:pt x="19767" y="7959"/>
                  <a:pt x="19892" y="7939"/>
                  <a:pt x="20017" y="7913"/>
                </a:cubicBezTo>
                <a:cubicBezTo>
                  <a:pt x="20057" y="7905"/>
                  <a:pt x="20057" y="7909"/>
                  <a:pt x="20067" y="7938"/>
                </a:cubicBezTo>
              </a:path>
              <a:path w="3846" h="2457">
                <a:moveTo>
                  <a:pt x="19794" y="8086"/>
                </a:moveTo>
                <a:cubicBezTo>
                  <a:pt x="19835" y="8078"/>
                  <a:pt x="19899" y="8041"/>
                  <a:pt x="19943" y="8062"/>
                </a:cubicBezTo>
                <a:cubicBezTo>
                  <a:pt x="20017" y="8098"/>
                  <a:pt x="19923" y="8176"/>
                  <a:pt x="19893" y="8210"/>
                </a:cubicBezTo>
                <a:cubicBezTo>
                  <a:pt x="19885" y="8218"/>
                  <a:pt x="19877" y="8227"/>
                  <a:pt x="19869" y="8235"/>
                </a:cubicBezTo>
                <a:cubicBezTo>
                  <a:pt x="19861" y="8235"/>
                  <a:pt x="19852" y="8235"/>
                  <a:pt x="19844" y="8235"/>
                </a:cubicBezTo>
                <a:cubicBezTo>
                  <a:pt x="19910" y="8235"/>
                  <a:pt x="19973" y="8207"/>
                  <a:pt x="19993" y="8285"/>
                </a:cubicBezTo>
                <a:cubicBezTo>
                  <a:pt x="20019" y="8389"/>
                  <a:pt x="19860" y="8402"/>
                  <a:pt x="19794" y="8409"/>
                </a:cubicBezTo>
              </a:path>
              <a:path w="3846" h="2457">
                <a:moveTo>
                  <a:pt x="18058" y="8186"/>
                </a:moveTo>
                <a:cubicBezTo>
                  <a:pt x="18099" y="8161"/>
                  <a:pt x="18187" y="8089"/>
                  <a:pt x="18231" y="8161"/>
                </a:cubicBezTo>
                <a:cubicBezTo>
                  <a:pt x="18274" y="8232"/>
                  <a:pt x="18194" y="8235"/>
                  <a:pt x="18157" y="8260"/>
                </a:cubicBezTo>
                <a:cubicBezTo>
                  <a:pt x="18149" y="8268"/>
                  <a:pt x="18140" y="8277"/>
                  <a:pt x="18132" y="8285"/>
                </a:cubicBezTo>
                <a:cubicBezTo>
                  <a:pt x="18185" y="8285"/>
                  <a:pt x="18287" y="8267"/>
                  <a:pt x="18256" y="8359"/>
                </a:cubicBezTo>
                <a:cubicBezTo>
                  <a:pt x="18242" y="8401"/>
                  <a:pt x="18140" y="8406"/>
                  <a:pt x="18107" y="8409"/>
                </a:cubicBezTo>
                <a:cubicBezTo>
                  <a:pt x="18099" y="8409"/>
                  <a:pt x="18091" y="8409"/>
                  <a:pt x="18083" y="8409"/>
                </a:cubicBezTo>
              </a:path>
              <a:path w="3846" h="2457">
                <a:moveTo>
                  <a:pt x="17983" y="8012"/>
                </a:moveTo>
                <a:cubicBezTo>
                  <a:pt x="18085" y="8023"/>
                  <a:pt x="18175" y="8037"/>
                  <a:pt x="18281" y="8037"/>
                </a:cubicBezTo>
                <a:cubicBezTo>
                  <a:pt x="18337" y="8037"/>
                  <a:pt x="18350" y="8012"/>
                  <a:pt x="18405" y="8012"/>
                </a:cubicBezTo>
              </a:path>
              <a:path w="3846" h="2457">
                <a:moveTo>
                  <a:pt x="18802" y="9401"/>
                </a:moveTo>
                <a:cubicBezTo>
                  <a:pt x="18802" y="9353"/>
                  <a:pt x="18799" y="9351"/>
                  <a:pt x="18777" y="9302"/>
                </a:cubicBezTo>
                <a:cubicBezTo>
                  <a:pt x="18739" y="9436"/>
                  <a:pt x="18665" y="9541"/>
                  <a:pt x="18579" y="9649"/>
                </a:cubicBezTo>
                <a:cubicBezTo>
                  <a:pt x="18601" y="9573"/>
                  <a:pt x="18641" y="9499"/>
                  <a:pt x="18678" y="9426"/>
                </a:cubicBezTo>
              </a:path>
              <a:path w="3846" h="2457">
                <a:moveTo>
                  <a:pt x="18752" y="9054"/>
                </a:moveTo>
                <a:cubicBezTo>
                  <a:pt x="18635" y="9192"/>
                  <a:pt x="18564" y="9359"/>
                  <a:pt x="18455" y="9500"/>
                </a:cubicBezTo>
                <a:cubicBezTo>
                  <a:pt x="18372" y="9582"/>
                  <a:pt x="18355" y="9599"/>
                  <a:pt x="18306" y="9649"/>
                </a:cubicBezTo>
              </a:path>
              <a:path w="3846" h="2457">
                <a:moveTo>
                  <a:pt x="18678" y="8880"/>
                </a:moveTo>
                <a:cubicBezTo>
                  <a:pt x="18532" y="8994"/>
                  <a:pt x="18431" y="9183"/>
                  <a:pt x="18306" y="9327"/>
                </a:cubicBezTo>
                <a:cubicBezTo>
                  <a:pt x="18290" y="9345"/>
                  <a:pt x="18050" y="9646"/>
                  <a:pt x="18058" y="9624"/>
                </a:cubicBezTo>
                <a:cubicBezTo>
                  <a:pt x="18083" y="9566"/>
                  <a:pt x="18107" y="9509"/>
                  <a:pt x="18132" y="9451"/>
                </a:cubicBezTo>
              </a:path>
              <a:path w="3846" h="2457">
                <a:moveTo>
                  <a:pt x="18331" y="8880"/>
                </a:moveTo>
                <a:cubicBezTo>
                  <a:pt x="18195" y="9025"/>
                  <a:pt x="18102" y="9175"/>
                  <a:pt x="18008" y="9351"/>
                </a:cubicBezTo>
                <a:cubicBezTo>
                  <a:pt x="17967" y="9434"/>
                  <a:pt x="17959" y="9451"/>
                  <a:pt x="17934" y="9500"/>
                </a:cubicBezTo>
              </a:path>
              <a:path w="3846" h="2457">
                <a:moveTo>
                  <a:pt x="18182" y="8880"/>
                </a:moveTo>
                <a:cubicBezTo>
                  <a:pt x="18092" y="9009"/>
                  <a:pt x="18018" y="9145"/>
                  <a:pt x="17934" y="9277"/>
                </a:cubicBezTo>
                <a:cubicBezTo>
                  <a:pt x="17911" y="9300"/>
                  <a:pt x="17903" y="9304"/>
                  <a:pt x="17909" y="9327"/>
                </a:cubicBezTo>
              </a:path>
              <a:path w="3846" h="2457">
                <a:moveTo>
                  <a:pt x="18033" y="8930"/>
                </a:moveTo>
                <a:cubicBezTo>
                  <a:pt x="17966" y="9040"/>
                  <a:pt x="17889" y="9150"/>
                  <a:pt x="17810" y="9252"/>
                </a:cubicBezTo>
                <a:cubicBezTo>
                  <a:pt x="17787" y="9275"/>
                  <a:pt x="17779" y="9279"/>
                  <a:pt x="17785" y="9302"/>
                </a:cubicBezTo>
              </a:path>
              <a:path w="3846" h="2457">
                <a:moveTo>
                  <a:pt x="17810" y="9128"/>
                </a:moveTo>
                <a:cubicBezTo>
                  <a:pt x="17788" y="9195"/>
                  <a:pt x="17783" y="9213"/>
                  <a:pt x="17760" y="9252"/>
                </a:cubicBezTo>
              </a:path>
              <a:path w="3846" h="2457">
                <a:moveTo>
                  <a:pt x="18157" y="7590"/>
                </a:moveTo>
                <a:cubicBezTo>
                  <a:pt x="18145" y="7554"/>
                  <a:pt x="18144" y="7554"/>
                  <a:pt x="18132" y="7590"/>
                </a:cubicBezTo>
                <a:cubicBezTo>
                  <a:pt x="18144" y="7579"/>
                  <a:pt x="18234" y="7471"/>
                  <a:pt x="18256" y="7516"/>
                </a:cubicBezTo>
                <a:cubicBezTo>
                  <a:pt x="18289" y="7583"/>
                  <a:pt x="18212" y="7667"/>
                  <a:pt x="18182" y="7714"/>
                </a:cubicBezTo>
                <a:cubicBezTo>
                  <a:pt x="18115" y="7692"/>
                  <a:pt x="18199" y="7672"/>
                  <a:pt x="18231" y="7714"/>
                </a:cubicBezTo>
                <a:cubicBezTo>
                  <a:pt x="18318" y="7829"/>
                  <a:pt x="18201" y="7904"/>
                  <a:pt x="18107" y="7913"/>
                </a:cubicBezTo>
                <a:cubicBezTo>
                  <a:pt x="18053" y="7918"/>
                  <a:pt x="18045" y="7924"/>
                  <a:pt x="18033" y="7888"/>
                </a:cubicBezTo>
              </a:path>
              <a:path w="3846" h="2457">
                <a:moveTo>
                  <a:pt x="18901" y="7838"/>
                </a:moveTo>
                <a:cubicBezTo>
                  <a:pt x="18893" y="7846"/>
                  <a:pt x="18884" y="7855"/>
                  <a:pt x="18876" y="7863"/>
                </a:cubicBezTo>
                <a:cubicBezTo>
                  <a:pt x="18906" y="7932"/>
                  <a:pt x="18901" y="8004"/>
                  <a:pt x="18901" y="8086"/>
                </a:cubicBezTo>
              </a:path>
              <a:path w="3846" h="2457">
                <a:moveTo>
                  <a:pt x="18802" y="7987"/>
                </a:moveTo>
                <a:cubicBezTo>
                  <a:pt x="18864" y="7975"/>
                  <a:pt x="18909" y="7962"/>
                  <a:pt x="18976" y="7962"/>
                </a:cubicBezTo>
                <a:cubicBezTo>
                  <a:pt x="19000" y="7962"/>
                  <a:pt x="19009" y="7962"/>
                  <a:pt x="19025" y="7962"/>
                </a:cubicBezTo>
              </a:path>
              <a:path w="3846" h="2457">
                <a:moveTo>
                  <a:pt x="20414" y="7913"/>
                </a:moveTo>
                <a:cubicBezTo>
                  <a:pt x="20465" y="7894"/>
                  <a:pt x="20484" y="7888"/>
                  <a:pt x="20538" y="7888"/>
                </a:cubicBezTo>
              </a:path>
              <a:path w="3846" h="2457">
                <a:moveTo>
                  <a:pt x="20414" y="8012"/>
                </a:moveTo>
                <a:cubicBezTo>
                  <a:pt x="20462" y="8031"/>
                  <a:pt x="20499" y="8012"/>
                  <a:pt x="20563" y="8012"/>
                </a:cubicBezTo>
                <a:cubicBezTo>
                  <a:pt x="20571" y="8012"/>
                  <a:pt x="20580" y="8012"/>
                  <a:pt x="20588" y="8012"/>
                </a:cubicBezTo>
              </a:path>
              <a:path w="3846" h="2457">
                <a:moveTo>
                  <a:pt x="21332" y="7342"/>
                </a:moveTo>
                <a:cubicBezTo>
                  <a:pt x="21263" y="7354"/>
                  <a:pt x="21206" y="7367"/>
                  <a:pt x="21134" y="7367"/>
                </a:cubicBezTo>
                <a:cubicBezTo>
                  <a:pt x="21081" y="7367"/>
                  <a:pt x="21109" y="7515"/>
                  <a:pt x="21109" y="7565"/>
                </a:cubicBezTo>
                <a:cubicBezTo>
                  <a:pt x="21109" y="7573"/>
                  <a:pt x="21109" y="7582"/>
                  <a:pt x="21109" y="7590"/>
                </a:cubicBezTo>
                <a:cubicBezTo>
                  <a:pt x="21162" y="7577"/>
                  <a:pt x="21216" y="7523"/>
                  <a:pt x="21282" y="7541"/>
                </a:cubicBezTo>
                <a:cubicBezTo>
                  <a:pt x="21439" y="7584"/>
                  <a:pt x="21226" y="7719"/>
                  <a:pt x="21183" y="7739"/>
                </a:cubicBezTo>
                <a:cubicBezTo>
                  <a:pt x="21175" y="7739"/>
                  <a:pt x="21166" y="7739"/>
                  <a:pt x="21158" y="7739"/>
                </a:cubicBezTo>
              </a:path>
              <a:path w="3846" h="2457">
                <a:moveTo>
                  <a:pt x="21010" y="7863"/>
                </a:moveTo>
                <a:cubicBezTo>
                  <a:pt x="21158" y="7837"/>
                  <a:pt x="21306" y="7820"/>
                  <a:pt x="21456" y="7813"/>
                </a:cubicBezTo>
                <a:cubicBezTo>
                  <a:pt x="21484" y="7813"/>
                  <a:pt x="21495" y="7815"/>
                  <a:pt x="21506" y="7838"/>
                </a:cubicBezTo>
              </a:path>
              <a:path w="3846" h="2457">
                <a:moveTo>
                  <a:pt x="21109" y="8037"/>
                </a:moveTo>
                <a:cubicBezTo>
                  <a:pt x="21169" y="8025"/>
                  <a:pt x="21268" y="7953"/>
                  <a:pt x="21332" y="7987"/>
                </a:cubicBezTo>
                <a:cubicBezTo>
                  <a:pt x="21382" y="8014"/>
                  <a:pt x="21242" y="8071"/>
                  <a:pt x="21282" y="8111"/>
                </a:cubicBezTo>
                <a:cubicBezTo>
                  <a:pt x="21307" y="8136"/>
                  <a:pt x="21394" y="8162"/>
                  <a:pt x="21357" y="8235"/>
                </a:cubicBezTo>
                <a:cubicBezTo>
                  <a:pt x="21321" y="8307"/>
                  <a:pt x="21192" y="8304"/>
                  <a:pt x="21183" y="82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38800" y="5224320"/>
            <a:ext cx="1125360" cy="847800"/>
          </a:xfrm>
          <a:custGeom>
            <a:avLst/>
            <a:gdLst/>
            <a:ahLst/>
            <a:rect l="l" t="t" r="r" b="b"/>
            <a:pathLst>
              <a:path w="3126" h="2357">
                <a:moveTo>
                  <a:pt x="12898" y="14833"/>
                </a:moveTo>
                <a:cubicBezTo>
                  <a:pt x="12898" y="15135"/>
                  <a:pt x="12878" y="15401"/>
                  <a:pt x="12849" y="15701"/>
                </a:cubicBezTo>
                <a:cubicBezTo>
                  <a:pt x="12827" y="15916"/>
                  <a:pt x="12824" y="15967"/>
                  <a:pt x="12799" y="16098"/>
                </a:cubicBezTo>
              </a:path>
              <a:path w="3126" h="2357">
                <a:moveTo>
                  <a:pt x="13519" y="14635"/>
                </a:moveTo>
                <a:cubicBezTo>
                  <a:pt x="13641" y="14623"/>
                  <a:pt x="13812" y="14684"/>
                  <a:pt x="13767" y="14858"/>
                </a:cubicBezTo>
                <a:cubicBezTo>
                  <a:pt x="13729" y="15007"/>
                  <a:pt x="13571" y="15108"/>
                  <a:pt x="13469" y="15007"/>
                </a:cubicBezTo>
                <a:cubicBezTo>
                  <a:pt x="13588" y="14954"/>
                  <a:pt x="13686" y="14950"/>
                  <a:pt x="13767" y="15081"/>
                </a:cubicBezTo>
                <a:cubicBezTo>
                  <a:pt x="13767" y="15098"/>
                  <a:pt x="13767" y="15114"/>
                  <a:pt x="13767" y="15131"/>
                </a:cubicBezTo>
              </a:path>
              <a:path w="3126" h="2357">
                <a:moveTo>
                  <a:pt x="13320" y="15354"/>
                </a:moveTo>
                <a:cubicBezTo>
                  <a:pt x="13505" y="15317"/>
                  <a:pt x="13677" y="15304"/>
                  <a:pt x="13866" y="15304"/>
                </a:cubicBezTo>
                <a:cubicBezTo>
                  <a:pt x="13874" y="15304"/>
                  <a:pt x="13883" y="15304"/>
                  <a:pt x="13891" y="15304"/>
                </a:cubicBezTo>
              </a:path>
              <a:path w="3126" h="2357">
                <a:moveTo>
                  <a:pt x="13395" y="15602"/>
                </a:moveTo>
                <a:cubicBezTo>
                  <a:pt x="13408" y="15592"/>
                  <a:pt x="13608" y="15488"/>
                  <a:pt x="13643" y="15577"/>
                </a:cubicBezTo>
                <a:cubicBezTo>
                  <a:pt x="13677" y="15666"/>
                  <a:pt x="13583" y="15750"/>
                  <a:pt x="13519" y="15776"/>
                </a:cubicBezTo>
                <a:cubicBezTo>
                  <a:pt x="13574" y="15765"/>
                  <a:pt x="13607" y="15756"/>
                  <a:pt x="13667" y="15751"/>
                </a:cubicBezTo>
                <a:cubicBezTo>
                  <a:pt x="13755" y="15898"/>
                  <a:pt x="13697" y="15976"/>
                  <a:pt x="13519" y="16024"/>
                </a:cubicBezTo>
                <a:cubicBezTo>
                  <a:pt x="13461" y="16024"/>
                  <a:pt x="13452" y="16024"/>
                  <a:pt x="13419" y="16024"/>
                </a:cubicBezTo>
              </a:path>
              <a:path w="3126" h="2357">
                <a:moveTo>
                  <a:pt x="13122" y="15478"/>
                </a:moveTo>
                <a:cubicBezTo>
                  <a:pt x="13122" y="15470"/>
                  <a:pt x="13122" y="15461"/>
                  <a:pt x="13122" y="15453"/>
                </a:cubicBezTo>
                <a:cubicBezTo>
                  <a:pt x="13071" y="15470"/>
                  <a:pt x="13122" y="15508"/>
                  <a:pt x="13146" y="15553"/>
                </a:cubicBezTo>
                <a:cubicBezTo>
                  <a:pt x="13166" y="15593"/>
                  <a:pt x="13175" y="15599"/>
                  <a:pt x="13171" y="15627"/>
                </a:cubicBezTo>
              </a:path>
              <a:path w="3126" h="2357">
                <a:moveTo>
                  <a:pt x="13221" y="15429"/>
                </a:moveTo>
                <a:cubicBezTo>
                  <a:pt x="13204" y="15470"/>
                  <a:pt x="13154" y="15537"/>
                  <a:pt x="13122" y="15577"/>
                </a:cubicBezTo>
                <a:cubicBezTo>
                  <a:pt x="13083" y="15624"/>
                  <a:pt x="13060" y="15626"/>
                  <a:pt x="13047" y="15677"/>
                </a:cubicBezTo>
              </a:path>
              <a:path w="3126" h="2357">
                <a:moveTo>
                  <a:pt x="12626" y="16321"/>
                </a:moveTo>
                <a:cubicBezTo>
                  <a:pt x="12601" y="16321"/>
                  <a:pt x="12593" y="16321"/>
                  <a:pt x="12601" y="16346"/>
                </a:cubicBezTo>
                <a:cubicBezTo>
                  <a:pt x="12616" y="16289"/>
                  <a:pt x="12651" y="16214"/>
                  <a:pt x="12725" y="16222"/>
                </a:cubicBezTo>
                <a:cubicBezTo>
                  <a:pt x="12839" y="16235"/>
                  <a:pt x="12845" y="16368"/>
                  <a:pt x="12799" y="16446"/>
                </a:cubicBezTo>
                <a:cubicBezTo>
                  <a:pt x="12746" y="16537"/>
                  <a:pt x="12686" y="16502"/>
                  <a:pt x="12799" y="16495"/>
                </a:cubicBezTo>
                <a:cubicBezTo>
                  <a:pt x="12948" y="16486"/>
                  <a:pt x="12904" y="16695"/>
                  <a:pt x="12849" y="16768"/>
                </a:cubicBezTo>
                <a:cubicBezTo>
                  <a:pt x="12780" y="16860"/>
                  <a:pt x="12733" y="16870"/>
                  <a:pt x="12650" y="16842"/>
                </a:cubicBezTo>
                <a:cubicBezTo>
                  <a:pt x="12642" y="16842"/>
                  <a:pt x="12634" y="16842"/>
                  <a:pt x="12626" y="16842"/>
                </a:cubicBezTo>
              </a:path>
              <a:path w="3126" h="2357">
                <a:moveTo>
                  <a:pt x="12551" y="16123"/>
                </a:moveTo>
                <a:cubicBezTo>
                  <a:pt x="12576" y="16123"/>
                  <a:pt x="12584" y="16123"/>
                  <a:pt x="12576" y="16148"/>
                </a:cubicBezTo>
                <a:cubicBezTo>
                  <a:pt x="12523" y="16115"/>
                  <a:pt x="12496" y="16077"/>
                  <a:pt x="12452" y="16024"/>
                </a:cubicBezTo>
                <a:cubicBezTo>
                  <a:pt x="12394" y="15954"/>
                  <a:pt x="12338" y="15894"/>
                  <a:pt x="12328" y="15801"/>
                </a:cubicBezTo>
                <a:cubicBezTo>
                  <a:pt x="12309" y="15623"/>
                  <a:pt x="12325" y="15369"/>
                  <a:pt x="12353" y="15230"/>
                </a:cubicBezTo>
                <a:cubicBezTo>
                  <a:pt x="12368" y="15158"/>
                  <a:pt x="12353" y="15104"/>
                  <a:pt x="12378" y="15032"/>
                </a:cubicBezTo>
                <a:cubicBezTo>
                  <a:pt x="12386" y="15009"/>
                  <a:pt x="12388" y="14925"/>
                  <a:pt x="12402" y="14908"/>
                </a:cubicBezTo>
                <a:cubicBezTo>
                  <a:pt x="12414" y="14894"/>
                  <a:pt x="12466" y="14868"/>
                  <a:pt x="12477" y="14858"/>
                </a:cubicBezTo>
                <a:cubicBezTo>
                  <a:pt x="12490" y="14846"/>
                  <a:pt x="12511" y="14812"/>
                  <a:pt x="12526" y="14784"/>
                </a:cubicBezTo>
                <a:cubicBezTo>
                  <a:pt x="12539" y="14760"/>
                  <a:pt x="12566" y="14716"/>
                  <a:pt x="12576" y="14709"/>
                </a:cubicBezTo>
                <a:cubicBezTo>
                  <a:pt x="12586" y="14702"/>
                  <a:pt x="12661" y="14662"/>
                  <a:pt x="12675" y="14660"/>
                </a:cubicBezTo>
                <a:cubicBezTo>
                  <a:pt x="12695" y="14657"/>
                  <a:pt x="12791" y="14634"/>
                  <a:pt x="12799" y="14635"/>
                </a:cubicBezTo>
                <a:cubicBezTo>
                  <a:pt x="12835" y="14638"/>
                  <a:pt x="12888" y="14649"/>
                  <a:pt x="12923" y="14660"/>
                </a:cubicBezTo>
                <a:cubicBezTo>
                  <a:pt x="12960" y="14672"/>
                  <a:pt x="13003" y="14702"/>
                  <a:pt x="13047" y="14709"/>
                </a:cubicBezTo>
                <a:cubicBezTo>
                  <a:pt x="13097" y="14717"/>
                  <a:pt x="13149" y="14726"/>
                  <a:pt x="13196" y="14734"/>
                </a:cubicBezTo>
                <a:cubicBezTo>
                  <a:pt x="13221" y="14734"/>
                  <a:pt x="13229" y="14734"/>
                  <a:pt x="13246" y="14734"/>
                </a:cubicBezTo>
              </a:path>
              <a:path w="3126" h="2357">
                <a:moveTo>
                  <a:pt x="13320" y="14784"/>
                </a:moveTo>
                <a:cubicBezTo>
                  <a:pt x="13320" y="14773"/>
                  <a:pt x="13320" y="14667"/>
                  <a:pt x="13320" y="14734"/>
                </a:cubicBezTo>
                <a:cubicBezTo>
                  <a:pt x="13320" y="14802"/>
                  <a:pt x="13316" y="14845"/>
                  <a:pt x="13295" y="14908"/>
                </a:cubicBezTo>
              </a:path>
              <a:path w="3126" h="2357">
                <a:moveTo>
                  <a:pt x="13196" y="14858"/>
                </a:moveTo>
                <a:cubicBezTo>
                  <a:pt x="13254" y="14838"/>
                  <a:pt x="13305" y="14790"/>
                  <a:pt x="13370" y="14784"/>
                </a:cubicBezTo>
                <a:cubicBezTo>
                  <a:pt x="13429" y="14778"/>
                  <a:pt x="13302" y="14805"/>
                  <a:pt x="13271" y="14808"/>
                </a:cubicBezTo>
                <a:cubicBezTo>
                  <a:pt x="13263" y="14808"/>
                  <a:pt x="13254" y="14808"/>
                  <a:pt x="13246" y="14808"/>
                </a:cubicBezTo>
              </a:path>
              <a:path w="3126" h="2357">
                <a:moveTo>
                  <a:pt x="13320" y="14684"/>
                </a:moveTo>
                <a:cubicBezTo>
                  <a:pt x="13312" y="14760"/>
                  <a:pt x="13295" y="14831"/>
                  <a:pt x="13295" y="14908"/>
                </a:cubicBezTo>
                <a:cubicBezTo>
                  <a:pt x="13295" y="14916"/>
                  <a:pt x="13295" y="14924"/>
                  <a:pt x="13295" y="14932"/>
                </a:cubicBezTo>
              </a:path>
              <a:path w="3126" h="2357">
                <a:moveTo>
                  <a:pt x="13196" y="14858"/>
                </a:moveTo>
                <a:cubicBezTo>
                  <a:pt x="13262" y="14858"/>
                  <a:pt x="13329" y="14858"/>
                  <a:pt x="13395" y="14858"/>
                </a:cubicBezTo>
              </a:path>
              <a:path w="3126" h="2357">
                <a:moveTo>
                  <a:pt x="14387" y="15230"/>
                </a:moveTo>
                <a:cubicBezTo>
                  <a:pt x="14316" y="15230"/>
                  <a:pt x="14482" y="15199"/>
                  <a:pt x="14486" y="15205"/>
                </a:cubicBezTo>
                <a:cubicBezTo>
                  <a:pt x="14486" y="15222"/>
                  <a:pt x="14486" y="15238"/>
                  <a:pt x="14486" y="15255"/>
                </a:cubicBezTo>
              </a:path>
              <a:path w="3126" h="2357">
                <a:moveTo>
                  <a:pt x="14362" y="15453"/>
                </a:moveTo>
                <a:cubicBezTo>
                  <a:pt x="14412" y="15453"/>
                  <a:pt x="14461" y="15453"/>
                  <a:pt x="14511" y="15453"/>
                </a:cubicBezTo>
              </a:path>
              <a:path w="3126" h="2357">
                <a:moveTo>
                  <a:pt x="15354" y="14511"/>
                </a:moveTo>
                <a:cubicBezTo>
                  <a:pt x="15270" y="14544"/>
                  <a:pt x="15232" y="14598"/>
                  <a:pt x="15131" y="14610"/>
                </a:cubicBezTo>
                <a:cubicBezTo>
                  <a:pt x="15066" y="14618"/>
                  <a:pt x="15098" y="14708"/>
                  <a:pt x="15081" y="14759"/>
                </a:cubicBezTo>
                <a:cubicBezTo>
                  <a:pt x="15059" y="14781"/>
                  <a:pt x="15050" y="14786"/>
                  <a:pt x="15056" y="14808"/>
                </a:cubicBezTo>
                <a:cubicBezTo>
                  <a:pt x="15124" y="14797"/>
                  <a:pt x="15241" y="14722"/>
                  <a:pt x="15304" y="14784"/>
                </a:cubicBezTo>
                <a:cubicBezTo>
                  <a:pt x="15380" y="14860"/>
                  <a:pt x="15269" y="14950"/>
                  <a:pt x="15205" y="14982"/>
                </a:cubicBezTo>
                <a:cubicBezTo>
                  <a:pt x="15154" y="15008"/>
                  <a:pt x="15130" y="15007"/>
                  <a:pt x="15081" y="15007"/>
                </a:cubicBezTo>
              </a:path>
              <a:path w="3126" h="2357">
                <a:moveTo>
                  <a:pt x="14858" y="15230"/>
                </a:moveTo>
                <a:cubicBezTo>
                  <a:pt x="14985" y="15230"/>
                  <a:pt x="15103" y="15190"/>
                  <a:pt x="15230" y="15180"/>
                </a:cubicBezTo>
                <a:cubicBezTo>
                  <a:pt x="15302" y="15174"/>
                  <a:pt x="15380" y="15180"/>
                  <a:pt x="15453" y="15180"/>
                </a:cubicBezTo>
              </a:path>
              <a:path w="3126" h="2357">
                <a:moveTo>
                  <a:pt x="15056" y="15503"/>
                </a:moveTo>
                <a:cubicBezTo>
                  <a:pt x="15008" y="15486"/>
                  <a:pt x="15065" y="15407"/>
                  <a:pt x="15106" y="15379"/>
                </a:cubicBezTo>
                <a:cubicBezTo>
                  <a:pt x="15163" y="15360"/>
                  <a:pt x="15170" y="15351"/>
                  <a:pt x="15205" y="15354"/>
                </a:cubicBezTo>
                <a:cubicBezTo>
                  <a:pt x="15251" y="15457"/>
                  <a:pt x="15268" y="15508"/>
                  <a:pt x="15156" y="15577"/>
                </a:cubicBezTo>
                <a:cubicBezTo>
                  <a:pt x="15148" y="15577"/>
                  <a:pt x="15139" y="15577"/>
                  <a:pt x="15131" y="15577"/>
                </a:cubicBezTo>
                <a:cubicBezTo>
                  <a:pt x="15066" y="15577"/>
                  <a:pt x="15217" y="15540"/>
                  <a:pt x="15230" y="15553"/>
                </a:cubicBezTo>
                <a:cubicBezTo>
                  <a:pt x="15348" y="15662"/>
                  <a:pt x="15186" y="15786"/>
                  <a:pt x="15106" y="15825"/>
                </a:cubicBezTo>
                <a:cubicBezTo>
                  <a:pt x="15020" y="15867"/>
                  <a:pt x="15044" y="15840"/>
                  <a:pt x="14982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55000" y="2286000"/>
            <a:ext cx="955800" cy="2044800"/>
          </a:xfrm>
          <a:custGeom>
            <a:avLst/>
            <a:gdLst/>
            <a:ahLst/>
            <a:rect l="l" t="t" r="r" b="b"/>
            <a:pathLst>
              <a:path w="2655" h="5681">
                <a:moveTo>
                  <a:pt x="24284" y="6896"/>
                </a:moveTo>
                <a:cubicBezTo>
                  <a:pt x="24320" y="6967"/>
                  <a:pt x="24269" y="7199"/>
                  <a:pt x="24259" y="7317"/>
                </a:cubicBezTo>
                <a:cubicBezTo>
                  <a:pt x="24259" y="7359"/>
                  <a:pt x="24267" y="7375"/>
                  <a:pt x="24234" y="7367"/>
                </a:cubicBezTo>
              </a:path>
              <a:path w="2655" h="5681">
                <a:moveTo>
                  <a:pt x="24805" y="6772"/>
                </a:moveTo>
                <a:cubicBezTo>
                  <a:pt x="24764" y="6785"/>
                  <a:pt x="24628" y="6813"/>
                  <a:pt x="24606" y="6846"/>
                </a:cubicBezTo>
                <a:cubicBezTo>
                  <a:pt x="24566" y="6907"/>
                  <a:pt x="24543" y="6993"/>
                  <a:pt x="24532" y="7069"/>
                </a:cubicBezTo>
                <a:cubicBezTo>
                  <a:pt x="24614" y="7053"/>
                  <a:pt x="24669" y="7028"/>
                  <a:pt x="24755" y="7069"/>
                </a:cubicBezTo>
                <a:cubicBezTo>
                  <a:pt x="24895" y="7136"/>
                  <a:pt x="24827" y="7258"/>
                  <a:pt x="24705" y="7293"/>
                </a:cubicBezTo>
                <a:cubicBezTo>
                  <a:pt x="24647" y="7293"/>
                  <a:pt x="24639" y="7293"/>
                  <a:pt x="24606" y="7293"/>
                </a:cubicBezTo>
              </a:path>
              <a:path w="2655" h="5681">
                <a:moveTo>
                  <a:pt x="23961" y="7739"/>
                </a:moveTo>
                <a:cubicBezTo>
                  <a:pt x="24056" y="7755"/>
                  <a:pt x="24115" y="7797"/>
                  <a:pt x="24160" y="7888"/>
                </a:cubicBezTo>
                <a:cubicBezTo>
                  <a:pt x="24160" y="7896"/>
                  <a:pt x="24160" y="7905"/>
                  <a:pt x="24160" y="7913"/>
                </a:cubicBezTo>
              </a:path>
              <a:path w="2655" h="5681">
                <a:moveTo>
                  <a:pt x="24185" y="7640"/>
                </a:moveTo>
                <a:cubicBezTo>
                  <a:pt x="24156" y="7712"/>
                  <a:pt x="24011" y="7926"/>
                  <a:pt x="24011" y="7962"/>
                </a:cubicBezTo>
                <a:cubicBezTo>
                  <a:pt x="24019" y="7962"/>
                  <a:pt x="24028" y="7962"/>
                  <a:pt x="24036" y="7962"/>
                </a:cubicBezTo>
              </a:path>
              <a:path w="2655" h="5681">
                <a:moveTo>
                  <a:pt x="24854" y="7541"/>
                </a:moveTo>
                <a:cubicBezTo>
                  <a:pt x="24792" y="7548"/>
                  <a:pt x="24667" y="7553"/>
                  <a:pt x="24631" y="7615"/>
                </a:cubicBezTo>
                <a:cubicBezTo>
                  <a:pt x="24611" y="7675"/>
                  <a:pt x="24612" y="7690"/>
                  <a:pt x="24581" y="7714"/>
                </a:cubicBezTo>
                <a:cubicBezTo>
                  <a:pt x="24641" y="7759"/>
                  <a:pt x="24709" y="7722"/>
                  <a:pt x="24780" y="7764"/>
                </a:cubicBezTo>
                <a:cubicBezTo>
                  <a:pt x="24849" y="7804"/>
                  <a:pt x="24872" y="7952"/>
                  <a:pt x="24780" y="7987"/>
                </a:cubicBezTo>
                <a:cubicBezTo>
                  <a:pt x="24712" y="8013"/>
                  <a:pt x="24664" y="7974"/>
                  <a:pt x="24606" y="7962"/>
                </a:cubicBezTo>
              </a:path>
              <a:path w="2655" h="5681">
                <a:moveTo>
                  <a:pt x="23738" y="8210"/>
                </a:moveTo>
                <a:cubicBezTo>
                  <a:pt x="24045" y="8191"/>
                  <a:pt x="24348" y="8164"/>
                  <a:pt x="24656" y="8161"/>
                </a:cubicBezTo>
                <a:cubicBezTo>
                  <a:pt x="24780" y="8160"/>
                  <a:pt x="24904" y="8161"/>
                  <a:pt x="25028" y="8161"/>
                </a:cubicBezTo>
              </a:path>
              <a:path w="2655" h="5681">
                <a:moveTo>
                  <a:pt x="25003" y="8384"/>
                </a:moveTo>
                <a:cubicBezTo>
                  <a:pt x="24923" y="8384"/>
                  <a:pt x="24799" y="8379"/>
                  <a:pt x="24730" y="8409"/>
                </a:cubicBezTo>
                <a:cubicBezTo>
                  <a:pt x="24723" y="8412"/>
                  <a:pt x="24706" y="8547"/>
                  <a:pt x="24705" y="8558"/>
                </a:cubicBezTo>
                <a:cubicBezTo>
                  <a:pt x="24778" y="8611"/>
                  <a:pt x="24862" y="8544"/>
                  <a:pt x="24954" y="8558"/>
                </a:cubicBezTo>
                <a:cubicBezTo>
                  <a:pt x="25003" y="8582"/>
                  <a:pt x="25020" y="8591"/>
                  <a:pt x="25028" y="8632"/>
                </a:cubicBezTo>
                <a:cubicBezTo>
                  <a:pt x="24889" y="8733"/>
                  <a:pt x="24798" y="8751"/>
                  <a:pt x="24631" y="8731"/>
                </a:cubicBezTo>
              </a:path>
              <a:path w="2655" h="5681">
                <a:moveTo>
                  <a:pt x="23961" y="6474"/>
                </a:moveTo>
                <a:cubicBezTo>
                  <a:pt x="23961" y="6521"/>
                  <a:pt x="24037" y="6370"/>
                  <a:pt x="24085" y="6350"/>
                </a:cubicBezTo>
                <a:cubicBezTo>
                  <a:pt x="24110" y="6350"/>
                  <a:pt x="24135" y="6350"/>
                  <a:pt x="24160" y="6350"/>
                </a:cubicBezTo>
                <a:cubicBezTo>
                  <a:pt x="24223" y="6592"/>
                  <a:pt x="24173" y="6658"/>
                  <a:pt x="23986" y="6821"/>
                </a:cubicBezTo>
                <a:cubicBezTo>
                  <a:pt x="24019" y="6717"/>
                  <a:pt x="24017" y="6561"/>
                  <a:pt x="24135" y="6672"/>
                </a:cubicBezTo>
                <a:cubicBezTo>
                  <a:pt x="24181" y="6718"/>
                  <a:pt x="24196" y="6730"/>
                  <a:pt x="24209" y="6772"/>
                </a:cubicBezTo>
              </a:path>
              <a:path w="2655" h="5681">
                <a:moveTo>
                  <a:pt x="24135" y="8483"/>
                </a:moveTo>
                <a:cubicBezTo>
                  <a:pt x="24116" y="8534"/>
                  <a:pt x="24110" y="8553"/>
                  <a:pt x="24110" y="8607"/>
                </a:cubicBezTo>
                <a:cubicBezTo>
                  <a:pt x="24110" y="8567"/>
                  <a:pt x="24088" y="8512"/>
                  <a:pt x="24135" y="8508"/>
                </a:cubicBezTo>
                <a:cubicBezTo>
                  <a:pt x="24240" y="8499"/>
                  <a:pt x="24335" y="8491"/>
                  <a:pt x="24433" y="8458"/>
                </a:cubicBezTo>
                <a:cubicBezTo>
                  <a:pt x="24433" y="8557"/>
                  <a:pt x="24408" y="8661"/>
                  <a:pt x="24383" y="8756"/>
                </a:cubicBezTo>
                <a:cubicBezTo>
                  <a:pt x="24367" y="8818"/>
                  <a:pt x="24358" y="8826"/>
                  <a:pt x="24358" y="8880"/>
                </a:cubicBezTo>
              </a:path>
              <a:path w="2655" h="5681">
                <a:moveTo>
                  <a:pt x="23192" y="9674"/>
                </a:moveTo>
                <a:cubicBezTo>
                  <a:pt x="23192" y="9725"/>
                  <a:pt x="23198" y="9758"/>
                  <a:pt x="23217" y="9798"/>
                </a:cubicBezTo>
                <a:cubicBezTo>
                  <a:pt x="23229" y="9751"/>
                  <a:pt x="23256" y="9695"/>
                  <a:pt x="23292" y="9674"/>
                </a:cubicBezTo>
                <a:cubicBezTo>
                  <a:pt x="23361" y="9634"/>
                  <a:pt x="23457" y="9663"/>
                  <a:pt x="23540" y="9649"/>
                </a:cubicBezTo>
                <a:cubicBezTo>
                  <a:pt x="23559" y="9818"/>
                  <a:pt x="23537" y="9941"/>
                  <a:pt x="23465" y="10096"/>
                </a:cubicBezTo>
              </a:path>
              <a:path w="2655" h="5681">
                <a:moveTo>
                  <a:pt x="23937" y="9599"/>
                </a:moveTo>
                <a:cubicBezTo>
                  <a:pt x="23820" y="9616"/>
                  <a:pt x="23813" y="9607"/>
                  <a:pt x="23788" y="9699"/>
                </a:cubicBezTo>
                <a:cubicBezTo>
                  <a:pt x="23769" y="9756"/>
                  <a:pt x="23760" y="9763"/>
                  <a:pt x="23763" y="9798"/>
                </a:cubicBezTo>
                <a:cubicBezTo>
                  <a:pt x="23842" y="9798"/>
                  <a:pt x="23939" y="9764"/>
                  <a:pt x="23986" y="9847"/>
                </a:cubicBezTo>
                <a:cubicBezTo>
                  <a:pt x="24083" y="10016"/>
                  <a:pt x="23906" y="10081"/>
                  <a:pt x="23788" y="10120"/>
                </a:cubicBezTo>
              </a:path>
              <a:path w="2655" h="5681">
                <a:moveTo>
                  <a:pt x="22920" y="10393"/>
                </a:moveTo>
                <a:cubicBezTo>
                  <a:pt x="22934" y="10440"/>
                  <a:pt x="22944" y="10610"/>
                  <a:pt x="22944" y="10567"/>
                </a:cubicBezTo>
                <a:cubicBezTo>
                  <a:pt x="22944" y="10559"/>
                  <a:pt x="22944" y="10550"/>
                  <a:pt x="22944" y="10542"/>
                </a:cubicBezTo>
              </a:path>
              <a:path w="2655" h="5681">
                <a:moveTo>
                  <a:pt x="22796" y="10418"/>
                </a:moveTo>
                <a:cubicBezTo>
                  <a:pt x="22909" y="10403"/>
                  <a:pt x="23005" y="10393"/>
                  <a:pt x="23118" y="10393"/>
                </a:cubicBezTo>
              </a:path>
              <a:path w="2655" h="5681">
                <a:moveTo>
                  <a:pt x="23763" y="10393"/>
                </a:moveTo>
                <a:cubicBezTo>
                  <a:pt x="23855" y="10393"/>
                  <a:pt x="23975" y="10348"/>
                  <a:pt x="24061" y="10368"/>
                </a:cubicBezTo>
                <a:cubicBezTo>
                  <a:pt x="24069" y="10376"/>
                  <a:pt x="24077" y="10385"/>
                  <a:pt x="24085" y="10393"/>
                </a:cubicBezTo>
                <a:cubicBezTo>
                  <a:pt x="24052" y="10519"/>
                  <a:pt x="24035" y="10645"/>
                  <a:pt x="23986" y="10765"/>
                </a:cubicBezTo>
              </a:path>
              <a:path w="2655" h="5681">
                <a:moveTo>
                  <a:pt x="22994" y="10344"/>
                </a:moveTo>
                <a:cubicBezTo>
                  <a:pt x="22939" y="10326"/>
                  <a:pt x="22992" y="10298"/>
                  <a:pt x="22969" y="10244"/>
                </a:cubicBezTo>
                <a:cubicBezTo>
                  <a:pt x="22961" y="10236"/>
                  <a:pt x="22952" y="10228"/>
                  <a:pt x="22944" y="10220"/>
                </a:cubicBezTo>
                <a:cubicBezTo>
                  <a:pt x="22944" y="10278"/>
                  <a:pt x="22944" y="10335"/>
                  <a:pt x="22944" y="10393"/>
                </a:cubicBezTo>
              </a:path>
              <a:path w="2655" h="5681">
                <a:moveTo>
                  <a:pt x="22374" y="11137"/>
                </a:moveTo>
                <a:cubicBezTo>
                  <a:pt x="22798" y="11084"/>
                  <a:pt x="23212" y="11088"/>
                  <a:pt x="23639" y="11088"/>
                </a:cubicBezTo>
                <a:cubicBezTo>
                  <a:pt x="23879" y="11088"/>
                  <a:pt x="24229" y="11094"/>
                  <a:pt x="24433" y="11112"/>
                </a:cubicBezTo>
                <a:cubicBezTo>
                  <a:pt x="24441" y="11112"/>
                  <a:pt x="24449" y="11112"/>
                  <a:pt x="24457" y="11112"/>
                </a:cubicBezTo>
              </a:path>
              <a:path w="2655" h="5681">
                <a:moveTo>
                  <a:pt x="23961" y="11509"/>
                </a:moveTo>
                <a:cubicBezTo>
                  <a:pt x="23996" y="11535"/>
                  <a:pt x="23992" y="11534"/>
                  <a:pt x="24036" y="11534"/>
                </a:cubicBezTo>
                <a:cubicBezTo>
                  <a:pt x="24065" y="11496"/>
                  <a:pt x="24061" y="11483"/>
                  <a:pt x="24061" y="11435"/>
                </a:cubicBezTo>
                <a:cubicBezTo>
                  <a:pt x="24061" y="11379"/>
                  <a:pt x="24073" y="11365"/>
                  <a:pt x="24135" y="11361"/>
                </a:cubicBezTo>
                <a:cubicBezTo>
                  <a:pt x="24174" y="11358"/>
                  <a:pt x="24246" y="11388"/>
                  <a:pt x="24259" y="11435"/>
                </a:cubicBezTo>
                <a:cubicBezTo>
                  <a:pt x="24286" y="11528"/>
                  <a:pt x="24188" y="11565"/>
                  <a:pt x="24135" y="11609"/>
                </a:cubicBezTo>
                <a:cubicBezTo>
                  <a:pt x="24055" y="11675"/>
                  <a:pt x="23994" y="11760"/>
                  <a:pt x="23986" y="11857"/>
                </a:cubicBezTo>
                <a:cubicBezTo>
                  <a:pt x="23985" y="11873"/>
                  <a:pt x="23994" y="12017"/>
                  <a:pt x="24011" y="12030"/>
                </a:cubicBezTo>
                <a:cubicBezTo>
                  <a:pt x="24019" y="12030"/>
                  <a:pt x="24028" y="12030"/>
                  <a:pt x="24036" y="12030"/>
                </a:cubicBezTo>
                <a:cubicBezTo>
                  <a:pt x="24041" y="12004"/>
                  <a:pt x="24074" y="11917"/>
                  <a:pt x="24085" y="11906"/>
                </a:cubicBezTo>
                <a:cubicBezTo>
                  <a:pt x="24093" y="11906"/>
                  <a:pt x="24102" y="11906"/>
                  <a:pt x="24110" y="11906"/>
                </a:cubicBezTo>
                <a:cubicBezTo>
                  <a:pt x="24144" y="11948"/>
                  <a:pt x="24191" y="12034"/>
                  <a:pt x="24259" y="12030"/>
                </a:cubicBezTo>
                <a:cubicBezTo>
                  <a:pt x="24323" y="12026"/>
                  <a:pt x="24353" y="11970"/>
                  <a:pt x="24383" y="11931"/>
                </a:cubicBezTo>
              </a:path>
              <a:path w="2655" h="5681">
                <a:moveTo>
                  <a:pt x="23366" y="9103"/>
                </a:moveTo>
                <a:cubicBezTo>
                  <a:pt x="23366" y="9091"/>
                  <a:pt x="23366" y="8987"/>
                  <a:pt x="23366" y="9054"/>
                </a:cubicBezTo>
                <a:cubicBezTo>
                  <a:pt x="23366" y="9151"/>
                  <a:pt x="23379" y="9234"/>
                  <a:pt x="23391" y="9327"/>
                </a:cubicBezTo>
                <a:cubicBezTo>
                  <a:pt x="23399" y="9384"/>
                  <a:pt x="23372" y="9386"/>
                  <a:pt x="23416" y="9401"/>
                </a:cubicBezTo>
              </a:path>
              <a:path w="2655" h="5681">
                <a:moveTo>
                  <a:pt x="23465" y="11584"/>
                </a:moveTo>
                <a:cubicBezTo>
                  <a:pt x="23465" y="11520"/>
                  <a:pt x="23431" y="11520"/>
                  <a:pt x="23366" y="11534"/>
                </a:cubicBezTo>
                <a:cubicBezTo>
                  <a:pt x="23276" y="11554"/>
                  <a:pt x="23253" y="11605"/>
                  <a:pt x="23242" y="11683"/>
                </a:cubicBezTo>
                <a:cubicBezTo>
                  <a:pt x="23334" y="11729"/>
                  <a:pt x="23453" y="11769"/>
                  <a:pt x="23515" y="11857"/>
                </a:cubicBezTo>
                <a:cubicBezTo>
                  <a:pt x="23544" y="11899"/>
                  <a:pt x="23456" y="12020"/>
                  <a:pt x="23416" y="12030"/>
                </a:cubicBezTo>
                <a:cubicBezTo>
                  <a:pt x="23351" y="12046"/>
                  <a:pt x="23240" y="11999"/>
                  <a:pt x="23217" y="11931"/>
                </a:cubicBezTo>
                <a:cubicBezTo>
                  <a:pt x="23217" y="11914"/>
                  <a:pt x="23217" y="11898"/>
                  <a:pt x="23217" y="11881"/>
                </a:cubicBezTo>
                <a:cubicBezTo>
                  <a:pt x="23279" y="11810"/>
                  <a:pt x="23375" y="11773"/>
                  <a:pt x="23440" y="11708"/>
                </a:cubicBezTo>
                <a:cubicBezTo>
                  <a:pt x="23473" y="11675"/>
                  <a:pt x="23525" y="11569"/>
                  <a:pt x="23490" y="11559"/>
                </a:cubicBezTo>
                <a:cubicBezTo>
                  <a:pt x="23441" y="11545"/>
                  <a:pt x="23459" y="11537"/>
                  <a:pt x="23416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70800" y="4429080"/>
            <a:ext cx="1884240" cy="2125800"/>
          </a:xfrm>
          <a:custGeom>
            <a:avLst/>
            <a:gdLst/>
            <a:ahLst/>
            <a:rect l="l" t="t" r="r" b="b"/>
            <a:pathLst>
              <a:path w="5235" h="5905">
                <a:moveTo>
                  <a:pt x="20365" y="13841"/>
                </a:moveTo>
                <a:cubicBezTo>
                  <a:pt x="20452" y="13964"/>
                  <a:pt x="20543" y="14079"/>
                  <a:pt x="20613" y="14213"/>
                </a:cubicBezTo>
                <a:cubicBezTo>
                  <a:pt x="20637" y="14261"/>
                  <a:pt x="20645" y="14280"/>
                  <a:pt x="20638" y="14213"/>
                </a:cubicBezTo>
              </a:path>
              <a:path w="5235" h="5905">
                <a:moveTo>
                  <a:pt x="20737" y="13767"/>
                </a:moveTo>
                <a:cubicBezTo>
                  <a:pt x="20639" y="13913"/>
                  <a:pt x="20479" y="14290"/>
                  <a:pt x="20315" y="14362"/>
                </a:cubicBezTo>
                <a:cubicBezTo>
                  <a:pt x="20315" y="14345"/>
                  <a:pt x="20315" y="14329"/>
                  <a:pt x="20315" y="14312"/>
                </a:cubicBezTo>
              </a:path>
              <a:path w="5235" h="5905">
                <a:moveTo>
                  <a:pt x="21431" y="13047"/>
                </a:moveTo>
                <a:cubicBezTo>
                  <a:pt x="21378" y="13074"/>
                  <a:pt x="21192" y="13136"/>
                  <a:pt x="21183" y="13171"/>
                </a:cubicBezTo>
                <a:cubicBezTo>
                  <a:pt x="21163" y="13270"/>
                  <a:pt x="21155" y="13286"/>
                  <a:pt x="21158" y="13345"/>
                </a:cubicBezTo>
                <a:cubicBezTo>
                  <a:pt x="21238" y="13377"/>
                  <a:pt x="21300" y="13328"/>
                  <a:pt x="21406" y="13395"/>
                </a:cubicBezTo>
                <a:cubicBezTo>
                  <a:pt x="21619" y="13530"/>
                  <a:pt x="21267" y="13589"/>
                  <a:pt x="21208" y="13593"/>
                </a:cubicBezTo>
                <a:cubicBezTo>
                  <a:pt x="21163" y="13593"/>
                  <a:pt x="21143" y="13596"/>
                  <a:pt x="21183" y="13568"/>
                </a:cubicBezTo>
              </a:path>
              <a:path w="5235" h="5905">
                <a:moveTo>
                  <a:pt x="21034" y="13742"/>
                </a:moveTo>
                <a:cubicBezTo>
                  <a:pt x="21250" y="13719"/>
                  <a:pt x="21461" y="13717"/>
                  <a:pt x="21679" y="13717"/>
                </a:cubicBezTo>
                <a:cubicBezTo>
                  <a:pt x="21687" y="13717"/>
                  <a:pt x="21696" y="13717"/>
                  <a:pt x="21704" y="13717"/>
                </a:cubicBezTo>
              </a:path>
              <a:path w="5235" h="5905">
                <a:moveTo>
                  <a:pt x="21158" y="13990"/>
                </a:moveTo>
                <a:cubicBezTo>
                  <a:pt x="21255" y="13990"/>
                  <a:pt x="21361" y="13935"/>
                  <a:pt x="21456" y="13965"/>
                </a:cubicBezTo>
                <a:cubicBezTo>
                  <a:pt x="21639" y="14022"/>
                  <a:pt x="21434" y="14155"/>
                  <a:pt x="21382" y="14188"/>
                </a:cubicBezTo>
                <a:cubicBezTo>
                  <a:pt x="21374" y="14188"/>
                  <a:pt x="21365" y="14188"/>
                  <a:pt x="21357" y="14188"/>
                </a:cubicBezTo>
                <a:cubicBezTo>
                  <a:pt x="21410" y="14165"/>
                  <a:pt x="21573" y="14138"/>
                  <a:pt x="21530" y="14263"/>
                </a:cubicBezTo>
                <a:cubicBezTo>
                  <a:pt x="21488" y="14385"/>
                  <a:pt x="21397" y="14355"/>
                  <a:pt x="21307" y="14337"/>
                </a:cubicBezTo>
              </a:path>
              <a:path w="5235" h="5905">
                <a:moveTo>
                  <a:pt x="21555" y="13097"/>
                </a:moveTo>
                <a:cubicBezTo>
                  <a:pt x="21618" y="13083"/>
                  <a:pt x="21666" y="13061"/>
                  <a:pt x="21729" y="13047"/>
                </a:cubicBezTo>
              </a:path>
              <a:path w="5235" h="5905">
                <a:moveTo>
                  <a:pt x="21580" y="12898"/>
                </a:moveTo>
                <a:cubicBezTo>
                  <a:pt x="21580" y="12983"/>
                  <a:pt x="21590" y="12978"/>
                  <a:pt x="21630" y="13072"/>
                </a:cubicBezTo>
              </a:path>
              <a:path w="5235" h="5905">
                <a:moveTo>
                  <a:pt x="21654" y="13271"/>
                </a:moveTo>
                <a:lnTo>
                  <a:pt x="21654" y="13271"/>
                </a:lnTo>
                <a:lnTo>
                  <a:pt x="21654" y="13271"/>
                </a:lnTo>
              </a:path>
              <a:path w="5235" h="5905">
                <a:moveTo>
                  <a:pt x="21654" y="13271"/>
                </a:moveTo>
                <a:lnTo>
                  <a:pt x="21654" y="13271"/>
                </a:lnTo>
              </a:path>
              <a:path w="5235" h="5905">
                <a:moveTo>
                  <a:pt x="21927" y="12799"/>
                </a:moveTo>
                <a:cubicBezTo>
                  <a:pt x="21846" y="12840"/>
                  <a:pt x="21828" y="12833"/>
                  <a:pt x="21828" y="12923"/>
                </a:cubicBezTo>
                <a:cubicBezTo>
                  <a:pt x="21828" y="12965"/>
                  <a:pt x="21828" y="12973"/>
                  <a:pt x="21828" y="12998"/>
                </a:cubicBezTo>
                <a:cubicBezTo>
                  <a:pt x="21930" y="12977"/>
                  <a:pt x="21957" y="12966"/>
                  <a:pt x="22051" y="12998"/>
                </a:cubicBezTo>
                <a:cubicBezTo>
                  <a:pt x="22025" y="13114"/>
                  <a:pt x="22006" y="13105"/>
                  <a:pt x="21903" y="13171"/>
                </a:cubicBezTo>
              </a:path>
              <a:path w="5235" h="5905">
                <a:moveTo>
                  <a:pt x="18529" y="14759"/>
                </a:moveTo>
                <a:cubicBezTo>
                  <a:pt x="18653" y="14830"/>
                  <a:pt x="18727" y="14904"/>
                  <a:pt x="18827" y="15007"/>
                </a:cubicBezTo>
                <a:cubicBezTo>
                  <a:pt x="18938" y="15121"/>
                  <a:pt x="19071" y="15275"/>
                  <a:pt x="19174" y="15379"/>
                </a:cubicBezTo>
                <a:cubicBezTo>
                  <a:pt x="19200" y="15405"/>
                  <a:pt x="19208" y="15413"/>
                  <a:pt x="19224" y="15429"/>
                </a:cubicBezTo>
                <a:cubicBezTo>
                  <a:pt x="19196" y="15280"/>
                  <a:pt x="19143" y="15132"/>
                  <a:pt x="19100" y="14982"/>
                </a:cubicBezTo>
                <a:cubicBezTo>
                  <a:pt x="19059" y="14841"/>
                  <a:pt x="18945" y="14639"/>
                  <a:pt x="18976" y="14486"/>
                </a:cubicBezTo>
                <a:cubicBezTo>
                  <a:pt x="18984" y="14447"/>
                  <a:pt x="18985" y="14472"/>
                  <a:pt x="19000" y="14436"/>
                </a:cubicBezTo>
                <a:cubicBezTo>
                  <a:pt x="19129" y="14311"/>
                  <a:pt x="19287" y="14642"/>
                  <a:pt x="19348" y="14709"/>
                </a:cubicBezTo>
                <a:cubicBezTo>
                  <a:pt x="19444" y="14814"/>
                  <a:pt x="19445" y="14844"/>
                  <a:pt x="19546" y="14858"/>
                </a:cubicBezTo>
              </a:path>
              <a:path w="5235" h="5905">
                <a:moveTo>
                  <a:pt x="19075" y="15801"/>
                </a:moveTo>
                <a:cubicBezTo>
                  <a:pt x="19194" y="15748"/>
                  <a:pt x="19224" y="15732"/>
                  <a:pt x="19348" y="15751"/>
                </a:cubicBezTo>
                <a:cubicBezTo>
                  <a:pt x="19322" y="15899"/>
                  <a:pt x="19276" y="15979"/>
                  <a:pt x="19174" y="16098"/>
                </a:cubicBezTo>
                <a:cubicBezTo>
                  <a:pt x="19256" y="16065"/>
                  <a:pt x="19241" y="16064"/>
                  <a:pt x="19348" y="16049"/>
                </a:cubicBezTo>
                <a:cubicBezTo>
                  <a:pt x="19374" y="16195"/>
                  <a:pt x="19310" y="16318"/>
                  <a:pt x="19149" y="16371"/>
                </a:cubicBezTo>
                <a:cubicBezTo>
                  <a:pt x="19052" y="16403"/>
                  <a:pt x="19042" y="16348"/>
                  <a:pt x="18976" y="16321"/>
                </a:cubicBezTo>
              </a:path>
              <a:path w="5235" h="5905">
                <a:moveTo>
                  <a:pt x="21109" y="13519"/>
                </a:moveTo>
                <a:cubicBezTo>
                  <a:pt x="21165" y="13546"/>
                  <a:pt x="21494" y="13294"/>
                  <a:pt x="21530" y="13271"/>
                </a:cubicBezTo>
                <a:cubicBezTo>
                  <a:pt x="21677" y="13178"/>
                  <a:pt x="22139" y="12992"/>
                  <a:pt x="22225" y="12849"/>
                </a:cubicBezTo>
                <a:cubicBezTo>
                  <a:pt x="22258" y="12849"/>
                  <a:pt x="22258" y="12849"/>
                  <a:pt x="22200" y="12849"/>
                </a:cubicBezTo>
              </a:path>
              <a:path w="5235" h="5905">
                <a:moveTo>
                  <a:pt x="21332" y="12303"/>
                </a:moveTo>
                <a:cubicBezTo>
                  <a:pt x="21332" y="12483"/>
                  <a:pt x="21353" y="12699"/>
                  <a:pt x="21307" y="12874"/>
                </a:cubicBezTo>
                <a:cubicBezTo>
                  <a:pt x="21282" y="12898"/>
                  <a:pt x="21274" y="12906"/>
                  <a:pt x="21307" y="12923"/>
                </a:cubicBezTo>
              </a:path>
              <a:path w="5235" h="5905">
                <a:moveTo>
                  <a:pt x="22126" y="13717"/>
                </a:moveTo>
                <a:cubicBezTo>
                  <a:pt x="22184" y="13717"/>
                  <a:pt x="22241" y="13717"/>
                  <a:pt x="22299" y="13717"/>
                </a:cubicBezTo>
              </a:path>
              <a:path w="5235" h="5905">
                <a:moveTo>
                  <a:pt x="22175" y="13915"/>
                </a:moveTo>
                <a:cubicBezTo>
                  <a:pt x="22233" y="13915"/>
                  <a:pt x="22291" y="13915"/>
                  <a:pt x="22349" y="13915"/>
                </a:cubicBezTo>
              </a:path>
              <a:path w="5235" h="5905">
                <a:moveTo>
                  <a:pt x="23217" y="13146"/>
                </a:moveTo>
                <a:cubicBezTo>
                  <a:pt x="23275" y="13063"/>
                  <a:pt x="23050" y="13168"/>
                  <a:pt x="23044" y="13171"/>
                </a:cubicBezTo>
                <a:cubicBezTo>
                  <a:pt x="22984" y="13211"/>
                  <a:pt x="22972" y="13215"/>
                  <a:pt x="22944" y="13246"/>
                </a:cubicBezTo>
                <a:cubicBezTo>
                  <a:pt x="23047" y="13348"/>
                  <a:pt x="23196" y="13420"/>
                  <a:pt x="23192" y="13568"/>
                </a:cubicBezTo>
                <a:cubicBezTo>
                  <a:pt x="23167" y="13646"/>
                  <a:pt x="23156" y="13673"/>
                  <a:pt x="23093" y="13692"/>
                </a:cubicBezTo>
                <a:cubicBezTo>
                  <a:pt x="22951" y="13629"/>
                  <a:pt x="23025" y="13528"/>
                  <a:pt x="23093" y="13395"/>
                </a:cubicBezTo>
                <a:cubicBezTo>
                  <a:pt x="23149" y="13302"/>
                  <a:pt x="23149" y="13288"/>
                  <a:pt x="23192" y="13246"/>
                </a:cubicBezTo>
              </a:path>
              <a:path w="5235" h="5905">
                <a:moveTo>
                  <a:pt x="23440" y="13171"/>
                </a:moveTo>
                <a:cubicBezTo>
                  <a:pt x="23513" y="13147"/>
                  <a:pt x="23537" y="13138"/>
                  <a:pt x="23589" y="13146"/>
                </a:cubicBezTo>
                <a:cubicBezTo>
                  <a:pt x="23651" y="13310"/>
                  <a:pt x="23564" y="13352"/>
                  <a:pt x="23490" y="13494"/>
                </a:cubicBezTo>
                <a:cubicBezTo>
                  <a:pt x="23490" y="13502"/>
                  <a:pt x="23490" y="13511"/>
                  <a:pt x="23490" y="13519"/>
                </a:cubicBezTo>
                <a:cubicBezTo>
                  <a:pt x="23551" y="13519"/>
                  <a:pt x="23638" y="13488"/>
                  <a:pt x="23688" y="13494"/>
                </a:cubicBezTo>
                <a:cubicBezTo>
                  <a:pt x="23713" y="13497"/>
                  <a:pt x="23727" y="13519"/>
                  <a:pt x="23763" y="13519"/>
                </a:cubicBezTo>
              </a:path>
              <a:path w="5235" h="5905">
                <a:moveTo>
                  <a:pt x="22895" y="13891"/>
                </a:moveTo>
                <a:cubicBezTo>
                  <a:pt x="23067" y="13839"/>
                  <a:pt x="23299" y="13824"/>
                  <a:pt x="23490" y="13791"/>
                </a:cubicBezTo>
                <a:cubicBezTo>
                  <a:pt x="23540" y="13782"/>
                  <a:pt x="23672" y="13717"/>
                  <a:pt x="23688" y="13767"/>
                </a:cubicBezTo>
              </a:path>
              <a:path w="5235" h="5905">
                <a:moveTo>
                  <a:pt x="23416" y="14288"/>
                </a:moveTo>
                <a:cubicBezTo>
                  <a:pt x="23458" y="14273"/>
                  <a:pt x="23433" y="14233"/>
                  <a:pt x="23391" y="14213"/>
                </a:cubicBezTo>
                <a:cubicBezTo>
                  <a:pt x="23286" y="14163"/>
                  <a:pt x="23208" y="14180"/>
                  <a:pt x="23143" y="14263"/>
                </a:cubicBezTo>
                <a:cubicBezTo>
                  <a:pt x="23081" y="14342"/>
                  <a:pt x="23031" y="14403"/>
                  <a:pt x="23093" y="14486"/>
                </a:cubicBezTo>
                <a:cubicBezTo>
                  <a:pt x="23244" y="14461"/>
                  <a:pt x="23217" y="14402"/>
                  <a:pt x="23316" y="14312"/>
                </a:cubicBezTo>
                <a:cubicBezTo>
                  <a:pt x="23351" y="14312"/>
                  <a:pt x="23364" y="14303"/>
                  <a:pt x="23366" y="14263"/>
                </a:cubicBezTo>
                <a:cubicBezTo>
                  <a:pt x="23366" y="14442"/>
                  <a:pt x="23359" y="14609"/>
                  <a:pt x="23316" y="14784"/>
                </a:cubicBezTo>
                <a:cubicBezTo>
                  <a:pt x="23308" y="14809"/>
                  <a:pt x="23300" y="14833"/>
                  <a:pt x="23292" y="14858"/>
                </a:cubicBezTo>
              </a:path>
              <a:path w="5235" h="5905">
                <a:moveTo>
                  <a:pt x="21282" y="15999"/>
                </a:moveTo>
                <a:cubicBezTo>
                  <a:pt x="21291" y="15972"/>
                  <a:pt x="21315" y="15954"/>
                  <a:pt x="21258" y="15974"/>
                </a:cubicBezTo>
                <a:cubicBezTo>
                  <a:pt x="21176" y="16003"/>
                  <a:pt x="20862" y="16120"/>
                  <a:pt x="20960" y="16272"/>
                </a:cubicBezTo>
                <a:cubicBezTo>
                  <a:pt x="21058" y="16425"/>
                  <a:pt x="21225" y="16392"/>
                  <a:pt x="21208" y="16594"/>
                </a:cubicBezTo>
                <a:cubicBezTo>
                  <a:pt x="21066" y="16594"/>
                  <a:pt x="21021" y="16586"/>
                  <a:pt x="21109" y="16421"/>
                </a:cubicBezTo>
                <a:cubicBezTo>
                  <a:pt x="21150" y="16343"/>
                  <a:pt x="21297" y="16213"/>
                  <a:pt x="21307" y="16123"/>
                </a:cubicBezTo>
                <a:cubicBezTo>
                  <a:pt x="21307" y="16115"/>
                  <a:pt x="21307" y="16106"/>
                  <a:pt x="21307" y="16098"/>
                </a:cubicBezTo>
              </a:path>
              <a:path w="5235" h="5905">
                <a:moveTo>
                  <a:pt x="21456" y="16073"/>
                </a:moveTo>
                <a:cubicBezTo>
                  <a:pt x="21569" y="16019"/>
                  <a:pt x="21684" y="16148"/>
                  <a:pt x="21704" y="16272"/>
                </a:cubicBezTo>
                <a:cubicBezTo>
                  <a:pt x="21727" y="16419"/>
                  <a:pt x="21597" y="16519"/>
                  <a:pt x="21481" y="16545"/>
                </a:cubicBezTo>
                <a:cubicBezTo>
                  <a:pt x="21468" y="16399"/>
                  <a:pt x="21544" y="16374"/>
                  <a:pt x="21679" y="16446"/>
                </a:cubicBezTo>
                <a:cubicBezTo>
                  <a:pt x="21742" y="16480"/>
                  <a:pt x="21756" y="16521"/>
                  <a:pt x="21803" y="16545"/>
                </a:cubicBezTo>
              </a:path>
              <a:path w="5235" h="5905">
                <a:moveTo>
                  <a:pt x="20836" y="16892"/>
                </a:moveTo>
                <a:cubicBezTo>
                  <a:pt x="20829" y="16743"/>
                  <a:pt x="20801" y="16596"/>
                  <a:pt x="20811" y="16446"/>
                </a:cubicBezTo>
                <a:cubicBezTo>
                  <a:pt x="20821" y="16287"/>
                  <a:pt x="20827" y="16179"/>
                  <a:pt x="20811" y="16024"/>
                </a:cubicBezTo>
                <a:cubicBezTo>
                  <a:pt x="20811" y="15999"/>
                  <a:pt x="20811" y="15991"/>
                  <a:pt x="20811" y="15974"/>
                </a:cubicBezTo>
                <a:cubicBezTo>
                  <a:pt x="21104" y="15974"/>
                  <a:pt x="21385" y="15939"/>
                  <a:pt x="21679" y="15974"/>
                </a:cubicBezTo>
                <a:cubicBezTo>
                  <a:pt x="21808" y="15989"/>
                  <a:pt x="21969" y="16027"/>
                  <a:pt x="22101" y="16049"/>
                </a:cubicBezTo>
              </a:path>
              <a:path w="5235" h="5905">
                <a:moveTo>
                  <a:pt x="20513" y="16396"/>
                </a:moveTo>
                <a:cubicBezTo>
                  <a:pt x="20558" y="16381"/>
                  <a:pt x="20555" y="16262"/>
                  <a:pt x="20513" y="16222"/>
                </a:cubicBezTo>
                <a:cubicBezTo>
                  <a:pt x="20425" y="16138"/>
                  <a:pt x="20257" y="16120"/>
                  <a:pt x="20191" y="16247"/>
                </a:cubicBezTo>
                <a:cubicBezTo>
                  <a:pt x="20166" y="16371"/>
                  <a:pt x="20158" y="16412"/>
                  <a:pt x="20191" y="16495"/>
                </a:cubicBezTo>
                <a:cubicBezTo>
                  <a:pt x="20348" y="16479"/>
                  <a:pt x="20380" y="16439"/>
                  <a:pt x="20464" y="16321"/>
                </a:cubicBezTo>
                <a:cubicBezTo>
                  <a:pt x="20487" y="16299"/>
                  <a:pt x="20495" y="16294"/>
                  <a:pt x="20489" y="16272"/>
                </a:cubicBezTo>
                <a:cubicBezTo>
                  <a:pt x="20507" y="16421"/>
                  <a:pt x="20547" y="16569"/>
                  <a:pt x="20563" y="16718"/>
                </a:cubicBezTo>
                <a:cubicBezTo>
                  <a:pt x="20563" y="16776"/>
                  <a:pt x="20563" y="16785"/>
                  <a:pt x="20563" y="16818"/>
                </a:cubicBezTo>
              </a:path>
              <a:path w="5235" h="5905">
                <a:moveTo>
                  <a:pt x="21679" y="15354"/>
                </a:moveTo>
                <a:cubicBezTo>
                  <a:pt x="21719" y="15294"/>
                  <a:pt x="21641" y="15159"/>
                  <a:pt x="21555" y="15106"/>
                </a:cubicBezTo>
                <a:cubicBezTo>
                  <a:pt x="21400" y="15010"/>
                  <a:pt x="21332" y="15269"/>
                  <a:pt x="21332" y="15379"/>
                </a:cubicBezTo>
                <a:cubicBezTo>
                  <a:pt x="21340" y="15404"/>
                  <a:pt x="21349" y="15428"/>
                  <a:pt x="21357" y="15453"/>
                </a:cubicBezTo>
                <a:cubicBezTo>
                  <a:pt x="21551" y="15466"/>
                  <a:pt x="21600" y="15415"/>
                  <a:pt x="21679" y="15230"/>
                </a:cubicBezTo>
                <a:cubicBezTo>
                  <a:pt x="21687" y="15205"/>
                  <a:pt x="21696" y="15181"/>
                  <a:pt x="21704" y="15156"/>
                </a:cubicBezTo>
                <a:cubicBezTo>
                  <a:pt x="21704" y="15315"/>
                  <a:pt x="21722" y="15469"/>
                  <a:pt x="21729" y="15627"/>
                </a:cubicBezTo>
                <a:cubicBezTo>
                  <a:pt x="21731" y="15680"/>
                  <a:pt x="21741" y="15664"/>
                  <a:pt x="21754" y="15701"/>
                </a:cubicBezTo>
              </a:path>
              <a:path w="5235" h="5905">
                <a:moveTo>
                  <a:pt x="21208" y="16818"/>
                </a:moveTo>
                <a:cubicBezTo>
                  <a:pt x="21208" y="16790"/>
                  <a:pt x="21210" y="16779"/>
                  <a:pt x="21233" y="16768"/>
                </a:cubicBezTo>
                <a:cubicBezTo>
                  <a:pt x="21146" y="16703"/>
                  <a:pt x="21131" y="16783"/>
                  <a:pt x="21084" y="16842"/>
                </a:cubicBezTo>
                <a:cubicBezTo>
                  <a:pt x="20974" y="16978"/>
                  <a:pt x="21164" y="16965"/>
                  <a:pt x="21258" y="17041"/>
                </a:cubicBezTo>
                <a:cubicBezTo>
                  <a:pt x="21378" y="17138"/>
                  <a:pt x="21182" y="17197"/>
                  <a:pt x="21134" y="17214"/>
                </a:cubicBezTo>
                <a:cubicBezTo>
                  <a:pt x="21150" y="17096"/>
                  <a:pt x="21191" y="16985"/>
                  <a:pt x="21208" y="16867"/>
                </a:cubicBezTo>
              </a:path>
              <a:path w="5235" h="5905">
                <a:moveTo>
                  <a:pt x="21555" y="16718"/>
                </a:moveTo>
                <a:cubicBezTo>
                  <a:pt x="21569" y="16832"/>
                  <a:pt x="21596" y="16948"/>
                  <a:pt x="21605" y="17066"/>
                </a:cubicBezTo>
                <a:cubicBezTo>
                  <a:pt x="21605" y="17144"/>
                  <a:pt x="21590" y="17162"/>
                  <a:pt x="21630" y="17190"/>
                </a:cubicBezTo>
              </a:path>
              <a:path w="5235" h="5905">
                <a:moveTo>
                  <a:pt x="20513" y="17264"/>
                </a:moveTo>
                <a:cubicBezTo>
                  <a:pt x="20604" y="17264"/>
                  <a:pt x="20695" y="17264"/>
                  <a:pt x="20786" y="17264"/>
                </a:cubicBezTo>
              </a:path>
              <a:path w="5235" h="5905">
                <a:moveTo>
                  <a:pt x="20588" y="17636"/>
                </a:moveTo>
                <a:cubicBezTo>
                  <a:pt x="20784" y="17616"/>
                  <a:pt x="20984" y="17594"/>
                  <a:pt x="21183" y="17587"/>
                </a:cubicBezTo>
                <a:cubicBezTo>
                  <a:pt x="21368" y="17581"/>
                  <a:pt x="21669" y="17510"/>
                  <a:pt x="21853" y="17562"/>
                </a:cubicBezTo>
                <a:cubicBezTo>
                  <a:pt x="21853" y="17587"/>
                  <a:pt x="21853" y="17595"/>
                  <a:pt x="21878" y="17587"/>
                </a:cubicBezTo>
              </a:path>
              <a:path w="5235" h="5905">
                <a:moveTo>
                  <a:pt x="21654" y="17785"/>
                </a:moveTo>
                <a:cubicBezTo>
                  <a:pt x="21612" y="17814"/>
                  <a:pt x="21642" y="18042"/>
                  <a:pt x="21654" y="18107"/>
                </a:cubicBezTo>
                <a:cubicBezTo>
                  <a:pt x="21663" y="18155"/>
                  <a:pt x="21679" y="18160"/>
                  <a:pt x="21679" y="18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43800" y="3830760"/>
            <a:ext cx="1044360" cy="1625400"/>
          </a:xfrm>
          <a:custGeom>
            <a:avLst/>
            <a:gdLst/>
            <a:ahLst/>
            <a:rect l="l" t="t" r="r" b="b"/>
            <a:pathLst>
              <a:path w="2903" h="4516">
                <a:moveTo>
                  <a:pt x="19075" y="13395"/>
                </a:moveTo>
                <a:cubicBezTo>
                  <a:pt x="19044" y="13348"/>
                  <a:pt x="18913" y="13391"/>
                  <a:pt x="18852" y="13419"/>
                </a:cubicBezTo>
                <a:cubicBezTo>
                  <a:pt x="18781" y="13452"/>
                  <a:pt x="18744" y="13485"/>
                  <a:pt x="18703" y="13543"/>
                </a:cubicBezTo>
                <a:cubicBezTo>
                  <a:pt x="18761" y="13583"/>
                  <a:pt x="18929" y="13678"/>
                  <a:pt x="18951" y="13742"/>
                </a:cubicBezTo>
                <a:cubicBezTo>
                  <a:pt x="18979" y="13826"/>
                  <a:pt x="18902" y="13865"/>
                  <a:pt x="18852" y="13915"/>
                </a:cubicBezTo>
                <a:cubicBezTo>
                  <a:pt x="18779" y="13826"/>
                  <a:pt x="18785" y="13742"/>
                  <a:pt x="18852" y="13643"/>
                </a:cubicBezTo>
                <a:cubicBezTo>
                  <a:pt x="18898" y="13574"/>
                  <a:pt x="18981" y="13525"/>
                  <a:pt x="19000" y="13444"/>
                </a:cubicBezTo>
              </a:path>
              <a:path w="2903" h="4516">
                <a:moveTo>
                  <a:pt x="19224" y="13370"/>
                </a:moveTo>
                <a:cubicBezTo>
                  <a:pt x="19291" y="13370"/>
                  <a:pt x="19351" y="13372"/>
                  <a:pt x="19348" y="13469"/>
                </a:cubicBezTo>
                <a:cubicBezTo>
                  <a:pt x="19344" y="13584"/>
                  <a:pt x="19243" y="13684"/>
                  <a:pt x="19174" y="13767"/>
                </a:cubicBezTo>
                <a:cubicBezTo>
                  <a:pt x="19278" y="13767"/>
                  <a:pt x="19373" y="13770"/>
                  <a:pt x="19472" y="13791"/>
                </a:cubicBezTo>
                <a:cubicBezTo>
                  <a:pt x="19480" y="13791"/>
                  <a:pt x="19488" y="13791"/>
                  <a:pt x="19496" y="13791"/>
                </a:cubicBezTo>
              </a:path>
              <a:path w="2903" h="4516">
                <a:moveTo>
                  <a:pt x="18455" y="14089"/>
                </a:moveTo>
                <a:cubicBezTo>
                  <a:pt x="18626" y="14054"/>
                  <a:pt x="18823" y="14025"/>
                  <a:pt x="19000" y="14015"/>
                </a:cubicBezTo>
                <a:cubicBezTo>
                  <a:pt x="19230" y="14002"/>
                  <a:pt x="19464" y="14015"/>
                  <a:pt x="19695" y="14015"/>
                </a:cubicBezTo>
              </a:path>
              <a:path w="2903" h="4516">
                <a:moveTo>
                  <a:pt x="18951" y="14238"/>
                </a:moveTo>
                <a:cubicBezTo>
                  <a:pt x="18951" y="14155"/>
                  <a:pt x="18951" y="14353"/>
                  <a:pt x="18951" y="14436"/>
                </a:cubicBezTo>
                <a:cubicBezTo>
                  <a:pt x="18951" y="14535"/>
                  <a:pt x="18951" y="14635"/>
                  <a:pt x="18951" y="14734"/>
                </a:cubicBezTo>
              </a:path>
              <a:path w="2903" h="4516">
                <a:moveTo>
                  <a:pt x="19348" y="14238"/>
                </a:moveTo>
                <a:cubicBezTo>
                  <a:pt x="19289" y="14278"/>
                  <a:pt x="19246" y="14288"/>
                  <a:pt x="19174" y="14288"/>
                </a:cubicBezTo>
                <a:cubicBezTo>
                  <a:pt x="19174" y="14354"/>
                  <a:pt x="19174" y="14420"/>
                  <a:pt x="19174" y="14486"/>
                </a:cubicBezTo>
                <a:cubicBezTo>
                  <a:pt x="19218" y="14486"/>
                  <a:pt x="19240" y="14466"/>
                  <a:pt x="19273" y="14461"/>
                </a:cubicBezTo>
                <a:cubicBezTo>
                  <a:pt x="19405" y="14440"/>
                  <a:pt x="19451" y="14580"/>
                  <a:pt x="19397" y="14684"/>
                </a:cubicBezTo>
                <a:cubicBezTo>
                  <a:pt x="19363" y="14750"/>
                  <a:pt x="19289" y="14759"/>
                  <a:pt x="19224" y="14759"/>
                </a:cubicBezTo>
              </a:path>
              <a:path w="2903" h="4516">
                <a:moveTo>
                  <a:pt x="20786" y="13791"/>
                </a:moveTo>
                <a:cubicBezTo>
                  <a:pt x="20834" y="13791"/>
                  <a:pt x="20743" y="13812"/>
                  <a:pt x="20712" y="13841"/>
                </a:cubicBezTo>
                <a:cubicBezTo>
                  <a:pt x="20668" y="13882"/>
                  <a:pt x="20573" y="13920"/>
                  <a:pt x="20538" y="13965"/>
                </a:cubicBezTo>
                <a:cubicBezTo>
                  <a:pt x="20513" y="13998"/>
                  <a:pt x="20441" y="14043"/>
                  <a:pt x="20414" y="14089"/>
                </a:cubicBezTo>
                <a:cubicBezTo>
                  <a:pt x="20395" y="14122"/>
                  <a:pt x="20394" y="14117"/>
                  <a:pt x="20365" y="14139"/>
                </a:cubicBezTo>
                <a:cubicBezTo>
                  <a:pt x="20342" y="14156"/>
                  <a:pt x="20249" y="14226"/>
                  <a:pt x="20241" y="14238"/>
                </a:cubicBezTo>
                <a:cubicBezTo>
                  <a:pt x="20236" y="14246"/>
                  <a:pt x="20223" y="14306"/>
                  <a:pt x="20216" y="14312"/>
                </a:cubicBezTo>
                <a:cubicBezTo>
                  <a:pt x="20194" y="14329"/>
                  <a:pt x="20173" y="14355"/>
                  <a:pt x="20141" y="14387"/>
                </a:cubicBezTo>
                <a:cubicBezTo>
                  <a:pt x="20133" y="14395"/>
                  <a:pt x="20125" y="14404"/>
                  <a:pt x="20117" y="14412"/>
                </a:cubicBezTo>
                <a:cubicBezTo>
                  <a:pt x="20144" y="14493"/>
                  <a:pt x="20324" y="14252"/>
                  <a:pt x="20340" y="14238"/>
                </a:cubicBezTo>
                <a:cubicBezTo>
                  <a:pt x="20447" y="14143"/>
                  <a:pt x="20561" y="14067"/>
                  <a:pt x="20662" y="13965"/>
                </a:cubicBezTo>
                <a:cubicBezTo>
                  <a:pt x="20690" y="13936"/>
                  <a:pt x="20703" y="13927"/>
                  <a:pt x="20712" y="13891"/>
                </a:cubicBezTo>
              </a:path>
              <a:path w="2903" h="4516">
                <a:moveTo>
                  <a:pt x="18777" y="15056"/>
                </a:moveTo>
                <a:cubicBezTo>
                  <a:pt x="18777" y="15048"/>
                  <a:pt x="18777" y="15040"/>
                  <a:pt x="18777" y="15032"/>
                </a:cubicBezTo>
                <a:cubicBezTo>
                  <a:pt x="18827" y="15032"/>
                  <a:pt x="18876" y="15032"/>
                  <a:pt x="18926" y="15032"/>
                </a:cubicBezTo>
              </a:path>
              <a:path w="2903" h="4516">
                <a:moveTo>
                  <a:pt x="18827" y="14858"/>
                </a:moveTo>
                <a:cubicBezTo>
                  <a:pt x="18819" y="14866"/>
                  <a:pt x="18810" y="14875"/>
                  <a:pt x="18802" y="14883"/>
                </a:cubicBezTo>
              </a:path>
              <a:path w="2903" h="4516">
                <a:moveTo>
                  <a:pt x="18901" y="15131"/>
                </a:moveTo>
                <a:cubicBezTo>
                  <a:pt x="18901" y="15139"/>
                  <a:pt x="18901" y="15148"/>
                  <a:pt x="18901" y="15156"/>
                </a:cubicBezTo>
              </a:path>
              <a:path w="2903" h="4516">
                <a:moveTo>
                  <a:pt x="19224" y="14808"/>
                </a:moveTo>
                <a:cubicBezTo>
                  <a:pt x="19187" y="14829"/>
                  <a:pt x="19127" y="14849"/>
                  <a:pt x="19124" y="14883"/>
                </a:cubicBezTo>
                <a:cubicBezTo>
                  <a:pt x="19124" y="14932"/>
                  <a:pt x="19124" y="14949"/>
                  <a:pt x="19124" y="14982"/>
                </a:cubicBezTo>
                <a:cubicBezTo>
                  <a:pt x="19166" y="14976"/>
                  <a:pt x="19295" y="14933"/>
                  <a:pt x="19323" y="15007"/>
                </a:cubicBezTo>
                <a:cubicBezTo>
                  <a:pt x="19360" y="15106"/>
                  <a:pt x="19244" y="15142"/>
                  <a:pt x="19174" y="15156"/>
                </a:cubicBezTo>
              </a:path>
              <a:path w="2903" h="4516">
                <a:moveTo>
                  <a:pt x="20290" y="11261"/>
                </a:moveTo>
                <a:cubicBezTo>
                  <a:pt x="20309" y="11223"/>
                  <a:pt x="20308" y="11202"/>
                  <a:pt x="20241" y="11112"/>
                </a:cubicBezTo>
                <a:cubicBezTo>
                  <a:pt x="20199" y="11055"/>
                  <a:pt x="20074" y="10953"/>
                  <a:pt x="19993" y="10988"/>
                </a:cubicBezTo>
                <a:cubicBezTo>
                  <a:pt x="19815" y="11065"/>
                  <a:pt x="19833" y="11340"/>
                  <a:pt x="19869" y="11485"/>
                </a:cubicBezTo>
                <a:cubicBezTo>
                  <a:pt x="19912" y="11572"/>
                  <a:pt x="19919" y="11595"/>
                  <a:pt x="19968" y="11633"/>
                </a:cubicBezTo>
                <a:cubicBezTo>
                  <a:pt x="20168" y="11587"/>
                  <a:pt x="20224" y="11455"/>
                  <a:pt x="20290" y="11261"/>
                </a:cubicBezTo>
                <a:cubicBezTo>
                  <a:pt x="20317" y="11182"/>
                  <a:pt x="20309" y="11174"/>
                  <a:pt x="20315" y="11112"/>
                </a:cubicBezTo>
                <a:cubicBezTo>
                  <a:pt x="20284" y="11316"/>
                  <a:pt x="20281" y="11544"/>
                  <a:pt x="20265" y="11757"/>
                </a:cubicBezTo>
                <a:cubicBezTo>
                  <a:pt x="20248" y="11980"/>
                  <a:pt x="20211" y="12228"/>
                  <a:pt x="20241" y="12452"/>
                </a:cubicBezTo>
                <a:cubicBezTo>
                  <a:pt x="20241" y="12477"/>
                  <a:pt x="20241" y="12485"/>
                  <a:pt x="20265" y="12477"/>
                </a:cubicBezTo>
              </a:path>
              <a:path w="2903" h="4516">
                <a:moveTo>
                  <a:pt x="20762" y="10964"/>
                </a:moveTo>
                <a:cubicBezTo>
                  <a:pt x="20762" y="11053"/>
                  <a:pt x="20714" y="11435"/>
                  <a:pt x="20786" y="11460"/>
                </a:cubicBezTo>
              </a:path>
              <a:path w="2903" h="4516">
                <a:moveTo>
                  <a:pt x="20638" y="11683"/>
                </a:moveTo>
                <a:cubicBezTo>
                  <a:pt x="20613" y="11683"/>
                  <a:pt x="20605" y="11683"/>
                  <a:pt x="20588" y="11683"/>
                </a:cubicBezTo>
                <a:cubicBezTo>
                  <a:pt x="20683" y="11683"/>
                  <a:pt x="20767" y="11666"/>
                  <a:pt x="20861" y="11658"/>
                </a:cubicBezTo>
                <a:cubicBezTo>
                  <a:pt x="20909" y="11654"/>
                  <a:pt x="20961" y="11658"/>
                  <a:pt x="21010" y="11658"/>
                </a:cubicBezTo>
              </a:path>
              <a:path w="2903" h="4516">
                <a:moveTo>
                  <a:pt x="20861" y="12005"/>
                </a:moveTo>
                <a:cubicBezTo>
                  <a:pt x="20867" y="11988"/>
                  <a:pt x="20895" y="11950"/>
                  <a:pt x="20861" y="11931"/>
                </a:cubicBezTo>
                <a:cubicBezTo>
                  <a:pt x="20748" y="11868"/>
                  <a:pt x="20666" y="11911"/>
                  <a:pt x="20638" y="12030"/>
                </a:cubicBezTo>
                <a:cubicBezTo>
                  <a:pt x="20638" y="12047"/>
                  <a:pt x="20638" y="12063"/>
                  <a:pt x="20638" y="12080"/>
                </a:cubicBezTo>
                <a:cubicBezTo>
                  <a:pt x="20733" y="12096"/>
                  <a:pt x="20768" y="12118"/>
                  <a:pt x="20836" y="12030"/>
                </a:cubicBezTo>
                <a:cubicBezTo>
                  <a:pt x="20856" y="11990"/>
                  <a:pt x="20865" y="11984"/>
                  <a:pt x="20861" y="11956"/>
                </a:cubicBezTo>
                <a:cubicBezTo>
                  <a:pt x="20861" y="12041"/>
                  <a:pt x="20816" y="12380"/>
                  <a:pt x="20886" y="12402"/>
                </a:cubicBezTo>
              </a:path>
              <a:path w="2903" h="4516">
                <a:moveTo>
                  <a:pt x="19869" y="12626"/>
                </a:moveTo>
                <a:cubicBezTo>
                  <a:pt x="19933" y="12690"/>
                  <a:pt x="19953" y="12733"/>
                  <a:pt x="20042" y="12750"/>
                </a:cubicBezTo>
                <a:cubicBezTo>
                  <a:pt x="20185" y="12777"/>
                  <a:pt x="20372" y="12754"/>
                  <a:pt x="20513" y="12725"/>
                </a:cubicBezTo>
                <a:cubicBezTo>
                  <a:pt x="20598" y="12708"/>
                  <a:pt x="20707" y="12681"/>
                  <a:pt x="20786" y="12650"/>
                </a:cubicBezTo>
                <a:cubicBezTo>
                  <a:pt x="20876" y="12614"/>
                  <a:pt x="20964" y="12567"/>
                  <a:pt x="21034" y="12502"/>
                </a:cubicBezTo>
                <a:cubicBezTo>
                  <a:pt x="21105" y="12436"/>
                  <a:pt x="21140" y="12378"/>
                  <a:pt x="21183" y="12303"/>
                </a:cubicBezTo>
                <a:cubicBezTo>
                  <a:pt x="21236" y="12211"/>
                  <a:pt x="21316" y="12113"/>
                  <a:pt x="21332" y="12005"/>
                </a:cubicBezTo>
                <a:cubicBezTo>
                  <a:pt x="21352" y="11875"/>
                  <a:pt x="21378" y="11716"/>
                  <a:pt x="21357" y="11584"/>
                </a:cubicBezTo>
                <a:cubicBezTo>
                  <a:pt x="21341" y="11480"/>
                  <a:pt x="21332" y="11358"/>
                  <a:pt x="21282" y="11261"/>
                </a:cubicBezTo>
                <a:cubicBezTo>
                  <a:pt x="21236" y="11173"/>
                  <a:pt x="21152" y="11084"/>
                  <a:pt x="21084" y="11013"/>
                </a:cubicBezTo>
                <a:cubicBezTo>
                  <a:pt x="21004" y="10929"/>
                  <a:pt x="20964" y="10897"/>
                  <a:pt x="20861" y="10840"/>
                </a:cubicBezTo>
                <a:cubicBezTo>
                  <a:pt x="20777" y="10794"/>
                  <a:pt x="20704" y="10748"/>
                  <a:pt x="20613" y="10716"/>
                </a:cubicBezTo>
                <a:cubicBezTo>
                  <a:pt x="20494" y="10675"/>
                  <a:pt x="20365" y="10645"/>
                  <a:pt x="20241" y="10641"/>
                </a:cubicBezTo>
                <a:cubicBezTo>
                  <a:pt x="20101" y="10637"/>
                  <a:pt x="19993" y="10680"/>
                  <a:pt x="19869" y="10740"/>
                </a:cubicBezTo>
                <a:cubicBezTo>
                  <a:pt x="19741" y="10802"/>
                  <a:pt x="19655" y="10877"/>
                  <a:pt x="19571" y="10988"/>
                </a:cubicBezTo>
                <a:cubicBezTo>
                  <a:pt x="19494" y="11091"/>
                  <a:pt x="19432" y="11189"/>
                  <a:pt x="19397" y="11311"/>
                </a:cubicBezTo>
                <a:cubicBezTo>
                  <a:pt x="19352" y="11469"/>
                  <a:pt x="19371" y="11623"/>
                  <a:pt x="19397" y="11782"/>
                </a:cubicBezTo>
                <a:cubicBezTo>
                  <a:pt x="19424" y="11948"/>
                  <a:pt x="19480" y="12123"/>
                  <a:pt x="19546" y="12278"/>
                </a:cubicBezTo>
                <a:cubicBezTo>
                  <a:pt x="19595" y="12393"/>
                  <a:pt x="19672" y="12520"/>
                  <a:pt x="19769" y="12601"/>
                </a:cubicBezTo>
                <a:cubicBezTo>
                  <a:pt x="19834" y="12656"/>
                  <a:pt x="19876" y="12702"/>
                  <a:pt x="19943" y="12750"/>
                </a:cubicBezTo>
                <a:cubicBezTo>
                  <a:pt x="19987" y="12771"/>
                  <a:pt x="19999" y="12774"/>
                  <a:pt x="20017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Rewrite the number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below as fractions with a numerat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and denominato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5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00800" y="2133720"/>
          <a:ext cx="1027080" cy="167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2133720"/>
                    <a:ext cx="10270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676520" y="3962520"/>
          <a:ext cx="84744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962520"/>
                    <a:ext cx="847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168720" y="2209680"/>
          <a:ext cx="42228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68720" y="2209680"/>
                    <a:ext cx="4222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867280" y="4800600"/>
          <a:ext cx="53028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4800600"/>
                    <a:ext cx="53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84200" y="2446200"/>
            <a:ext cx="847800" cy="812880"/>
          </a:xfrm>
          <a:custGeom>
            <a:avLst/>
            <a:gdLst/>
            <a:ahLst/>
            <a:rect l="l" t="t" r="r" b="b"/>
            <a:pathLst>
              <a:path w="2357" h="2259">
                <a:moveTo>
                  <a:pt x="3845" y="8062"/>
                </a:moveTo>
                <a:cubicBezTo>
                  <a:pt x="3911" y="8062"/>
                  <a:pt x="3977" y="8062"/>
                  <a:pt x="4043" y="8062"/>
                </a:cubicBezTo>
              </a:path>
              <a:path w="2357" h="2259">
                <a:moveTo>
                  <a:pt x="3894" y="8260"/>
                </a:moveTo>
                <a:cubicBezTo>
                  <a:pt x="3957" y="8260"/>
                  <a:pt x="4008" y="8245"/>
                  <a:pt x="4068" y="8235"/>
                </a:cubicBezTo>
              </a:path>
              <a:path w="2357" h="2259">
                <a:moveTo>
                  <a:pt x="4862" y="7193"/>
                </a:moveTo>
                <a:cubicBezTo>
                  <a:pt x="4885" y="7331"/>
                  <a:pt x="4923" y="7473"/>
                  <a:pt x="4936" y="7615"/>
                </a:cubicBezTo>
                <a:cubicBezTo>
                  <a:pt x="4946" y="7723"/>
                  <a:pt x="4908" y="7760"/>
                  <a:pt x="4961" y="7689"/>
                </a:cubicBezTo>
              </a:path>
              <a:path w="2357" h="2259">
                <a:moveTo>
                  <a:pt x="5308" y="6995"/>
                </a:moveTo>
                <a:cubicBezTo>
                  <a:pt x="5254" y="7024"/>
                  <a:pt x="5091" y="7060"/>
                  <a:pt x="5085" y="7119"/>
                </a:cubicBezTo>
                <a:cubicBezTo>
                  <a:pt x="5085" y="7193"/>
                  <a:pt x="5085" y="7218"/>
                  <a:pt x="5085" y="7268"/>
                </a:cubicBezTo>
                <a:cubicBezTo>
                  <a:pt x="5162" y="7268"/>
                  <a:pt x="5229" y="7219"/>
                  <a:pt x="5308" y="7243"/>
                </a:cubicBezTo>
                <a:cubicBezTo>
                  <a:pt x="5459" y="7288"/>
                  <a:pt x="5465" y="7449"/>
                  <a:pt x="5358" y="7541"/>
                </a:cubicBezTo>
                <a:cubicBezTo>
                  <a:pt x="5286" y="7604"/>
                  <a:pt x="5219" y="7590"/>
                  <a:pt x="5135" y="7590"/>
                </a:cubicBezTo>
              </a:path>
              <a:path w="2357" h="2259">
                <a:moveTo>
                  <a:pt x="4713" y="8037"/>
                </a:moveTo>
                <a:cubicBezTo>
                  <a:pt x="4931" y="7934"/>
                  <a:pt x="5173" y="7883"/>
                  <a:pt x="5407" y="7813"/>
                </a:cubicBezTo>
                <a:cubicBezTo>
                  <a:pt x="5522" y="7775"/>
                  <a:pt x="5536" y="7759"/>
                  <a:pt x="5606" y="7764"/>
                </a:cubicBezTo>
              </a:path>
              <a:path w="2357" h="2259">
                <a:moveTo>
                  <a:pt x="5110" y="8260"/>
                </a:moveTo>
                <a:cubicBezTo>
                  <a:pt x="5129" y="8392"/>
                  <a:pt x="5144" y="8524"/>
                  <a:pt x="5159" y="8657"/>
                </a:cubicBezTo>
                <a:cubicBezTo>
                  <a:pt x="5166" y="8717"/>
                  <a:pt x="5167" y="8701"/>
                  <a:pt x="5110" y="8682"/>
                </a:cubicBezTo>
              </a:path>
              <a:path w="2357" h="2259">
                <a:moveTo>
                  <a:pt x="4341" y="8607"/>
                </a:moveTo>
                <a:cubicBezTo>
                  <a:pt x="4404" y="8676"/>
                  <a:pt x="4498" y="8821"/>
                  <a:pt x="4589" y="8880"/>
                </a:cubicBezTo>
                <a:cubicBezTo>
                  <a:pt x="4749" y="8984"/>
                  <a:pt x="4992" y="9057"/>
                  <a:pt x="5184" y="9054"/>
                </a:cubicBezTo>
                <a:cubicBezTo>
                  <a:pt x="5404" y="9050"/>
                  <a:pt x="5609" y="8955"/>
                  <a:pt x="5779" y="8830"/>
                </a:cubicBezTo>
                <a:cubicBezTo>
                  <a:pt x="5964" y="8694"/>
                  <a:pt x="6079" y="8527"/>
                  <a:pt x="6152" y="8310"/>
                </a:cubicBezTo>
                <a:cubicBezTo>
                  <a:pt x="6243" y="8041"/>
                  <a:pt x="6211" y="7726"/>
                  <a:pt x="6102" y="7466"/>
                </a:cubicBezTo>
                <a:cubicBezTo>
                  <a:pt x="6047" y="7335"/>
                  <a:pt x="5951" y="7219"/>
                  <a:pt x="5854" y="7119"/>
                </a:cubicBezTo>
                <a:cubicBezTo>
                  <a:pt x="5756" y="7018"/>
                  <a:pt x="5681" y="6955"/>
                  <a:pt x="5556" y="6896"/>
                </a:cubicBezTo>
                <a:cubicBezTo>
                  <a:pt x="5425" y="6834"/>
                  <a:pt x="5284" y="6782"/>
                  <a:pt x="5135" y="6796"/>
                </a:cubicBezTo>
                <a:cubicBezTo>
                  <a:pt x="4983" y="6811"/>
                  <a:pt x="4822" y="6875"/>
                  <a:pt x="4688" y="6945"/>
                </a:cubicBezTo>
                <a:cubicBezTo>
                  <a:pt x="4504" y="7041"/>
                  <a:pt x="4352" y="7216"/>
                  <a:pt x="4291" y="7417"/>
                </a:cubicBezTo>
                <a:cubicBezTo>
                  <a:pt x="4239" y="7590"/>
                  <a:pt x="4204" y="7761"/>
                  <a:pt x="4167" y="7938"/>
                </a:cubicBezTo>
                <a:cubicBezTo>
                  <a:pt x="4134" y="8094"/>
                  <a:pt x="4139" y="8227"/>
                  <a:pt x="4167" y="8384"/>
                </a:cubicBezTo>
                <a:cubicBezTo>
                  <a:pt x="4198" y="8555"/>
                  <a:pt x="4257" y="8690"/>
                  <a:pt x="4390" y="8806"/>
                </a:cubicBezTo>
                <a:cubicBezTo>
                  <a:pt x="4454" y="8861"/>
                  <a:pt x="4524" y="8905"/>
                  <a:pt x="4589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9240" y="2214720"/>
            <a:ext cx="447840" cy="696600"/>
          </a:xfrm>
          <a:custGeom>
            <a:avLst/>
            <a:gdLst/>
            <a:ahLst/>
            <a:rect l="l" t="t" r="r" b="b"/>
            <a:pathLst>
              <a:path w="1241" h="1935">
                <a:moveTo>
                  <a:pt x="9203" y="7342"/>
                </a:moveTo>
                <a:cubicBezTo>
                  <a:pt x="9248" y="7377"/>
                  <a:pt x="9276" y="7435"/>
                  <a:pt x="9327" y="7466"/>
                </a:cubicBezTo>
                <a:cubicBezTo>
                  <a:pt x="9335" y="7466"/>
                  <a:pt x="9343" y="7466"/>
                  <a:pt x="9351" y="7466"/>
                </a:cubicBezTo>
              </a:path>
              <a:path w="1241" h="1935">
                <a:moveTo>
                  <a:pt x="9351" y="7317"/>
                </a:moveTo>
                <a:cubicBezTo>
                  <a:pt x="9302" y="7342"/>
                  <a:pt x="9281" y="7409"/>
                  <a:pt x="9252" y="7466"/>
                </a:cubicBezTo>
                <a:cubicBezTo>
                  <a:pt x="9228" y="7513"/>
                  <a:pt x="9227" y="7519"/>
                  <a:pt x="9227" y="7565"/>
                </a:cubicBezTo>
              </a:path>
              <a:path w="1241" h="1935">
                <a:moveTo>
                  <a:pt x="8310" y="7565"/>
                </a:moveTo>
                <a:cubicBezTo>
                  <a:pt x="8303" y="7697"/>
                  <a:pt x="8308" y="7735"/>
                  <a:pt x="8235" y="7838"/>
                </a:cubicBezTo>
                <a:cubicBezTo>
                  <a:pt x="8277" y="7852"/>
                  <a:pt x="8329" y="7910"/>
                  <a:pt x="8384" y="7938"/>
                </a:cubicBezTo>
                <a:cubicBezTo>
                  <a:pt x="8409" y="7938"/>
                  <a:pt x="8417" y="7938"/>
                  <a:pt x="8409" y="7962"/>
                </a:cubicBezTo>
              </a:path>
              <a:path w="1241" h="1935">
                <a:moveTo>
                  <a:pt x="8558" y="7590"/>
                </a:moveTo>
                <a:cubicBezTo>
                  <a:pt x="8558" y="7582"/>
                  <a:pt x="8558" y="7573"/>
                  <a:pt x="8558" y="7565"/>
                </a:cubicBezTo>
                <a:cubicBezTo>
                  <a:pt x="8521" y="7590"/>
                  <a:pt x="8511" y="7770"/>
                  <a:pt x="8508" y="7813"/>
                </a:cubicBezTo>
                <a:cubicBezTo>
                  <a:pt x="8503" y="7903"/>
                  <a:pt x="8508" y="7996"/>
                  <a:pt x="8508" y="8086"/>
                </a:cubicBezTo>
              </a:path>
              <a:path w="1241" h="1935">
                <a:moveTo>
                  <a:pt x="8855" y="7541"/>
                </a:moveTo>
                <a:cubicBezTo>
                  <a:pt x="8783" y="7565"/>
                  <a:pt x="8724" y="7607"/>
                  <a:pt x="8706" y="7689"/>
                </a:cubicBezTo>
                <a:cubicBezTo>
                  <a:pt x="8690" y="7762"/>
                  <a:pt x="8824" y="7791"/>
                  <a:pt x="8830" y="7838"/>
                </a:cubicBezTo>
                <a:cubicBezTo>
                  <a:pt x="8838" y="7902"/>
                  <a:pt x="8795" y="7982"/>
                  <a:pt x="8781" y="8037"/>
                </a:cubicBezTo>
                <a:cubicBezTo>
                  <a:pt x="8746" y="7991"/>
                  <a:pt x="8743" y="7924"/>
                  <a:pt x="8756" y="7863"/>
                </a:cubicBezTo>
                <a:cubicBezTo>
                  <a:pt x="8767" y="7809"/>
                  <a:pt x="8858" y="7682"/>
                  <a:pt x="8855" y="7640"/>
                </a:cubicBezTo>
                <a:cubicBezTo>
                  <a:pt x="8851" y="7574"/>
                  <a:pt x="8819" y="7605"/>
                  <a:pt x="8806" y="7565"/>
                </a:cubicBezTo>
              </a:path>
              <a:path w="1241" h="1935">
                <a:moveTo>
                  <a:pt x="8359" y="7317"/>
                </a:moveTo>
                <a:cubicBezTo>
                  <a:pt x="8303" y="7278"/>
                  <a:pt x="8279" y="7250"/>
                  <a:pt x="8235" y="7193"/>
                </a:cubicBezTo>
                <a:cubicBezTo>
                  <a:pt x="8181" y="7122"/>
                  <a:pt x="8170" y="7071"/>
                  <a:pt x="8136" y="6995"/>
                </a:cubicBezTo>
                <a:cubicBezTo>
                  <a:pt x="8112" y="6941"/>
                  <a:pt x="8097" y="6883"/>
                  <a:pt x="8111" y="6821"/>
                </a:cubicBezTo>
                <a:cubicBezTo>
                  <a:pt x="8131" y="6728"/>
                  <a:pt x="8189" y="6654"/>
                  <a:pt x="8235" y="6573"/>
                </a:cubicBezTo>
                <a:cubicBezTo>
                  <a:pt x="8303" y="6454"/>
                  <a:pt x="8354" y="6446"/>
                  <a:pt x="8458" y="6375"/>
                </a:cubicBezTo>
                <a:cubicBezTo>
                  <a:pt x="8541" y="6318"/>
                  <a:pt x="8600" y="6281"/>
                  <a:pt x="8706" y="6276"/>
                </a:cubicBezTo>
                <a:cubicBezTo>
                  <a:pt x="8739" y="6274"/>
                  <a:pt x="8773" y="6276"/>
                  <a:pt x="8806" y="6276"/>
                </a:cubicBezTo>
              </a:path>
              <a:path w="1241" h="1935">
                <a:moveTo>
                  <a:pt x="8855" y="6152"/>
                </a:moveTo>
                <a:cubicBezTo>
                  <a:pt x="8902" y="6213"/>
                  <a:pt x="8915" y="6321"/>
                  <a:pt x="8930" y="6400"/>
                </a:cubicBezTo>
                <a:cubicBezTo>
                  <a:pt x="8930" y="6424"/>
                  <a:pt x="8930" y="6433"/>
                  <a:pt x="8930" y="6449"/>
                </a:cubicBezTo>
              </a:path>
              <a:path w="1241" h="1935">
                <a:moveTo>
                  <a:pt x="8756" y="6375"/>
                </a:moveTo>
                <a:cubicBezTo>
                  <a:pt x="8841" y="6366"/>
                  <a:pt x="8916" y="6350"/>
                  <a:pt x="9004" y="6350"/>
                </a:cubicBezTo>
                <a:cubicBezTo>
                  <a:pt x="9029" y="6350"/>
                  <a:pt x="9037" y="6350"/>
                  <a:pt x="9054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79920" y="1411200"/>
            <a:ext cx="1195200" cy="1473120"/>
          </a:xfrm>
          <a:custGeom>
            <a:avLst/>
            <a:gdLst/>
            <a:ahLst/>
            <a:rect l="l" t="t" r="r" b="b"/>
            <a:pathLst>
              <a:path w="3324" h="4094">
                <a:moveTo>
                  <a:pt x="12526" y="4465"/>
                </a:moveTo>
                <a:cubicBezTo>
                  <a:pt x="12587" y="4545"/>
                  <a:pt x="12539" y="4645"/>
                  <a:pt x="12526" y="4738"/>
                </a:cubicBezTo>
                <a:cubicBezTo>
                  <a:pt x="12526" y="4746"/>
                  <a:pt x="12526" y="4754"/>
                  <a:pt x="12526" y="4762"/>
                </a:cubicBezTo>
                <a:cubicBezTo>
                  <a:pt x="12609" y="4762"/>
                  <a:pt x="12691" y="4762"/>
                  <a:pt x="12774" y="4762"/>
                </a:cubicBezTo>
              </a:path>
              <a:path w="3324" h="4094">
                <a:moveTo>
                  <a:pt x="12750" y="4366"/>
                </a:moveTo>
                <a:cubicBezTo>
                  <a:pt x="12750" y="4575"/>
                  <a:pt x="12762" y="4779"/>
                  <a:pt x="12774" y="4986"/>
                </a:cubicBezTo>
                <a:cubicBezTo>
                  <a:pt x="12774" y="5060"/>
                  <a:pt x="12774" y="5118"/>
                  <a:pt x="12774" y="5060"/>
                </a:cubicBezTo>
              </a:path>
              <a:path w="3324" h="4094">
                <a:moveTo>
                  <a:pt x="13146" y="4341"/>
                </a:moveTo>
                <a:cubicBezTo>
                  <a:pt x="13096" y="4402"/>
                  <a:pt x="13013" y="4479"/>
                  <a:pt x="13022" y="4564"/>
                </a:cubicBezTo>
                <a:cubicBezTo>
                  <a:pt x="13035" y="4689"/>
                  <a:pt x="13222" y="4788"/>
                  <a:pt x="13171" y="4911"/>
                </a:cubicBezTo>
                <a:cubicBezTo>
                  <a:pt x="13123" y="4935"/>
                  <a:pt x="13109" y="4944"/>
                  <a:pt x="13072" y="4936"/>
                </a:cubicBezTo>
                <a:cubicBezTo>
                  <a:pt x="13012" y="4778"/>
                  <a:pt x="13099" y="4627"/>
                  <a:pt x="13146" y="4465"/>
                </a:cubicBezTo>
                <a:cubicBezTo>
                  <a:pt x="13165" y="4391"/>
                  <a:pt x="13199" y="4358"/>
                  <a:pt x="13146" y="4366"/>
                </a:cubicBezTo>
              </a:path>
              <a:path w="3324" h="4094">
                <a:moveTo>
                  <a:pt x="12551" y="5283"/>
                </a:moveTo>
                <a:cubicBezTo>
                  <a:pt x="12561" y="5376"/>
                  <a:pt x="12576" y="5460"/>
                  <a:pt x="12576" y="5556"/>
                </a:cubicBezTo>
                <a:cubicBezTo>
                  <a:pt x="12576" y="5564"/>
                  <a:pt x="12576" y="5573"/>
                  <a:pt x="12576" y="5581"/>
                </a:cubicBezTo>
              </a:path>
              <a:path w="3324" h="4094">
                <a:moveTo>
                  <a:pt x="12502" y="5407"/>
                </a:moveTo>
                <a:cubicBezTo>
                  <a:pt x="12598" y="5378"/>
                  <a:pt x="12682" y="5349"/>
                  <a:pt x="12774" y="5308"/>
                </a:cubicBezTo>
              </a:path>
              <a:path w="3324" h="4094">
                <a:moveTo>
                  <a:pt x="13122" y="5234"/>
                </a:moveTo>
                <a:cubicBezTo>
                  <a:pt x="13171" y="5221"/>
                  <a:pt x="13212" y="5189"/>
                  <a:pt x="13271" y="5184"/>
                </a:cubicBezTo>
                <a:cubicBezTo>
                  <a:pt x="13302" y="5181"/>
                  <a:pt x="13315" y="5167"/>
                  <a:pt x="13345" y="5159"/>
                </a:cubicBezTo>
                <a:cubicBezTo>
                  <a:pt x="13345" y="5275"/>
                  <a:pt x="13361" y="5396"/>
                  <a:pt x="13320" y="5507"/>
                </a:cubicBezTo>
                <a:cubicBezTo>
                  <a:pt x="13297" y="5529"/>
                  <a:pt x="13289" y="5534"/>
                  <a:pt x="13295" y="5556"/>
                </a:cubicBezTo>
              </a:path>
              <a:path w="3324" h="4094">
                <a:moveTo>
                  <a:pt x="12353" y="5879"/>
                </a:moveTo>
                <a:cubicBezTo>
                  <a:pt x="12571" y="5837"/>
                  <a:pt x="12804" y="5776"/>
                  <a:pt x="13022" y="5755"/>
                </a:cubicBezTo>
                <a:cubicBezTo>
                  <a:pt x="13199" y="5738"/>
                  <a:pt x="13370" y="5776"/>
                  <a:pt x="13543" y="5804"/>
                </a:cubicBezTo>
              </a:path>
              <a:path w="3324" h="4094">
                <a:moveTo>
                  <a:pt x="13419" y="5978"/>
                </a:moveTo>
                <a:cubicBezTo>
                  <a:pt x="13369" y="5984"/>
                  <a:pt x="13230" y="5995"/>
                  <a:pt x="13196" y="6028"/>
                </a:cubicBezTo>
                <a:cubicBezTo>
                  <a:pt x="13181" y="6042"/>
                  <a:pt x="13218" y="6209"/>
                  <a:pt x="13221" y="6251"/>
                </a:cubicBezTo>
                <a:cubicBezTo>
                  <a:pt x="13221" y="6259"/>
                  <a:pt x="13221" y="6268"/>
                  <a:pt x="13221" y="6276"/>
                </a:cubicBezTo>
                <a:cubicBezTo>
                  <a:pt x="13295" y="6264"/>
                  <a:pt x="13355" y="6225"/>
                  <a:pt x="13419" y="6276"/>
                </a:cubicBezTo>
                <a:cubicBezTo>
                  <a:pt x="13534" y="6368"/>
                  <a:pt x="13439" y="6445"/>
                  <a:pt x="13345" y="6499"/>
                </a:cubicBezTo>
                <a:cubicBezTo>
                  <a:pt x="13300" y="6525"/>
                  <a:pt x="13193" y="6589"/>
                  <a:pt x="13171" y="6524"/>
                </a:cubicBezTo>
              </a:path>
              <a:path w="3324" h="4094">
                <a:moveTo>
                  <a:pt x="12551" y="3944"/>
                </a:moveTo>
                <a:cubicBezTo>
                  <a:pt x="12551" y="3869"/>
                  <a:pt x="12541" y="4044"/>
                  <a:pt x="12551" y="4118"/>
                </a:cubicBezTo>
                <a:cubicBezTo>
                  <a:pt x="12561" y="4186"/>
                  <a:pt x="12576" y="4208"/>
                  <a:pt x="12576" y="4266"/>
                </a:cubicBezTo>
              </a:path>
              <a:path w="3324" h="4094">
                <a:moveTo>
                  <a:pt x="12898" y="6152"/>
                </a:moveTo>
                <a:cubicBezTo>
                  <a:pt x="12802" y="6165"/>
                  <a:pt x="12719" y="6204"/>
                  <a:pt x="12626" y="6226"/>
                </a:cubicBezTo>
                <a:cubicBezTo>
                  <a:pt x="12566" y="6240"/>
                  <a:pt x="12622" y="6340"/>
                  <a:pt x="12626" y="6400"/>
                </a:cubicBezTo>
                <a:cubicBezTo>
                  <a:pt x="12626" y="6408"/>
                  <a:pt x="12626" y="6416"/>
                  <a:pt x="12626" y="6424"/>
                </a:cubicBezTo>
                <a:cubicBezTo>
                  <a:pt x="12715" y="6424"/>
                  <a:pt x="12783" y="6371"/>
                  <a:pt x="12874" y="6375"/>
                </a:cubicBezTo>
                <a:cubicBezTo>
                  <a:pt x="12890" y="6383"/>
                  <a:pt x="12907" y="6392"/>
                  <a:pt x="12923" y="6400"/>
                </a:cubicBezTo>
                <a:cubicBezTo>
                  <a:pt x="12912" y="6547"/>
                  <a:pt x="12903" y="6604"/>
                  <a:pt x="12774" y="6672"/>
                </a:cubicBezTo>
                <a:cubicBezTo>
                  <a:pt x="12710" y="6706"/>
                  <a:pt x="12730" y="6686"/>
                  <a:pt x="12675" y="6672"/>
                </a:cubicBezTo>
              </a:path>
              <a:path w="3324" h="4094">
                <a:moveTo>
                  <a:pt x="10220" y="7119"/>
                </a:moveTo>
                <a:cubicBezTo>
                  <a:pt x="10281" y="7129"/>
                  <a:pt x="10367" y="7143"/>
                  <a:pt x="10393" y="7169"/>
                </a:cubicBezTo>
              </a:path>
              <a:path w="3324" h="4094">
                <a:moveTo>
                  <a:pt x="10294" y="7268"/>
                </a:moveTo>
                <a:cubicBezTo>
                  <a:pt x="10294" y="7324"/>
                  <a:pt x="10351" y="7293"/>
                  <a:pt x="10393" y="7293"/>
                </a:cubicBezTo>
              </a:path>
              <a:path w="3324" h="4094">
                <a:moveTo>
                  <a:pt x="11261" y="6400"/>
                </a:moveTo>
                <a:cubicBezTo>
                  <a:pt x="11212" y="6400"/>
                  <a:pt x="11202" y="6411"/>
                  <a:pt x="11162" y="6424"/>
                </a:cubicBezTo>
                <a:cubicBezTo>
                  <a:pt x="11114" y="6440"/>
                  <a:pt x="10970" y="6447"/>
                  <a:pt x="10964" y="6499"/>
                </a:cubicBezTo>
                <a:cubicBezTo>
                  <a:pt x="10957" y="6555"/>
                  <a:pt x="10964" y="6615"/>
                  <a:pt x="10964" y="6672"/>
                </a:cubicBezTo>
                <a:cubicBezTo>
                  <a:pt x="11058" y="6657"/>
                  <a:pt x="11114" y="6614"/>
                  <a:pt x="11187" y="6697"/>
                </a:cubicBezTo>
                <a:cubicBezTo>
                  <a:pt x="11262" y="6782"/>
                  <a:pt x="11137" y="6893"/>
                  <a:pt x="11063" y="6921"/>
                </a:cubicBezTo>
                <a:cubicBezTo>
                  <a:pt x="11019" y="6938"/>
                  <a:pt x="10975" y="6912"/>
                  <a:pt x="10939" y="6896"/>
                </a:cubicBezTo>
              </a:path>
              <a:path w="3324" h="4094">
                <a:moveTo>
                  <a:pt x="11609" y="6350"/>
                </a:moveTo>
                <a:cubicBezTo>
                  <a:pt x="11528" y="6386"/>
                  <a:pt x="11474" y="6400"/>
                  <a:pt x="11385" y="6400"/>
                </a:cubicBezTo>
                <a:cubicBezTo>
                  <a:pt x="11327" y="6400"/>
                  <a:pt x="11338" y="6535"/>
                  <a:pt x="11336" y="6573"/>
                </a:cubicBezTo>
                <a:cubicBezTo>
                  <a:pt x="11336" y="6590"/>
                  <a:pt x="11336" y="6606"/>
                  <a:pt x="11336" y="6623"/>
                </a:cubicBezTo>
                <a:cubicBezTo>
                  <a:pt x="11440" y="6608"/>
                  <a:pt x="11511" y="6578"/>
                  <a:pt x="11609" y="6598"/>
                </a:cubicBezTo>
                <a:cubicBezTo>
                  <a:pt x="11631" y="6700"/>
                  <a:pt x="11600" y="6778"/>
                  <a:pt x="11485" y="6821"/>
                </a:cubicBezTo>
                <a:cubicBezTo>
                  <a:pt x="11440" y="6821"/>
                  <a:pt x="11427" y="6818"/>
                  <a:pt x="11410" y="6846"/>
                </a:cubicBezTo>
              </a:path>
              <a:path w="3324" h="4094">
                <a:moveTo>
                  <a:pt x="10889" y="7020"/>
                </a:moveTo>
                <a:cubicBezTo>
                  <a:pt x="11097" y="7007"/>
                  <a:pt x="11301" y="6960"/>
                  <a:pt x="11509" y="6945"/>
                </a:cubicBezTo>
                <a:cubicBezTo>
                  <a:pt x="11573" y="6940"/>
                  <a:pt x="11643" y="6945"/>
                  <a:pt x="11708" y="6945"/>
                </a:cubicBezTo>
              </a:path>
              <a:path w="3324" h="4094">
                <a:moveTo>
                  <a:pt x="11410" y="7144"/>
                </a:moveTo>
                <a:cubicBezTo>
                  <a:pt x="11354" y="7087"/>
                  <a:pt x="11318" y="7136"/>
                  <a:pt x="11261" y="7193"/>
                </a:cubicBezTo>
                <a:cubicBezTo>
                  <a:pt x="11212" y="7243"/>
                  <a:pt x="11256" y="7309"/>
                  <a:pt x="11311" y="7342"/>
                </a:cubicBezTo>
                <a:cubicBezTo>
                  <a:pt x="11375" y="7380"/>
                  <a:pt x="11473" y="7403"/>
                  <a:pt x="11485" y="7491"/>
                </a:cubicBezTo>
                <a:cubicBezTo>
                  <a:pt x="11485" y="7543"/>
                  <a:pt x="11483" y="7560"/>
                  <a:pt x="11435" y="7565"/>
                </a:cubicBezTo>
                <a:cubicBezTo>
                  <a:pt x="11377" y="7530"/>
                  <a:pt x="11340" y="7472"/>
                  <a:pt x="11361" y="7392"/>
                </a:cubicBezTo>
                <a:cubicBezTo>
                  <a:pt x="11374" y="7342"/>
                  <a:pt x="11437" y="7254"/>
                  <a:pt x="11460" y="7218"/>
                </a:cubicBezTo>
                <a:cubicBezTo>
                  <a:pt x="11475" y="7195"/>
                  <a:pt x="11482" y="7072"/>
                  <a:pt x="11435" y="7119"/>
                </a:cubicBezTo>
                <a:cubicBezTo>
                  <a:pt x="11435" y="7127"/>
                  <a:pt x="11435" y="7136"/>
                  <a:pt x="11435" y="7144"/>
                </a:cubicBezTo>
              </a:path>
              <a:path w="3324" h="4094">
                <a:moveTo>
                  <a:pt x="10641" y="7193"/>
                </a:moveTo>
                <a:cubicBezTo>
                  <a:pt x="10635" y="7228"/>
                  <a:pt x="10616" y="7258"/>
                  <a:pt x="10641" y="7342"/>
                </a:cubicBezTo>
                <a:cubicBezTo>
                  <a:pt x="10674" y="7453"/>
                  <a:pt x="10685" y="7556"/>
                  <a:pt x="10716" y="7665"/>
                </a:cubicBezTo>
                <a:cubicBezTo>
                  <a:pt x="10751" y="7790"/>
                  <a:pt x="10767" y="7851"/>
                  <a:pt x="10864" y="7938"/>
                </a:cubicBezTo>
                <a:cubicBezTo>
                  <a:pt x="10935" y="8002"/>
                  <a:pt x="11099" y="8022"/>
                  <a:pt x="11187" y="8012"/>
                </a:cubicBezTo>
                <a:cubicBezTo>
                  <a:pt x="11311" y="7998"/>
                  <a:pt x="11473" y="7942"/>
                  <a:pt x="11584" y="7888"/>
                </a:cubicBezTo>
                <a:cubicBezTo>
                  <a:pt x="11696" y="7833"/>
                  <a:pt x="11730" y="7695"/>
                  <a:pt x="11782" y="7590"/>
                </a:cubicBezTo>
                <a:cubicBezTo>
                  <a:pt x="11847" y="7461"/>
                  <a:pt x="11873" y="7333"/>
                  <a:pt x="11906" y="7193"/>
                </a:cubicBezTo>
                <a:cubicBezTo>
                  <a:pt x="11936" y="7065"/>
                  <a:pt x="11956" y="6981"/>
                  <a:pt x="11956" y="6846"/>
                </a:cubicBezTo>
                <a:cubicBezTo>
                  <a:pt x="11956" y="6740"/>
                  <a:pt x="11957" y="6650"/>
                  <a:pt x="11931" y="6548"/>
                </a:cubicBezTo>
                <a:cubicBezTo>
                  <a:pt x="11892" y="6395"/>
                  <a:pt x="11854" y="6335"/>
                  <a:pt x="11757" y="6226"/>
                </a:cubicBezTo>
                <a:cubicBezTo>
                  <a:pt x="11697" y="6159"/>
                  <a:pt x="11649" y="6085"/>
                  <a:pt x="11584" y="6028"/>
                </a:cubicBezTo>
                <a:cubicBezTo>
                  <a:pt x="11488" y="5945"/>
                  <a:pt x="11379" y="5953"/>
                  <a:pt x="11261" y="5953"/>
                </a:cubicBezTo>
                <a:cubicBezTo>
                  <a:pt x="11119" y="5953"/>
                  <a:pt x="11027" y="6021"/>
                  <a:pt x="10914" y="6102"/>
                </a:cubicBezTo>
                <a:cubicBezTo>
                  <a:pt x="10771" y="6205"/>
                  <a:pt x="10676" y="6319"/>
                  <a:pt x="10592" y="6474"/>
                </a:cubicBezTo>
                <a:cubicBezTo>
                  <a:pt x="10540" y="6569"/>
                  <a:pt x="10479" y="6687"/>
                  <a:pt x="10468" y="6796"/>
                </a:cubicBezTo>
                <a:cubicBezTo>
                  <a:pt x="10457" y="6903"/>
                  <a:pt x="10489" y="6993"/>
                  <a:pt x="10517" y="7094"/>
                </a:cubicBezTo>
                <a:cubicBezTo>
                  <a:pt x="10551" y="7219"/>
                  <a:pt x="10613" y="7324"/>
                  <a:pt x="10666" y="7441"/>
                </a:cubicBezTo>
                <a:cubicBezTo>
                  <a:pt x="10691" y="7495"/>
                  <a:pt x="10687" y="7597"/>
                  <a:pt x="10716" y="7640"/>
                </a:cubicBezTo>
                <a:cubicBezTo>
                  <a:pt x="10716" y="7682"/>
                  <a:pt x="10716" y="7673"/>
                  <a:pt x="10716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42040" y="2455920"/>
            <a:ext cx="696960" cy="1152360"/>
          </a:xfrm>
          <a:custGeom>
            <a:avLst/>
            <a:gdLst/>
            <a:ahLst/>
            <a:rect l="l" t="t" r="r" b="b"/>
            <a:pathLst>
              <a:path w="1936" h="3201">
                <a:moveTo>
                  <a:pt x="18926" y="8954"/>
                </a:moveTo>
                <a:cubicBezTo>
                  <a:pt x="18990" y="9035"/>
                  <a:pt x="19052" y="9105"/>
                  <a:pt x="19124" y="9178"/>
                </a:cubicBezTo>
              </a:path>
              <a:path w="1936" h="3201">
                <a:moveTo>
                  <a:pt x="19100" y="8905"/>
                </a:moveTo>
                <a:cubicBezTo>
                  <a:pt x="19061" y="8995"/>
                  <a:pt x="18961" y="9081"/>
                  <a:pt x="18926" y="9178"/>
                </a:cubicBezTo>
                <a:cubicBezTo>
                  <a:pt x="18905" y="9235"/>
                  <a:pt x="18922" y="9231"/>
                  <a:pt x="18876" y="9277"/>
                </a:cubicBezTo>
              </a:path>
              <a:path w="1936" h="3201">
                <a:moveTo>
                  <a:pt x="17611" y="9351"/>
                </a:moveTo>
                <a:cubicBezTo>
                  <a:pt x="17636" y="9327"/>
                  <a:pt x="17645" y="9319"/>
                  <a:pt x="17661" y="9302"/>
                </a:cubicBezTo>
                <a:cubicBezTo>
                  <a:pt x="17675" y="9420"/>
                  <a:pt x="17670" y="9483"/>
                  <a:pt x="17636" y="9599"/>
                </a:cubicBezTo>
                <a:cubicBezTo>
                  <a:pt x="17752" y="9580"/>
                  <a:pt x="17816" y="9564"/>
                  <a:pt x="17934" y="9575"/>
                </a:cubicBezTo>
                <a:cubicBezTo>
                  <a:pt x="17979" y="9579"/>
                  <a:pt x="17991" y="9625"/>
                  <a:pt x="18008" y="9575"/>
                </a:cubicBezTo>
              </a:path>
              <a:path w="1936" h="3201">
                <a:moveTo>
                  <a:pt x="17983" y="9178"/>
                </a:moveTo>
                <a:cubicBezTo>
                  <a:pt x="18004" y="9343"/>
                  <a:pt x="18035" y="9509"/>
                  <a:pt x="18058" y="9674"/>
                </a:cubicBezTo>
                <a:cubicBezTo>
                  <a:pt x="18073" y="9778"/>
                  <a:pt x="18107" y="9890"/>
                  <a:pt x="18107" y="9996"/>
                </a:cubicBezTo>
                <a:cubicBezTo>
                  <a:pt x="18107" y="10021"/>
                  <a:pt x="18107" y="10029"/>
                  <a:pt x="18107" y="9996"/>
                </a:cubicBezTo>
              </a:path>
              <a:path w="1936" h="3201">
                <a:moveTo>
                  <a:pt x="17735" y="9004"/>
                </a:moveTo>
                <a:cubicBezTo>
                  <a:pt x="17701" y="8987"/>
                  <a:pt x="17690" y="8992"/>
                  <a:pt x="17661" y="8979"/>
                </a:cubicBezTo>
                <a:cubicBezTo>
                  <a:pt x="17627" y="8963"/>
                  <a:pt x="17634" y="8949"/>
                  <a:pt x="17611" y="8930"/>
                </a:cubicBezTo>
                <a:cubicBezTo>
                  <a:pt x="17582" y="8907"/>
                  <a:pt x="17539" y="8888"/>
                  <a:pt x="17512" y="8855"/>
                </a:cubicBezTo>
                <a:cubicBezTo>
                  <a:pt x="17488" y="8825"/>
                  <a:pt x="17466" y="8768"/>
                  <a:pt x="17438" y="8731"/>
                </a:cubicBezTo>
                <a:cubicBezTo>
                  <a:pt x="17402" y="8682"/>
                  <a:pt x="17387" y="8633"/>
                  <a:pt x="17363" y="8582"/>
                </a:cubicBezTo>
                <a:cubicBezTo>
                  <a:pt x="17342" y="8537"/>
                  <a:pt x="17340" y="8513"/>
                  <a:pt x="17338" y="8458"/>
                </a:cubicBezTo>
                <a:cubicBezTo>
                  <a:pt x="17335" y="8364"/>
                  <a:pt x="17356" y="8264"/>
                  <a:pt x="17363" y="8186"/>
                </a:cubicBezTo>
                <a:cubicBezTo>
                  <a:pt x="17371" y="8099"/>
                  <a:pt x="17348" y="8021"/>
                  <a:pt x="17388" y="7938"/>
                </a:cubicBezTo>
                <a:cubicBezTo>
                  <a:pt x="17443" y="7825"/>
                  <a:pt x="17481" y="7701"/>
                  <a:pt x="17537" y="7590"/>
                </a:cubicBezTo>
                <a:cubicBezTo>
                  <a:pt x="17580" y="7505"/>
                  <a:pt x="17626" y="7415"/>
                  <a:pt x="17686" y="7342"/>
                </a:cubicBezTo>
                <a:cubicBezTo>
                  <a:pt x="17735" y="7283"/>
                  <a:pt x="17777" y="7245"/>
                  <a:pt x="17835" y="7193"/>
                </a:cubicBezTo>
                <a:cubicBezTo>
                  <a:pt x="17900" y="7135"/>
                  <a:pt x="17936" y="7074"/>
                  <a:pt x="18008" y="7020"/>
                </a:cubicBezTo>
                <a:cubicBezTo>
                  <a:pt x="18075" y="6970"/>
                  <a:pt x="18136" y="6919"/>
                  <a:pt x="18207" y="6896"/>
                </a:cubicBezTo>
                <a:cubicBezTo>
                  <a:pt x="18263" y="6878"/>
                  <a:pt x="18323" y="6853"/>
                  <a:pt x="18380" y="6846"/>
                </a:cubicBezTo>
                <a:cubicBezTo>
                  <a:pt x="18459" y="6836"/>
                  <a:pt x="18504" y="6824"/>
                  <a:pt x="18579" y="6821"/>
                </a:cubicBezTo>
                <a:cubicBezTo>
                  <a:pt x="18678" y="6818"/>
                  <a:pt x="18777" y="6821"/>
                  <a:pt x="18876" y="6821"/>
                </a:cubicBezTo>
              </a:path>
              <a:path w="1936" h="3201">
                <a:moveTo>
                  <a:pt x="19100" y="6846"/>
                </a:moveTo>
                <a:cubicBezTo>
                  <a:pt x="19100" y="6773"/>
                  <a:pt x="19103" y="7029"/>
                  <a:pt x="19100" y="7045"/>
                </a:cubicBezTo>
                <a:cubicBezTo>
                  <a:pt x="19091" y="7093"/>
                  <a:pt x="19075" y="7097"/>
                  <a:pt x="19075" y="7144"/>
                </a:cubicBezTo>
              </a:path>
              <a:path w="1936" h="3201">
                <a:moveTo>
                  <a:pt x="18951" y="7020"/>
                </a:moveTo>
                <a:cubicBezTo>
                  <a:pt x="19019" y="7012"/>
                  <a:pt x="19080" y="6995"/>
                  <a:pt x="19149" y="6995"/>
                </a:cubicBezTo>
                <a:cubicBezTo>
                  <a:pt x="19190" y="6995"/>
                  <a:pt x="19232" y="6995"/>
                  <a:pt x="19273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7120" y="4010040"/>
            <a:ext cx="1670040" cy="1160280"/>
          </a:xfrm>
          <a:custGeom>
            <a:avLst/>
            <a:gdLst/>
            <a:ahLst/>
            <a:rect l="l" t="t" r="r" b="b"/>
            <a:pathLst>
              <a:path w="4639" h="3226">
                <a:moveTo>
                  <a:pt x="5631" y="13171"/>
                </a:moveTo>
                <a:cubicBezTo>
                  <a:pt x="5631" y="13163"/>
                  <a:pt x="5631" y="13154"/>
                  <a:pt x="5631" y="13146"/>
                </a:cubicBezTo>
                <a:cubicBezTo>
                  <a:pt x="5675" y="13197"/>
                  <a:pt x="5707" y="13248"/>
                  <a:pt x="5755" y="13295"/>
                </a:cubicBezTo>
              </a:path>
              <a:path w="4639" h="3226">
                <a:moveTo>
                  <a:pt x="5730" y="13097"/>
                </a:moveTo>
                <a:cubicBezTo>
                  <a:pt x="5708" y="13152"/>
                  <a:pt x="5661" y="13210"/>
                  <a:pt x="5631" y="13271"/>
                </a:cubicBezTo>
                <a:cubicBezTo>
                  <a:pt x="5607" y="13318"/>
                  <a:pt x="5606" y="13323"/>
                  <a:pt x="5606" y="13370"/>
                </a:cubicBezTo>
              </a:path>
              <a:path w="4639" h="3226">
                <a:moveTo>
                  <a:pt x="4762" y="13667"/>
                </a:moveTo>
                <a:cubicBezTo>
                  <a:pt x="4660" y="13688"/>
                  <a:pt x="4534" y="13742"/>
                  <a:pt x="4440" y="13791"/>
                </a:cubicBezTo>
                <a:cubicBezTo>
                  <a:pt x="4369" y="13828"/>
                  <a:pt x="4390" y="13841"/>
                  <a:pt x="4390" y="13940"/>
                </a:cubicBezTo>
                <a:cubicBezTo>
                  <a:pt x="4390" y="14006"/>
                  <a:pt x="4390" y="14023"/>
                  <a:pt x="4390" y="14064"/>
                </a:cubicBezTo>
                <a:cubicBezTo>
                  <a:pt x="4444" y="14055"/>
                  <a:pt x="4599" y="13991"/>
                  <a:pt x="4638" y="14064"/>
                </a:cubicBezTo>
                <a:cubicBezTo>
                  <a:pt x="4715" y="14209"/>
                  <a:pt x="4628" y="14362"/>
                  <a:pt x="4465" y="14362"/>
                </a:cubicBezTo>
                <a:cubicBezTo>
                  <a:pt x="4388" y="14362"/>
                  <a:pt x="4355" y="14334"/>
                  <a:pt x="4316" y="14288"/>
                </a:cubicBezTo>
              </a:path>
              <a:path w="4639" h="3226">
                <a:moveTo>
                  <a:pt x="4986" y="13742"/>
                </a:moveTo>
                <a:cubicBezTo>
                  <a:pt x="4892" y="13822"/>
                  <a:pt x="4837" y="13981"/>
                  <a:pt x="4837" y="14114"/>
                </a:cubicBezTo>
                <a:cubicBezTo>
                  <a:pt x="4856" y="14208"/>
                  <a:pt x="4843" y="14228"/>
                  <a:pt x="4887" y="14263"/>
                </a:cubicBezTo>
                <a:cubicBezTo>
                  <a:pt x="5030" y="14275"/>
                  <a:pt x="5101" y="14201"/>
                  <a:pt x="5135" y="14039"/>
                </a:cubicBezTo>
                <a:cubicBezTo>
                  <a:pt x="5170" y="13873"/>
                  <a:pt x="5142" y="13824"/>
                  <a:pt x="5011" y="13767"/>
                </a:cubicBezTo>
                <a:cubicBezTo>
                  <a:pt x="4963" y="13743"/>
                  <a:pt x="4948" y="13735"/>
                  <a:pt x="4911" y="13742"/>
                </a:cubicBezTo>
              </a:path>
              <a:path w="4639" h="3226">
                <a:moveTo>
                  <a:pt x="4614" y="13593"/>
                </a:moveTo>
                <a:cubicBezTo>
                  <a:pt x="4593" y="13585"/>
                  <a:pt x="4542" y="13520"/>
                  <a:pt x="4490" y="13444"/>
                </a:cubicBezTo>
                <a:cubicBezTo>
                  <a:pt x="4389" y="13295"/>
                  <a:pt x="4335" y="13174"/>
                  <a:pt x="4291" y="12998"/>
                </a:cubicBezTo>
                <a:cubicBezTo>
                  <a:pt x="4254" y="12850"/>
                  <a:pt x="4233" y="12749"/>
                  <a:pt x="4291" y="12601"/>
                </a:cubicBezTo>
                <a:cubicBezTo>
                  <a:pt x="4347" y="12458"/>
                  <a:pt x="4437" y="12318"/>
                  <a:pt x="4539" y="12204"/>
                </a:cubicBezTo>
                <a:cubicBezTo>
                  <a:pt x="4671" y="12055"/>
                  <a:pt x="4827" y="11926"/>
                  <a:pt x="4986" y="11807"/>
                </a:cubicBezTo>
                <a:cubicBezTo>
                  <a:pt x="5098" y="11723"/>
                  <a:pt x="5186" y="11687"/>
                  <a:pt x="5308" y="11658"/>
                </a:cubicBezTo>
                <a:cubicBezTo>
                  <a:pt x="5412" y="11633"/>
                  <a:pt x="5520" y="11584"/>
                  <a:pt x="5631" y="11609"/>
                </a:cubicBezTo>
                <a:cubicBezTo>
                  <a:pt x="5709" y="11626"/>
                  <a:pt x="5651" y="11620"/>
                  <a:pt x="5705" y="11633"/>
                </a:cubicBezTo>
              </a:path>
              <a:path w="4639" h="3226">
                <a:moveTo>
                  <a:pt x="5978" y="11361"/>
                </a:moveTo>
                <a:cubicBezTo>
                  <a:pt x="5962" y="11472"/>
                  <a:pt x="5953" y="11570"/>
                  <a:pt x="5953" y="11683"/>
                </a:cubicBezTo>
                <a:cubicBezTo>
                  <a:pt x="5953" y="11716"/>
                  <a:pt x="5953" y="11749"/>
                  <a:pt x="5953" y="11782"/>
                </a:cubicBezTo>
              </a:path>
              <a:path w="4639" h="3226">
                <a:moveTo>
                  <a:pt x="5804" y="11609"/>
                </a:moveTo>
                <a:cubicBezTo>
                  <a:pt x="5879" y="11597"/>
                  <a:pt x="5953" y="11570"/>
                  <a:pt x="6028" y="11559"/>
                </a:cubicBezTo>
                <a:cubicBezTo>
                  <a:pt x="6044" y="11559"/>
                  <a:pt x="6061" y="11559"/>
                  <a:pt x="6077" y="11559"/>
                </a:cubicBezTo>
              </a:path>
              <a:path w="4639" h="3226">
                <a:moveTo>
                  <a:pt x="6921" y="12427"/>
                </a:moveTo>
                <a:cubicBezTo>
                  <a:pt x="6981" y="12473"/>
                  <a:pt x="7052" y="12453"/>
                  <a:pt x="7119" y="12477"/>
                </a:cubicBezTo>
                <a:cubicBezTo>
                  <a:pt x="7127" y="12485"/>
                  <a:pt x="7136" y="12494"/>
                  <a:pt x="7144" y="12502"/>
                </a:cubicBezTo>
              </a:path>
              <a:path w="4639" h="3226">
                <a:moveTo>
                  <a:pt x="6921" y="12626"/>
                </a:moveTo>
                <a:cubicBezTo>
                  <a:pt x="6990" y="12637"/>
                  <a:pt x="7047" y="12650"/>
                  <a:pt x="7119" y="12650"/>
                </a:cubicBezTo>
                <a:cubicBezTo>
                  <a:pt x="7147" y="12650"/>
                  <a:pt x="7158" y="12652"/>
                  <a:pt x="7169" y="12675"/>
                </a:cubicBezTo>
              </a:path>
              <a:path w="4639" h="3226">
                <a:moveTo>
                  <a:pt x="7714" y="11757"/>
                </a:moveTo>
                <a:cubicBezTo>
                  <a:pt x="7687" y="11717"/>
                  <a:pt x="7604" y="11733"/>
                  <a:pt x="7541" y="11733"/>
                </a:cubicBezTo>
                <a:cubicBezTo>
                  <a:pt x="7468" y="11733"/>
                  <a:pt x="7494" y="11954"/>
                  <a:pt x="7491" y="12005"/>
                </a:cubicBezTo>
                <a:cubicBezTo>
                  <a:pt x="7491" y="12013"/>
                  <a:pt x="7491" y="12022"/>
                  <a:pt x="7491" y="12030"/>
                </a:cubicBezTo>
                <a:cubicBezTo>
                  <a:pt x="7592" y="11997"/>
                  <a:pt x="7681" y="11901"/>
                  <a:pt x="7789" y="12005"/>
                </a:cubicBezTo>
                <a:cubicBezTo>
                  <a:pt x="7884" y="12096"/>
                  <a:pt x="7773" y="12240"/>
                  <a:pt x="7689" y="12278"/>
                </a:cubicBezTo>
                <a:cubicBezTo>
                  <a:pt x="7598" y="12301"/>
                  <a:pt x="7572" y="12312"/>
                  <a:pt x="7516" y="12278"/>
                </a:cubicBezTo>
              </a:path>
              <a:path w="4639" h="3226">
                <a:moveTo>
                  <a:pt x="8037" y="11708"/>
                </a:moveTo>
                <a:cubicBezTo>
                  <a:pt x="8062" y="11658"/>
                  <a:pt x="8127" y="11628"/>
                  <a:pt x="8186" y="11609"/>
                </a:cubicBezTo>
                <a:cubicBezTo>
                  <a:pt x="8201" y="11709"/>
                  <a:pt x="8215" y="11833"/>
                  <a:pt x="8086" y="11881"/>
                </a:cubicBezTo>
                <a:cubicBezTo>
                  <a:pt x="8070" y="11881"/>
                  <a:pt x="8053" y="11881"/>
                  <a:pt x="8037" y="11881"/>
                </a:cubicBezTo>
                <a:cubicBezTo>
                  <a:pt x="8120" y="11833"/>
                  <a:pt x="8182" y="11840"/>
                  <a:pt x="8235" y="11931"/>
                </a:cubicBezTo>
                <a:cubicBezTo>
                  <a:pt x="8324" y="12083"/>
                  <a:pt x="8114" y="12164"/>
                  <a:pt x="8012" y="12179"/>
                </a:cubicBezTo>
                <a:cubicBezTo>
                  <a:pt x="7987" y="12179"/>
                  <a:pt x="7979" y="12179"/>
                  <a:pt x="7962" y="12179"/>
                </a:cubicBezTo>
              </a:path>
              <a:path w="4639" h="3226">
                <a:moveTo>
                  <a:pt x="7441" y="12601"/>
                </a:moveTo>
                <a:cubicBezTo>
                  <a:pt x="7683" y="12547"/>
                  <a:pt x="7912" y="12529"/>
                  <a:pt x="8161" y="12526"/>
                </a:cubicBezTo>
                <a:cubicBezTo>
                  <a:pt x="8297" y="12524"/>
                  <a:pt x="8509" y="12518"/>
                  <a:pt x="8607" y="12551"/>
                </a:cubicBezTo>
                <a:cubicBezTo>
                  <a:pt x="8615" y="12551"/>
                  <a:pt x="8624" y="12551"/>
                  <a:pt x="8632" y="12551"/>
                </a:cubicBezTo>
              </a:path>
              <a:path w="4639" h="3226">
                <a:moveTo>
                  <a:pt x="8186" y="12700"/>
                </a:moveTo>
                <a:cubicBezTo>
                  <a:pt x="8089" y="12730"/>
                  <a:pt x="7989" y="12766"/>
                  <a:pt x="7888" y="12774"/>
                </a:cubicBezTo>
                <a:cubicBezTo>
                  <a:pt x="7849" y="12777"/>
                  <a:pt x="7841" y="12879"/>
                  <a:pt x="7838" y="12923"/>
                </a:cubicBezTo>
                <a:cubicBezTo>
                  <a:pt x="7838" y="12948"/>
                  <a:pt x="7838" y="12956"/>
                  <a:pt x="7838" y="12973"/>
                </a:cubicBezTo>
                <a:cubicBezTo>
                  <a:pt x="7927" y="12955"/>
                  <a:pt x="8045" y="12878"/>
                  <a:pt x="8136" y="12948"/>
                </a:cubicBezTo>
                <a:cubicBezTo>
                  <a:pt x="8275" y="13055"/>
                  <a:pt x="8038" y="13227"/>
                  <a:pt x="7962" y="13246"/>
                </a:cubicBezTo>
                <a:cubicBezTo>
                  <a:pt x="7870" y="13246"/>
                  <a:pt x="7844" y="13248"/>
                  <a:pt x="7789" y="13221"/>
                </a:cubicBezTo>
              </a:path>
              <a:path w="4639" h="3226">
                <a:moveTo>
                  <a:pt x="7392" y="12229"/>
                </a:moveTo>
                <a:cubicBezTo>
                  <a:pt x="7369" y="12327"/>
                  <a:pt x="7367" y="12436"/>
                  <a:pt x="7367" y="12551"/>
                </a:cubicBezTo>
                <a:cubicBezTo>
                  <a:pt x="7367" y="12782"/>
                  <a:pt x="7350" y="13018"/>
                  <a:pt x="7392" y="13246"/>
                </a:cubicBezTo>
                <a:cubicBezTo>
                  <a:pt x="7419" y="13393"/>
                  <a:pt x="7435" y="13595"/>
                  <a:pt x="7590" y="13667"/>
                </a:cubicBezTo>
                <a:cubicBezTo>
                  <a:pt x="7768" y="13749"/>
                  <a:pt x="7926" y="13703"/>
                  <a:pt x="8111" y="13667"/>
                </a:cubicBezTo>
                <a:cubicBezTo>
                  <a:pt x="8280" y="13634"/>
                  <a:pt x="8426" y="13558"/>
                  <a:pt x="8558" y="13444"/>
                </a:cubicBezTo>
                <a:cubicBezTo>
                  <a:pt x="8702" y="13320"/>
                  <a:pt x="8807" y="13157"/>
                  <a:pt x="8855" y="12973"/>
                </a:cubicBezTo>
                <a:cubicBezTo>
                  <a:pt x="8904" y="12786"/>
                  <a:pt x="8867" y="12612"/>
                  <a:pt x="8855" y="12427"/>
                </a:cubicBezTo>
                <a:cubicBezTo>
                  <a:pt x="8846" y="12286"/>
                  <a:pt x="8833" y="12145"/>
                  <a:pt x="8830" y="12005"/>
                </a:cubicBezTo>
                <a:cubicBezTo>
                  <a:pt x="8825" y="11816"/>
                  <a:pt x="8739" y="11744"/>
                  <a:pt x="8657" y="11584"/>
                </a:cubicBezTo>
                <a:cubicBezTo>
                  <a:pt x="8593" y="11460"/>
                  <a:pt x="8559" y="11418"/>
                  <a:pt x="8458" y="11336"/>
                </a:cubicBezTo>
                <a:cubicBezTo>
                  <a:pt x="8277" y="11189"/>
                  <a:pt x="8108" y="11105"/>
                  <a:pt x="7863" y="11137"/>
                </a:cubicBezTo>
                <a:cubicBezTo>
                  <a:pt x="7770" y="11149"/>
                  <a:pt x="7646" y="11188"/>
                  <a:pt x="7565" y="11237"/>
                </a:cubicBezTo>
                <a:cubicBezTo>
                  <a:pt x="7470" y="11294"/>
                  <a:pt x="7429" y="11374"/>
                  <a:pt x="7367" y="11460"/>
                </a:cubicBezTo>
                <a:cubicBezTo>
                  <a:pt x="7325" y="11518"/>
                  <a:pt x="7315" y="11567"/>
                  <a:pt x="7293" y="11633"/>
                </a:cubicBezTo>
                <a:cubicBezTo>
                  <a:pt x="7270" y="11703"/>
                  <a:pt x="7251" y="11787"/>
                  <a:pt x="7243" y="11857"/>
                </a:cubicBezTo>
                <a:cubicBezTo>
                  <a:pt x="7233" y="11946"/>
                  <a:pt x="7261" y="12024"/>
                  <a:pt x="7268" y="12105"/>
                </a:cubicBezTo>
                <a:cubicBezTo>
                  <a:pt x="7274" y="12176"/>
                  <a:pt x="7280" y="12235"/>
                  <a:pt x="7293" y="12303"/>
                </a:cubicBezTo>
                <a:cubicBezTo>
                  <a:pt x="7311" y="12395"/>
                  <a:pt x="7317" y="12478"/>
                  <a:pt x="7317" y="12576"/>
                </a:cubicBezTo>
                <a:cubicBezTo>
                  <a:pt x="7317" y="12712"/>
                  <a:pt x="7308" y="12844"/>
                  <a:pt x="7293" y="12973"/>
                </a:cubicBezTo>
                <a:cubicBezTo>
                  <a:pt x="7293" y="12989"/>
                  <a:pt x="7293" y="13006"/>
                  <a:pt x="7293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9080" y="4143240"/>
            <a:ext cx="12528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2303" y="11534"/>
                </a:moveTo>
                <a:cubicBezTo>
                  <a:pt x="12402" y="11514"/>
                  <a:pt x="12495" y="11509"/>
                  <a:pt x="12601" y="11509"/>
                </a:cubicBezTo>
                <a:cubicBezTo>
                  <a:pt x="12617" y="11509"/>
                  <a:pt x="12634" y="11509"/>
                  <a:pt x="12650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56080" y="4214880"/>
            <a:ext cx="108000" cy="9360"/>
          </a:xfrm>
          <a:custGeom>
            <a:avLst/>
            <a:gdLst/>
            <a:ahLst/>
            <a:rect l="l" t="t" r="r" b="b"/>
            <a:pathLst>
              <a:path w="298" h="26">
                <a:moveTo>
                  <a:pt x="12378" y="11708"/>
                </a:moveTo>
                <a:cubicBezTo>
                  <a:pt x="12446" y="11761"/>
                  <a:pt x="12562" y="11712"/>
                  <a:pt x="12650" y="11708"/>
                </a:cubicBezTo>
                <a:cubicBezTo>
                  <a:pt x="12658" y="11708"/>
                  <a:pt x="12667" y="11708"/>
                  <a:pt x="12675" y="11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40200" y="3732120"/>
            <a:ext cx="15264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3469" y="10492"/>
                </a:moveTo>
                <a:cubicBezTo>
                  <a:pt x="13458" y="10460"/>
                  <a:pt x="13639" y="10415"/>
                  <a:pt x="13717" y="10393"/>
                </a:cubicBezTo>
                <a:cubicBezTo>
                  <a:pt x="13808" y="10375"/>
                  <a:pt x="13815" y="10366"/>
                  <a:pt x="13866" y="10368"/>
                </a:cubicBezTo>
                <a:cubicBezTo>
                  <a:pt x="13835" y="10521"/>
                  <a:pt x="13778" y="10684"/>
                  <a:pt x="13742" y="10840"/>
                </a:cubicBezTo>
                <a:cubicBezTo>
                  <a:pt x="13724" y="10931"/>
                  <a:pt x="13715" y="10938"/>
                  <a:pt x="13717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13200" y="4071960"/>
            <a:ext cx="277920" cy="9360"/>
          </a:xfrm>
          <a:custGeom>
            <a:avLst/>
            <a:gdLst/>
            <a:ahLst/>
            <a:rect l="l" t="t" r="r" b="b"/>
            <a:pathLst>
              <a:path w="770" h="26">
                <a:moveTo>
                  <a:pt x="13370" y="11336"/>
                </a:moveTo>
                <a:cubicBezTo>
                  <a:pt x="13594" y="11324"/>
                  <a:pt x="13814" y="11311"/>
                  <a:pt x="14039" y="11311"/>
                </a:cubicBezTo>
                <a:cubicBezTo>
                  <a:pt x="14072" y="11311"/>
                  <a:pt x="14106" y="11311"/>
                  <a:pt x="14139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11840" y="4205160"/>
            <a:ext cx="44280" cy="243000"/>
          </a:xfrm>
          <a:custGeom>
            <a:avLst/>
            <a:gdLst/>
            <a:ahLst/>
            <a:rect l="l" t="t" r="r" b="b"/>
            <a:pathLst>
              <a:path w="125" h="671">
                <a:moveTo>
                  <a:pt x="13643" y="11683"/>
                </a:moveTo>
                <a:cubicBezTo>
                  <a:pt x="13663" y="11868"/>
                  <a:pt x="13723" y="12043"/>
                  <a:pt x="13742" y="12229"/>
                </a:cubicBezTo>
                <a:cubicBezTo>
                  <a:pt x="13743" y="12242"/>
                  <a:pt x="13732" y="12397"/>
                  <a:pt x="13767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99000" y="3606840"/>
            <a:ext cx="768240" cy="1001520"/>
          </a:xfrm>
          <a:custGeom>
            <a:avLst/>
            <a:gdLst/>
            <a:ahLst/>
            <a:rect l="l" t="t" r="r" b="b"/>
            <a:pathLst>
              <a:path w="2135" h="2779">
                <a:moveTo>
                  <a:pt x="12849" y="12328"/>
                </a:moveTo>
                <a:cubicBezTo>
                  <a:pt x="12886" y="12527"/>
                  <a:pt x="12996" y="12599"/>
                  <a:pt x="13196" y="12675"/>
                </a:cubicBezTo>
                <a:cubicBezTo>
                  <a:pt x="13430" y="12764"/>
                  <a:pt x="13691" y="12829"/>
                  <a:pt x="13940" y="12774"/>
                </a:cubicBezTo>
                <a:cubicBezTo>
                  <a:pt x="14247" y="12706"/>
                  <a:pt x="14519" y="12492"/>
                  <a:pt x="14684" y="12229"/>
                </a:cubicBezTo>
                <a:cubicBezTo>
                  <a:pt x="14835" y="11989"/>
                  <a:pt x="14890" y="11664"/>
                  <a:pt x="14908" y="11385"/>
                </a:cubicBezTo>
                <a:cubicBezTo>
                  <a:pt x="14923" y="11152"/>
                  <a:pt x="14895" y="10867"/>
                  <a:pt x="14833" y="10641"/>
                </a:cubicBezTo>
                <a:cubicBezTo>
                  <a:pt x="14784" y="10462"/>
                  <a:pt x="14665" y="10319"/>
                  <a:pt x="14511" y="10220"/>
                </a:cubicBezTo>
                <a:cubicBezTo>
                  <a:pt x="14322" y="10099"/>
                  <a:pt x="14161" y="10075"/>
                  <a:pt x="13940" y="10046"/>
                </a:cubicBezTo>
                <a:cubicBezTo>
                  <a:pt x="13730" y="10019"/>
                  <a:pt x="13499" y="10027"/>
                  <a:pt x="13295" y="10096"/>
                </a:cubicBezTo>
                <a:cubicBezTo>
                  <a:pt x="13163" y="10141"/>
                  <a:pt x="13043" y="10276"/>
                  <a:pt x="12973" y="10393"/>
                </a:cubicBezTo>
                <a:cubicBezTo>
                  <a:pt x="12892" y="10529"/>
                  <a:pt x="12840" y="10689"/>
                  <a:pt x="12799" y="10840"/>
                </a:cubicBezTo>
                <a:cubicBezTo>
                  <a:pt x="12754" y="11007"/>
                  <a:pt x="12774" y="11189"/>
                  <a:pt x="12774" y="11361"/>
                </a:cubicBezTo>
                <a:cubicBezTo>
                  <a:pt x="12774" y="11557"/>
                  <a:pt x="12815" y="11739"/>
                  <a:pt x="12849" y="11931"/>
                </a:cubicBezTo>
                <a:cubicBezTo>
                  <a:pt x="12879" y="12101"/>
                  <a:pt x="12924" y="12239"/>
                  <a:pt x="13022" y="12378"/>
                </a:cubicBezTo>
                <a:cubicBezTo>
                  <a:pt x="13085" y="12440"/>
                  <a:pt x="13095" y="12457"/>
                  <a:pt x="13146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45240" y="2894040"/>
            <a:ext cx="81000" cy="79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20985" y="8062"/>
                </a:moveTo>
                <a:cubicBezTo>
                  <a:pt x="20911" y="8062"/>
                  <a:pt x="21150" y="8037"/>
                  <a:pt x="21158" y="8037"/>
                </a:cubicBezTo>
                <a:cubicBezTo>
                  <a:pt x="21166" y="8037"/>
                  <a:pt x="21175" y="8037"/>
                  <a:pt x="21183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62880" y="2938320"/>
            <a:ext cx="73080" cy="27000"/>
          </a:xfrm>
          <a:custGeom>
            <a:avLst/>
            <a:gdLst/>
            <a:ahLst/>
            <a:rect l="l" t="t" r="r" b="b"/>
            <a:pathLst>
              <a:path w="199" h="75">
                <a:moveTo>
                  <a:pt x="21010" y="8235"/>
                </a:moveTo>
                <a:cubicBezTo>
                  <a:pt x="21082" y="8217"/>
                  <a:pt x="21169" y="8200"/>
                  <a:pt x="21208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0000" y="2536920"/>
            <a:ext cx="179280" cy="276120"/>
          </a:xfrm>
          <a:custGeom>
            <a:avLst/>
            <a:gdLst/>
            <a:ahLst/>
            <a:rect l="l" t="t" r="r" b="b"/>
            <a:pathLst>
              <a:path w="497" h="769">
                <a:moveTo>
                  <a:pt x="22448" y="7045"/>
                </a:moveTo>
                <a:cubicBezTo>
                  <a:pt x="22331" y="7045"/>
                  <a:pt x="22219" y="7104"/>
                  <a:pt x="22101" y="7119"/>
                </a:cubicBezTo>
                <a:cubicBezTo>
                  <a:pt x="21954" y="7138"/>
                  <a:pt x="22038" y="7260"/>
                  <a:pt x="22051" y="7392"/>
                </a:cubicBezTo>
                <a:cubicBezTo>
                  <a:pt x="22051" y="7436"/>
                  <a:pt x="22048" y="7450"/>
                  <a:pt x="22076" y="7466"/>
                </a:cubicBezTo>
                <a:cubicBezTo>
                  <a:pt x="22144" y="7415"/>
                  <a:pt x="22228" y="7345"/>
                  <a:pt x="22324" y="7342"/>
                </a:cubicBezTo>
                <a:cubicBezTo>
                  <a:pt x="22462" y="7338"/>
                  <a:pt x="22507" y="7481"/>
                  <a:pt x="22498" y="7590"/>
                </a:cubicBezTo>
                <a:cubicBezTo>
                  <a:pt x="22483" y="7773"/>
                  <a:pt x="22302" y="7796"/>
                  <a:pt x="22151" y="7813"/>
                </a:cubicBezTo>
                <a:cubicBezTo>
                  <a:pt x="22066" y="7813"/>
                  <a:pt x="22046" y="7820"/>
                  <a:pt x="22002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67800" y="2867040"/>
            <a:ext cx="374400" cy="34920"/>
          </a:xfrm>
          <a:custGeom>
            <a:avLst/>
            <a:gdLst/>
            <a:ahLst/>
            <a:rect l="l" t="t" r="r" b="b"/>
            <a:pathLst>
              <a:path w="1043" h="101">
                <a:moveTo>
                  <a:pt x="21853" y="8062"/>
                </a:moveTo>
                <a:cubicBezTo>
                  <a:pt x="22024" y="8062"/>
                  <a:pt x="22204" y="8050"/>
                  <a:pt x="22374" y="8037"/>
                </a:cubicBezTo>
                <a:cubicBezTo>
                  <a:pt x="22550" y="8023"/>
                  <a:pt x="22722" y="7987"/>
                  <a:pt x="22895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74000" y="2963880"/>
            <a:ext cx="206280" cy="22392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22175" y="8359"/>
                </a:moveTo>
                <a:cubicBezTo>
                  <a:pt x="22200" y="8435"/>
                  <a:pt x="22188" y="8345"/>
                  <a:pt x="22200" y="8334"/>
                </a:cubicBezTo>
                <a:cubicBezTo>
                  <a:pt x="22258" y="8281"/>
                  <a:pt x="22322" y="8239"/>
                  <a:pt x="22399" y="8235"/>
                </a:cubicBezTo>
                <a:cubicBezTo>
                  <a:pt x="22422" y="8234"/>
                  <a:pt x="22515" y="8238"/>
                  <a:pt x="22523" y="8260"/>
                </a:cubicBezTo>
                <a:cubicBezTo>
                  <a:pt x="22556" y="8350"/>
                  <a:pt x="22459" y="8455"/>
                  <a:pt x="22399" y="8508"/>
                </a:cubicBezTo>
                <a:cubicBezTo>
                  <a:pt x="22364" y="8539"/>
                  <a:pt x="22277" y="8568"/>
                  <a:pt x="22250" y="8607"/>
                </a:cubicBezTo>
                <a:cubicBezTo>
                  <a:pt x="22205" y="8673"/>
                  <a:pt x="22161" y="8751"/>
                  <a:pt x="22151" y="8830"/>
                </a:cubicBezTo>
                <a:cubicBezTo>
                  <a:pt x="22151" y="8869"/>
                  <a:pt x="22190" y="8767"/>
                  <a:pt x="22225" y="8731"/>
                </a:cubicBezTo>
                <a:cubicBezTo>
                  <a:pt x="22278" y="8676"/>
                  <a:pt x="22303" y="8611"/>
                  <a:pt x="22399" y="8632"/>
                </a:cubicBezTo>
                <a:cubicBezTo>
                  <a:pt x="22443" y="8641"/>
                  <a:pt x="22507" y="8726"/>
                  <a:pt x="22523" y="8731"/>
                </a:cubicBezTo>
                <a:cubicBezTo>
                  <a:pt x="22601" y="8757"/>
                  <a:pt x="22639" y="8708"/>
                  <a:pt x="22696" y="8682"/>
                </a:cubicBezTo>
                <a:cubicBezTo>
                  <a:pt x="22721" y="8682"/>
                  <a:pt x="22729" y="8682"/>
                  <a:pt x="22721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6240" y="2394000"/>
            <a:ext cx="847800" cy="946080"/>
          </a:xfrm>
          <a:custGeom>
            <a:avLst/>
            <a:gdLst/>
            <a:ahLst/>
            <a:rect l="l" t="t" r="r" b="b"/>
            <a:pathLst>
              <a:path w="2358" h="2630">
                <a:moveTo>
                  <a:pt x="21357" y="7962"/>
                </a:moveTo>
                <a:cubicBezTo>
                  <a:pt x="21383" y="8047"/>
                  <a:pt x="21419" y="8144"/>
                  <a:pt x="21431" y="8235"/>
                </a:cubicBezTo>
                <a:cubicBezTo>
                  <a:pt x="21447" y="8358"/>
                  <a:pt x="21444" y="8487"/>
                  <a:pt x="21481" y="8607"/>
                </a:cubicBezTo>
                <a:cubicBezTo>
                  <a:pt x="21510" y="8700"/>
                  <a:pt x="21547" y="8781"/>
                  <a:pt x="21605" y="8855"/>
                </a:cubicBezTo>
                <a:cubicBezTo>
                  <a:pt x="21669" y="8936"/>
                  <a:pt x="21746" y="9019"/>
                  <a:pt x="21828" y="9079"/>
                </a:cubicBezTo>
                <a:cubicBezTo>
                  <a:pt x="21934" y="9156"/>
                  <a:pt x="22028" y="9188"/>
                  <a:pt x="22151" y="9227"/>
                </a:cubicBezTo>
                <a:cubicBezTo>
                  <a:pt x="22259" y="9262"/>
                  <a:pt x="22335" y="9275"/>
                  <a:pt x="22448" y="9277"/>
                </a:cubicBezTo>
                <a:cubicBezTo>
                  <a:pt x="22596" y="9280"/>
                  <a:pt x="22728" y="9238"/>
                  <a:pt x="22870" y="9203"/>
                </a:cubicBezTo>
                <a:cubicBezTo>
                  <a:pt x="22974" y="9177"/>
                  <a:pt x="23137" y="9103"/>
                  <a:pt x="23217" y="9029"/>
                </a:cubicBezTo>
                <a:cubicBezTo>
                  <a:pt x="23346" y="8909"/>
                  <a:pt x="23403" y="8757"/>
                  <a:pt x="23465" y="8607"/>
                </a:cubicBezTo>
                <a:cubicBezTo>
                  <a:pt x="23522" y="8468"/>
                  <a:pt x="23562" y="8340"/>
                  <a:pt x="23540" y="8186"/>
                </a:cubicBezTo>
                <a:cubicBezTo>
                  <a:pt x="23516" y="8017"/>
                  <a:pt x="23507" y="7857"/>
                  <a:pt x="23465" y="7689"/>
                </a:cubicBezTo>
                <a:cubicBezTo>
                  <a:pt x="23440" y="7590"/>
                  <a:pt x="23410" y="7508"/>
                  <a:pt x="23366" y="7417"/>
                </a:cubicBezTo>
                <a:cubicBezTo>
                  <a:pt x="23318" y="7318"/>
                  <a:pt x="23257" y="7231"/>
                  <a:pt x="23192" y="7144"/>
                </a:cubicBezTo>
                <a:cubicBezTo>
                  <a:pt x="23149" y="7086"/>
                  <a:pt x="23084" y="7031"/>
                  <a:pt x="23044" y="6970"/>
                </a:cubicBezTo>
                <a:cubicBezTo>
                  <a:pt x="23003" y="6908"/>
                  <a:pt x="22986" y="6841"/>
                  <a:pt x="22920" y="6796"/>
                </a:cubicBezTo>
                <a:cubicBezTo>
                  <a:pt x="22854" y="6750"/>
                  <a:pt x="22700" y="6690"/>
                  <a:pt x="22622" y="6672"/>
                </a:cubicBezTo>
                <a:cubicBezTo>
                  <a:pt x="22531" y="6650"/>
                  <a:pt x="22424" y="6636"/>
                  <a:pt x="22324" y="6648"/>
                </a:cubicBezTo>
                <a:cubicBezTo>
                  <a:pt x="22179" y="6665"/>
                  <a:pt x="22043" y="6677"/>
                  <a:pt x="21903" y="6722"/>
                </a:cubicBezTo>
                <a:cubicBezTo>
                  <a:pt x="21800" y="6755"/>
                  <a:pt x="21670" y="6794"/>
                  <a:pt x="21580" y="6846"/>
                </a:cubicBezTo>
                <a:cubicBezTo>
                  <a:pt x="21505" y="6889"/>
                  <a:pt x="21371" y="6985"/>
                  <a:pt x="21307" y="7045"/>
                </a:cubicBezTo>
                <a:cubicBezTo>
                  <a:pt x="21253" y="7095"/>
                  <a:pt x="21233" y="7160"/>
                  <a:pt x="21208" y="7218"/>
                </a:cubicBezTo>
                <a:cubicBezTo>
                  <a:pt x="21183" y="7277"/>
                  <a:pt x="21185" y="7321"/>
                  <a:pt x="21183" y="7392"/>
                </a:cubicBezTo>
                <a:cubicBezTo>
                  <a:pt x="21180" y="7492"/>
                  <a:pt x="21185" y="7573"/>
                  <a:pt x="21208" y="7665"/>
                </a:cubicBezTo>
                <a:cubicBezTo>
                  <a:pt x="21224" y="7727"/>
                  <a:pt x="21256" y="7804"/>
                  <a:pt x="21282" y="7863"/>
                </a:cubicBezTo>
                <a:cubicBezTo>
                  <a:pt x="21314" y="7937"/>
                  <a:pt x="21377" y="8009"/>
                  <a:pt x="21406" y="8086"/>
                </a:cubicBezTo>
                <a:cubicBezTo>
                  <a:pt x="21434" y="8158"/>
                  <a:pt x="21459" y="8255"/>
                  <a:pt x="21481" y="8334"/>
                </a:cubicBezTo>
                <a:cubicBezTo>
                  <a:pt x="21493" y="8376"/>
                  <a:pt x="21477" y="8391"/>
                  <a:pt x="21481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7696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Multip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19320" y="1295280"/>
          <a:ext cx="1295280" cy="8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295280"/>
                    <a:ext cx="12952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952880" y="1295280"/>
          <a:ext cx="1219320" cy="87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1295280"/>
                    <a:ext cx="12193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219320" y="3657600"/>
          <a:ext cx="1066680" cy="80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3657600"/>
                    <a:ext cx="10666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876920" y="3657600"/>
          <a:ext cx="1752480" cy="8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3657600"/>
                    <a:ext cx="1752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170000" y="1446120"/>
            <a:ext cx="295200" cy="669960"/>
          </a:xfrm>
          <a:custGeom>
            <a:avLst/>
            <a:gdLst/>
            <a:ahLst/>
            <a:rect l="l" t="t" r="r" b="b"/>
            <a:pathLst>
              <a:path w="820" h="1862">
                <a:moveTo>
                  <a:pt x="3795" y="5184"/>
                </a:moveTo>
                <a:cubicBezTo>
                  <a:pt x="3827" y="5223"/>
                  <a:pt x="3847" y="5262"/>
                  <a:pt x="3870" y="5308"/>
                </a:cubicBezTo>
              </a:path>
              <a:path w="820" h="1862">
                <a:moveTo>
                  <a:pt x="3870" y="5234"/>
                </a:moveTo>
                <a:cubicBezTo>
                  <a:pt x="3831" y="5261"/>
                  <a:pt x="3774" y="5323"/>
                  <a:pt x="3746" y="5333"/>
                </a:cubicBezTo>
              </a:path>
              <a:path w="820" h="1862">
                <a:moveTo>
                  <a:pt x="3373" y="5556"/>
                </a:moveTo>
                <a:cubicBezTo>
                  <a:pt x="3342" y="5657"/>
                  <a:pt x="3315" y="5747"/>
                  <a:pt x="3249" y="5829"/>
                </a:cubicBezTo>
              </a:path>
              <a:path w="820" h="1862">
                <a:moveTo>
                  <a:pt x="3497" y="5581"/>
                </a:moveTo>
                <a:cubicBezTo>
                  <a:pt x="3475" y="5688"/>
                  <a:pt x="3453" y="5756"/>
                  <a:pt x="3473" y="5854"/>
                </a:cubicBezTo>
                <a:cubicBezTo>
                  <a:pt x="3541" y="5871"/>
                  <a:pt x="3646" y="5867"/>
                  <a:pt x="3646" y="5755"/>
                </a:cubicBezTo>
                <a:cubicBezTo>
                  <a:pt x="3646" y="5710"/>
                  <a:pt x="3571" y="5644"/>
                  <a:pt x="3547" y="5606"/>
                </a:cubicBezTo>
              </a:path>
              <a:path w="820" h="1862">
                <a:moveTo>
                  <a:pt x="3497" y="5507"/>
                </a:moveTo>
                <a:cubicBezTo>
                  <a:pt x="3440" y="5456"/>
                  <a:pt x="3400" y="5399"/>
                  <a:pt x="3373" y="5308"/>
                </a:cubicBezTo>
                <a:cubicBezTo>
                  <a:pt x="3337" y="5187"/>
                  <a:pt x="3370" y="5057"/>
                  <a:pt x="3398" y="4936"/>
                </a:cubicBezTo>
                <a:cubicBezTo>
                  <a:pt x="3429" y="4803"/>
                  <a:pt x="3425" y="4639"/>
                  <a:pt x="3473" y="4514"/>
                </a:cubicBezTo>
                <a:cubicBezTo>
                  <a:pt x="3530" y="4364"/>
                  <a:pt x="3618" y="4319"/>
                  <a:pt x="3746" y="4242"/>
                </a:cubicBezTo>
                <a:cubicBezTo>
                  <a:pt x="3887" y="4157"/>
                  <a:pt x="3777" y="4205"/>
                  <a:pt x="3894" y="4217"/>
                </a:cubicBezTo>
              </a:path>
              <a:path w="820" h="1862">
                <a:moveTo>
                  <a:pt x="4018" y="4018"/>
                </a:moveTo>
                <a:cubicBezTo>
                  <a:pt x="4050" y="4075"/>
                  <a:pt x="4059" y="4081"/>
                  <a:pt x="4068" y="4142"/>
                </a:cubicBezTo>
              </a:path>
              <a:path w="820" h="1862">
                <a:moveTo>
                  <a:pt x="4018" y="4118"/>
                </a:moveTo>
                <a:cubicBezTo>
                  <a:pt x="4043" y="4118"/>
                  <a:pt x="4051" y="4118"/>
                  <a:pt x="4068" y="41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4280" y="2295360"/>
            <a:ext cx="1465560" cy="768600"/>
          </a:xfrm>
          <a:custGeom>
            <a:avLst/>
            <a:gdLst/>
            <a:ahLst/>
            <a:rect l="l" t="t" r="r" b="b"/>
            <a:pathLst>
              <a:path w="4069" h="2134">
                <a:moveTo>
                  <a:pt x="3696" y="6623"/>
                </a:moveTo>
                <a:cubicBezTo>
                  <a:pt x="3717" y="6818"/>
                  <a:pt x="3663" y="6954"/>
                  <a:pt x="3621" y="7144"/>
                </a:cubicBezTo>
                <a:cubicBezTo>
                  <a:pt x="3621" y="7152"/>
                  <a:pt x="3621" y="7161"/>
                  <a:pt x="3621" y="7169"/>
                </a:cubicBezTo>
              </a:path>
              <a:path w="4069" h="2134">
                <a:moveTo>
                  <a:pt x="3994" y="6598"/>
                </a:moveTo>
                <a:cubicBezTo>
                  <a:pt x="3994" y="6742"/>
                  <a:pt x="3998" y="6878"/>
                  <a:pt x="3969" y="7020"/>
                </a:cubicBezTo>
                <a:cubicBezTo>
                  <a:pt x="3952" y="7105"/>
                  <a:pt x="3944" y="7118"/>
                  <a:pt x="3944" y="7193"/>
                </a:cubicBezTo>
              </a:path>
              <a:path w="4069" h="2134">
                <a:moveTo>
                  <a:pt x="3373" y="7441"/>
                </a:moveTo>
                <a:cubicBezTo>
                  <a:pt x="3577" y="7401"/>
                  <a:pt x="3787" y="7366"/>
                  <a:pt x="3994" y="7342"/>
                </a:cubicBezTo>
                <a:cubicBezTo>
                  <a:pt x="4035" y="7342"/>
                  <a:pt x="4043" y="7342"/>
                  <a:pt x="4068" y="7342"/>
                </a:cubicBezTo>
              </a:path>
              <a:path w="4069" h="2134">
                <a:moveTo>
                  <a:pt x="3994" y="7665"/>
                </a:moveTo>
                <a:cubicBezTo>
                  <a:pt x="3960" y="7654"/>
                  <a:pt x="3829" y="7606"/>
                  <a:pt x="3795" y="7640"/>
                </a:cubicBezTo>
                <a:cubicBezTo>
                  <a:pt x="3736" y="7698"/>
                  <a:pt x="3732" y="7860"/>
                  <a:pt x="3721" y="7938"/>
                </a:cubicBezTo>
                <a:cubicBezTo>
                  <a:pt x="3832" y="7903"/>
                  <a:pt x="3973" y="7841"/>
                  <a:pt x="4043" y="7987"/>
                </a:cubicBezTo>
                <a:cubicBezTo>
                  <a:pt x="4103" y="8113"/>
                  <a:pt x="3889" y="8232"/>
                  <a:pt x="3795" y="8235"/>
                </a:cubicBezTo>
                <a:cubicBezTo>
                  <a:pt x="3775" y="8236"/>
                  <a:pt x="3727" y="8210"/>
                  <a:pt x="3696" y="8210"/>
                </a:cubicBezTo>
              </a:path>
              <a:path w="4069" h="2134">
                <a:moveTo>
                  <a:pt x="4465" y="7466"/>
                </a:moveTo>
                <a:cubicBezTo>
                  <a:pt x="4440" y="7466"/>
                  <a:pt x="4432" y="7466"/>
                  <a:pt x="4440" y="7441"/>
                </a:cubicBezTo>
                <a:cubicBezTo>
                  <a:pt x="4454" y="7567"/>
                  <a:pt x="4505" y="7689"/>
                  <a:pt x="4539" y="7813"/>
                </a:cubicBezTo>
              </a:path>
              <a:path w="4069" h="2134">
                <a:moveTo>
                  <a:pt x="4589" y="7441"/>
                </a:moveTo>
                <a:cubicBezTo>
                  <a:pt x="4531" y="7530"/>
                  <a:pt x="4377" y="7708"/>
                  <a:pt x="4366" y="7813"/>
                </a:cubicBezTo>
                <a:cubicBezTo>
                  <a:pt x="4374" y="7813"/>
                  <a:pt x="4382" y="7813"/>
                  <a:pt x="4390" y="7813"/>
                </a:cubicBezTo>
              </a:path>
              <a:path w="4069" h="2134">
                <a:moveTo>
                  <a:pt x="5085" y="7119"/>
                </a:moveTo>
                <a:cubicBezTo>
                  <a:pt x="5054" y="7172"/>
                  <a:pt x="5025" y="7236"/>
                  <a:pt x="5011" y="7293"/>
                </a:cubicBezTo>
                <a:cubicBezTo>
                  <a:pt x="5097" y="7307"/>
                  <a:pt x="5170" y="7317"/>
                  <a:pt x="5259" y="7317"/>
                </a:cubicBezTo>
              </a:path>
              <a:path w="4069" h="2134">
                <a:moveTo>
                  <a:pt x="5308" y="6945"/>
                </a:moveTo>
                <a:cubicBezTo>
                  <a:pt x="5254" y="7139"/>
                  <a:pt x="5207" y="7340"/>
                  <a:pt x="5184" y="7541"/>
                </a:cubicBezTo>
                <a:cubicBezTo>
                  <a:pt x="5184" y="7566"/>
                  <a:pt x="5184" y="7590"/>
                  <a:pt x="5184" y="7615"/>
                </a:cubicBezTo>
              </a:path>
              <a:path w="4069" h="2134">
                <a:moveTo>
                  <a:pt x="4887" y="7739"/>
                </a:moveTo>
                <a:cubicBezTo>
                  <a:pt x="5058" y="7712"/>
                  <a:pt x="5210" y="7653"/>
                  <a:pt x="5383" y="7640"/>
                </a:cubicBezTo>
                <a:cubicBezTo>
                  <a:pt x="5407" y="7640"/>
                  <a:pt x="5416" y="7640"/>
                  <a:pt x="5432" y="7640"/>
                </a:cubicBezTo>
              </a:path>
              <a:path w="4069" h="2134">
                <a:moveTo>
                  <a:pt x="5308" y="7962"/>
                </a:moveTo>
                <a:cubicBezTo>
                  <a:pt x="5308" y="7885"/>
                  <a:pt x="5307" y="7878"/>
                  <a:pt x="5259" y="7813"/>
                </a:cubicBezTo>
                <a:cubicBezTo>
                  <a:pt x="5098" y="7840"/>
                  <a:pt x="5065" y="7919"/>
                  <a:pt x="4986" y="8062"/>
                </a:cubicBezTo>
                <a:cubicBezTo>
                  <a:pt x="5087" y="8128"/>
                  <a:pt x="5172" y="8157"/>
                  <a:pt x="5283" y="8086"/>
                </a:cubicBezTo>
                <a:cubicBezTo>
                  <a:pt x="5308" y="8061"/>
                  <a:pt x="5333" y="8037"/>
                  <a:pt x="5358" y="8012"/>
                </a:cubicBezTo>
              </a:path>
              <a:path w="4069" h="2134">
                <a:moveTo>
                  <a:pt x="5358" y="7888"/>
                </a:moveTo>
                <a:cubicBezTo>
                  <a:pt x="5358" y="7813"/>
                  <a:pt x="5345" y="7988"/>
                  <a:pt x="5333" y="8062"/>
                </a:cubicBezTo>
                <a:cubicBezTo>
                  <a:pt x="5309" y="8208"/>
                  <a:pt x="5309" y="8377"/>
                  <a:pt x="5358" y="8508"/>
                </a:cubicBezTo>
              </a:path>
              <a:path w="4069" h="2134">
                <a:moveTo>
                  <a:pt x="5755" y="7367"/>
                </a:moveTo>
                <a:cubicBezTo>
                  <a:pt x="5755" y="7359"/>
                  <a:pt x="5755" y="7350"/>
                  <a:pt x="5755" y="7342"/>
                </a:cubicBezTo>
                <a:cubicBezTo>
                  <a:pt x="5796" y="7334"/>
                  <a:pt x="5857" y="7297"/>
                  <a:pt x="5904" y="7317"/>
                </a:cubicBezTo>
                <a:cubicBezTo>
                  <a:pt x="5912" y="7325"/>
                  <a:pt x="5920" y="7334"/>
                  <a:pt x="5928" y="7342"/>
                </a:cubicBezTo>
              </a:path>
              <a:path w="4069" h="2134">
                <a:moveTo>
                  <a:pt x="5779" y="7541"/>
                </a:moveTo>
                <a:cubicBezTo>
                  <a:pt x="5837" y="7541"/>
                  <a:pt x="5895" y="7541"/>
                  <a:pt x="5953" y="7541"/>
                </a:cubicBezTo>
              </a:path>
              <a:path w="4069" h="2134">
                <a:moveTo>
                  <a:pt x="6573" y="6648"/>
                </a:moveTo>
                <a:cubicBezTo>
                  <a:pt x="6573" y="6698"/>
                  <a:pt x="6564" y="6751"/>
                  <a:pt x="6548" y="6796"/>
                </a:cubicBezTo>
                <a:cubicBezTo>
                  <a:pt x="6528" y="6837"/>
                  <a:pt x="6520" y="6843"/>
                  <a:pt x="6524" y="6871"/>
                </a:cubicBezTo>
                <a:cubicBezTo>
                  <a:pt x="6579" y="6890"/>
                  <a:pt x="6611" y="6896"/>
                  <a:pt x="6672" y="6896"/>
                </a:cubicBezTo>
              </a:path>
              <a:path w="4069" h="2134">
                <a:moveTo>
                  <a:pt x="6697" y="6697"/>
                </a:moveTo>
                <a:cubicBezTo>
                  <a:pt x="6697" y="6801"/>
                  <a:pt x="6663" y="6893"/>
                  <a:pt x="6648" y="6995"/>
                </a:cubicBezTo>
                <a:cubicBezTo>
                  <a:pt x="6634" y="7089"/>
                  <a:pt x="6592" y="7129"/>
                  <a:pt x="6672" y="6995"/>
                </a:cubicBezTo>
              </a:path>
              <a:path w="4069" h="2134">
                <a:moveTo>
                  <a:pt x="6821" y="6722"/>
                </a:moveTo>
                <a:cubicBezTo>
                  <a:pt x="6821" y="6782"/>
                  <a:pt x="6804" y="6837"/>
                  <a:pt x="6796" y="6896"/>
                </a:cubicBezTo>
                <a:cubicBezTo>
                  <a:pt x="6899" y="6896"/>
                  <a:pt x="6920" y="6911"/>
                  <a:pt x="6995" y="6846"/>
                </a:cubicBezTo>
              </a:path>
              <a:path w="4069" h="2134">
                <a:moveTo>
                  <a:pt x="7020" y="6623"/>
                </a:moveTo>
                <a:cubicBezTo>
                  <a:pt x="6993" y="6759"/>
                  <a:pt x="6970" y="6881"/>
                  <a:pt x="6970" y="7020"/>
                </a:cubicBezTo>
                <a:cubicBezTo>
                  <a:pt x="6970" y="7064"/>
                  <a:pt x="6968" y="7059"/>
                  <a:pt x="6995" y="7094"/>
                </a:cubicBezTo>
              </a:path>
              <a:path w="4069" h="2134">
                <a:moveTo>
                  <a:pt x="6400" y="7268"/>
                </a:moveTo>
                <a:cubicBezTo>
                  <a:pt x="6576" y="7223"/>
                  <a:pt x="6761" y="7262"/>
                  <a:pt x="6945" y="7243"/>
                </a:cubicBezTo>
                <a:cubicBezTo>
                  <a:pt x="7004" y="7237"/>
                  <a:pt x="7082" y="7172"/>
                  <a:pt x="7119" y="7218"/>
                </a:cubicBezTo>
                <a:cubicBezTo>
                  <a:pt x="7119" y="7226"/>
                  <a:pt x="7119" y="7235"/>
                  <a:pt x="7119" y="7243"/>
                </a:cubicBezTo>
              </a:path>
              <a:path w="4069" h="2134">
                <a:moveTo>
                  <a:pt x="6524" y="7441"/>
                </a:moveTo>
                <a:cubicBezTo>
                  <a:pt x="6524" y="7391"/>
                  <a:pt x="6449" y="7557"/>
                  <a:pt x="6424" y="7590"/>
                </a:cubicBezTo>
                <a:cubicBezTo>
                  <a:pt x="6416" y="7598"/>
                  <a:pt x="6408" y="7607"/>
                  <a:pt x="6400" y="7615"/>
                </a:cubicBezTo>
                <a:cubicBezTo>
                  <a:pt x="6468" y="7605"/>
                  <a:pt x="6529" y="7590"/>
                  <a:pt x="6598" y="7590"/>
                </a:cubicBezTo>
              </a:path>
              <a:path w="4069" h="2134">
                <a:moveTo>
                  <a:pt x="6648" y="7417"/>
                </a:moveTo>
                <a:cubicBezTo>
                  <a:pt x="6632" y="7575"/>
                  <a:pt x="6631" y="7734"/>
                  <a:pt x="6598" y="7888"/>
                </a:cubicBezTo>
                <a:cubicBezTo>
                  <a:pt x="6587" y="7940"/>
                  <a:pt x="6645" y="7810"/>
                  <a:pt x="6672" y="7764"/>
                </a:cubicBezTo>
              </a:path>
              <a:path w="4069" h="2134">
                <a:moveTo>
                  <a:pt x="7045" y="7441"/>
                </a:moveTo>
                <a:cubicBezTo>
                  <a:pt x="7030" y="7398"/>
                  <a:pt x="6973" y="7417"/>
                  <a:pt x="6921" y="7417"/>
                </a:cubicBezTo>
                <a:cubicBezTo>
                  <a:pt x="6864" y="7417"/>
                  <a:pt x="6857" y="7494"/>
                  <a:pt x="6846" y="7541"/>
                </a:cubicBezTo>
                <a:cubicBezTo>
                  <a:pt x="6846" y="7549"/>
                  <a:pt x="6846" y="7557"/>
                  <a:pt x="6846" y="7565"/>
                </a:cubicBezTo>
                <a:cubicBezTo>
                  <a:pt x="6898" y="7604"/>
                  <a:pt x="6913" y="7566"/>
                  <a:pt x="6970" y="7590"/>
                </a:cubicBezTo>
                <a:cubicBezTo>
                  <a:pt x="7026" y="7614"/>
                  <a:pt x="7028" y="7682"/>
                  <a:pt x="7045" y="7714"/>
                </a:cubicBezTo>
                <a:cubicBezTo>
                  <a:pt x="7070" y="7761"/>
                  <a:pt x="7088" y="7788"/>
                  <a:pt x="7045" y="7838"/>
                </a:cubicBezTo>
                <a:cubicBezTo>
                  <a:pt x="7010" y="7879"/>
                  <a:pt x="6960" y="7940"/>
                  <a:pt x="6896" y="7913"/>
                </a:cubicBezTo>
                <a:cubicBezTo>
                  <a:pt x="6878" y="7906"/>
                  <a:pt x="6823" y="7866"/>
                  <a:pt x="6821" y="7863"/>
                </a:cubicBezTo>
                <a:cubicBezTo>
                  <a:pt x="6821" y="7855"/>
                  <a:pt x="6821" y="7846"/>
                  <a:pt x="6821" y="7838"/>
                </a:cubicBezTo>
              </a:path>
              <a:path w="4069" h="2134">
                <a:moveTo>
                  <a:pt x="6052" y="6499"/>
                </a:moveTo>
                <a:cubicBezTo>
                  <a:pt x="6040" y="6549"/>
                  <a:pt x="6033" y="6547"/>
                  <a:pt x="6028" y="6598"/>
                </a:cubicBezTo>
                <a:cubicBezTo>
                  <a:pt x="5979" y="7142"/>
                  <a:pt x="6028" y="7713"/>
                  <a:pt x="6028" y="8260"/>
                </a:cubicBezTo>
                <a:cubicBezTo>
                  <a:pt x="6414" y="8260"/>
                  <a:pt x="6817" y="8282"/>
                  <a:pt x="7193" y="8235"/>
                </a:cubicBezTo>
                <a:cubicBezTo>
                  <a:pt x="7226" y="8231"/>
                  <a:pt x="7260" y="8238"/>
                  <a:pt x="7293" y="8235"/>
                </a:cubicBezTo>
                <a:cubicBezTo>
                  <a:pt x="7293" y="7976"/>
                  <a:pt x="7292" y="7719"/>
                  <a:pt x="7268" y="7466"/>
                </a:cubicBezTo>
                <a:cubicBezTo>
                  <a:pt x="7255" y="7326"/>
                  <a:pt x="7265" y="7179"/>
                  <a:pt x="7293" y="7045"/>
                </a:cubicBezTo>
                <a:cubicBezTo>
                  <a:pt x="7308" y="6971"/>
                  <a:pt x="7315" y="6898"/>
                  <a:pt x="7317" y="6821"/>
                </a:cubicBezTo>
                <a:cubicBezTo>
                  <a:pt x="7319" y="6728"/>
                  <a:pt x="7333" y="6626"/>
                  <a:pt x="7342" y="6548"/>
                </a:cubicBezTo>
                <a:cubicBezTo>
                  <a:pt x="7348" y="6492"/>
                  <a:pt x="7342" y="6432"/>
                  <a:pt x="7342" y="6375"/>
                </a:cubicBezTo>
                <a:cubicBezTo>
                  <a:pt x="7132" y="6375"/>
                  <a:pt x="6924" y="6377"/>
                  <a:pt x="6722" y="6400"/>
                </a:cubicBezTo>
                <a:cubicBezTo>
                  <a:pt x="6648" y="6409"/>
                  <a:pt x="6569" y="6416"/>
                  <a:pt x="6499" y="6424"/>
                </a:cubicBezTo>
                <a:cubicBezTo>
                  <a:pt x="6420" y="6433"/>
                  <a:pt x="6356" y="6446"/>
                  <a:pt x="6276" y="6449"/>
                </a:cubicBezTo>
                <a:cubicBezTo>
                  <a:pt x="6205" y="6451"/>
                  <a:pt x="6145" y="6468"/>
                  <a:pt x="6077" y="6474"/>
                </a:cubicBezTo>
                <a:cubicBezTo>
                  <a:pt x="6003" y="6481"/>
                  <a:pt x="5978" y="6474"/>
                  <a:pt x="5904" y="6474"/>
                </a:cubicBezTo>
              </a:path>
              <a:path w="4069" h="2134">
                <a:moveTo>
                  <a:pt x="7441" y="8012"/>
                </a:moveTo>
                <a:cubicBezTo>
                  <a:pt x="7433" y="8004"/>
                  <a:pt x="7425" y="7995"/>
                  <a:pt x="7417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49880" y="35712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14585" y="1042"/>
                </a:moveTo>
                <a:cubicBezTo>
                  <a:pt x="14585" y="1025"/>
                  <a:pt x="14585" y="1009"/>
                  <a:pt x="14585" y="9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8240" y="1276200"/>
            <a:ext cx="1876680" cy="849600"/>
          </a:xfrm>
          <a:custGeom>
            <a:avLst/>
            <a:gdLst/>
            <a:ahLst/>
            <a:rect l="l" t="t" r="r" b="b"/>
            <a:pathLst>
              <a:path w="5210" h="2358">
                <a:moveTo>
                  <a:pt x="17760" y="3870"/>
                </a:moveTo>
                <a:cubicBezTo>
                  <a:pt x="17818" y="3964"/>
                  <a:pt x="17747" y="4025"/>
                  <a:pt x="17711" y="4118"/>
                </a:cubicBezTo>
                <a:cubicBezTo>
                  <a:pt x="17711" y="4126"/>
                  <a:pt x="17711" y="4134"/>
                  <a:pt x="17711" y="4142"/>
                </a:cubicBezTo>
                <a:cubicBezTo>
                  <a:pt x="17865" y="4142"/>
                  <a:pt x="17940" y="4180"/>
                  <a:pt x="18008" y="4043"/>
                </a:cubicBezTo>
              </a:path>
              <a:path w="5210" h="2358">
                <a:moveTo>
                  <a:pt x="17983" y="3894"/>
                </a:moveTo>
                <a:cubicBezTo>
                  <a:pt x="17950" y="4056"/>
                  <a:pt x="17945" y="4236"/>
                  <a:pt x="17884" y="4390"/>
                </a:cubicBezTo>
                <a:cubicBezTo>
                  <a:pt x="17884" y="4382"/>
                  <a:pt x="17884" y="4374"/>
                  <a:pt x="17884" y="4366"/>
                </a:cubicBezTo>
              </a:path>
              <a:path w="5210" h="2358">
                <a:moveTo>
                  <a:pt x="18405" y="3894"/>
                </a:moveTo>
                <a:cubicBezTo>
                  <a:pt x="18332" y="3894"/>
                  <a:pt x="18279" y="3934"/>
                  <a:pt x="18207" y="3944"/>
                </a:cubicBezTo>
                <a:cubicBezTo>
                  <a:pt x="18157" y="3951"/>
                  <a:pt x="18182" y="4068"/>
                  <a:pt x="18182" y="4118"/>
                </a:cubicBezTo>
                <a:cubicBezTo>
                  <a:pt x="18182" y="4126"/>
                  <a:pt x="18182" y="4134"/>
                  <a:pt x="18182" y="4142"/>
                </a:cubicBezTo>
                <a:cubicBezTo>
                  <a:pt x="18297" y="4120"/>
                  <a:pt x="18363" y="4063"/>
                  <a:pt x="18479" y="4142"/>
                </a:cubicBezTo>
                <a:cubicBezTo>
                  <a:pt x="18644" y="4254"/>
                  <a:pt x="18271" y="4359"/>
                  <a:pt x="18231" y="4366"/>
                </a:cubicBezTo>
                <a:cubicBezTo>
                  <a:pt x="18215" y="4366"/>
                  <a:pt x="18198" y="4366"/>
                  <a:pt x="18182" y="4366"/>
                </a:cubicBezTo>
              </a:path>
              <a:path w="5210" h="2358">
                <a:moveTo>
                  <a:pt x="18752" y="3671"/>
                </a:moveTo>
                <a:cubicBezTo>
                  <a:pt x="18752" y="3618"/>
                  <a:pt x="18741" y="3610"/>
                  <a:pt x="18703" y="3572"/>
                </a:cubicBezTo>
                <a:cubicBezTo>
                  <a:pt x="18695" y="3564"/>
                  <a:pt x="18686" y="3555"/>
                  <a:pt x="18678" y="3547"/>
                </a:cubicBezTo>
                <a:cubicBezTo>
                  <a:pt x="18623" y="3602"/>
                  <a:pt x="18590" y="3643"/>
                  <a:pt x="18579" y="3721"/>
                </a:cubicBezTo>
                <a:cubicBezTo>
                  <a:pt x="18579" y="3746"/>
                  <a:pt x="18579" y="3754"/>
                  <a:pt x="18554" y="3746"/>
                </a:cubicBezTo>
              </a:path>
              <a:path w="5210" h="2358">
                <a:moveTo>
                  <a:pt x="18380" y="3944"/>
                </a:moveTo>
                <a:cubicBezTo>
                  <a:pt x="18384" y="3938"/>
                  <a:pt x="18433" y="3856"/>
                  <a:pt x="18405" y="3845"/>
                </a:cubicBezTo>
                <a:cubicBezTo>
                  <a:pt x="18247" y="3782"/>
                  <a:pt x="18249" y="4107"/>
                  <a:pt x="18256" y="4167"/>
                </a:cubicBezTo>
                <a:cubicBezTo>
                  <a:pt x="18275" y="4338"/>
                  <a:pt x="18424" y="4266"/>
                  <a:pt x="18504" y="4217"/>
                </a:cubicBezTo>
                <a:cubicBezTo>
                  <a:pt x="18562" y="4131"/>
                  <a:pt x="18578" y="4006"/>
                  <a:pt x="18430" y="3969"/>
                </a:cubicBezTo>
                <a:cubicBezTo>
                  <a:pt x="18214" y="3915"/>
                  <a:pt x="18124" y="4144"/>
                  <a:pt x="18132" y="4316"/>
                </a:cubicBezTo>
                <a:cubicBezTo>
                  <a:pt x="18145" y="4584"/>
                  <a:pt x="18428" y="4318"/>
                  <a:pt x="18479" y="4217"/>
                </a:cubicBezTo>
                <a:cubicBezTo>
                  <a:pt x="18504" y="4117"/>
                  <a:pt x="18512" y="4083"/>
                  <a:pt x="18430" y="4043"/>
                </a:cubicBezTo>
                <a:cubicBezTo>
                  <a:pt x="18279" y="4062"/>
                  <a:pt x="18120" y="4096"/>
                  <a:pt x="18182" y="4291"/>
                </a:cubicBezTo>
                <a:cubicBezTo>
                  <a:pt x="18198" y="4316"/>
                  <a:pt x="18215" y="4341"/>
                  <a:pt x="18231" y="4366"/>
                </a:cubicBezTo>
                <a:cubicBezTo>
                  <a:pt x="18315" y="4355"/>
                  <a:pt x="18560" y="4297"/>
                  <a:pt x="18430" y="4142"/>
                </a:cubicBezTo>
                <a:cubicBezTo>
                  <a:pt x="18306" y="3994"/>
                  <a:pt x="18124" y="4210"/>
                  <a:pt x="18182" y="4341"/>
                </a:cubicBezTo>
                <a:cubicBezTo>
                  <a:pt x="18268" y="4535"/>
                  <a:pt x="18514" y="4268"/>
                  <a:pt x="18504" y="4142"/>
                </a:cubicBezTo>
                <a:cubicBezTo>
                  <a:pt x="18453" y="4065"/>
                  <a:pt x="18433" y="4040"/>
                  <a:pt x="18355" y="4068"/>
                </a:cubicBezTo>
                <a:cubicBezTo>
                  <a:pt x="18329" y="4106"/>
                  <a:pt x="18150" y="4494"/>
                  <a:pt x="18380" y="4316"/>
                </a:cubicBezTo>
                <a:cubicBezTo>
                  <a:pt x="18537" y="4195"/>
                  <a:pt x="18488" y="4052"/>
                  <a:pt x="18306" y="4118"/>
                </a:cubicBezTo>
              </a:path>
              <a:path w="5210" h="2358">
                <a:moveTo>
                  <a:pt x="17686" y="4787"/>
                </a:moveTo>
                <a:cubicBezTo>
                  <a:pt x="17966" y="4720"/>
                  <a:pt x="18246" y="4664"/>
                  <a:pt x="18529" y="4614"/>
                </a:cubicBezTo>
                <a:cubicBezTo>
                  <a:pt x="18637" y="4596"/>
                  <a:pt x="18644" y="4588"/>
                  <a:pt x="18703" y="4589"/>
                </a:cubicBezTo>
              </a:path>
              <a:path w="5210" h="2358">
                <a:moveTo>
                  <a:pt x="17835" y="4986"/>
                </a:moveTo>
                <a:cubicBezTo>
                  <a:pt x="17847" y="4950"/>
                  <a:pt x="17898" y="4955"/>
                  <a:pt x="17859" y="4936"/>
                </a:cubicBezTo>
                <a:cubicBezTo>
                  <a:pt x="17729" y="4955"/>
                  <a:pt x="17680" y="4985"/>
                  <a:pt x="17636" y="5110"/>
                </a:cubicBezTo>
                <a:cubicBezTo>
                  <a:pt x="17579" y="5272"/>
                  <a:pt x="17844" y="5102"/>
                  <a:pt x="17859" y="5085"/>
                </a:cubicBezTo>
                <a:cubicBezTo>
                  <a:pt x="17867" y="5068"/>
                  <a:pt x="17876" y="5052"/>
                  <a:pt x="17884" y="5035"/>
                </a:cubicBezTo>
                <a:cubicBezTo>
                  <a:pt x="17884" y="5162"/>
                  <a:pt x="17861" y="5290"/>
                  <a:pt x="17810" y="5407"/>
                </a:cubicBezTo>
                <a:cubicBezTo>
                  <a:pt x="17802" y="5415"/>
                  <a:pt x="17793" y="5424"/>
                  <a:pt x="17785" y="5432"/>
                </a:cubicBezTo>
              </a:path>
              <a:path w="5210" h="2358">
                <a:moveTo>
                  <a:pt x="18207" y="4986"/>
                </a:moveTo>
                <a:cubicBezTo>
                  <a:pt x="18133" y="5118"/>
                  <a:pt x="18077" y="5231"/>
                  <a:pt x="18058" y="5383"/>
                </a:cubicBezTo>
                <a:cubicBezTo>
                  <a:pt x="18158" y="5365"/>
                  <a:pt x="18407" y="5322"/>
                  <a:pt x="18306" y="5159"/>
                </a:cubicBezTo>
                <a:cubicBezTo>
                  <a:pt x="18260" y="5113"/>
                  <a:pt x="18247" y="5099"/>
                  <a:pt x="18207" y="5085"/>
                </a:cubicBezTo>
              </a:path>
              <a:path w="5210" h="2358">
                <a:moveTo>
                  <a:pt x="18777" y="4167"/>
                </a:moveTo>
                <a:cubicBezTo>
                  <a:pt x="18833" y="4149"/>
                  <a:pt x="18893" y="4117"/>
                  <a:pt x="18951" y="4093"/>
                </a:cubicBezTo>
              </a:path>
              <a:path w="5210" h="2358">
                <a:moveTo>
                  <a:pt x="18852" y="3919"/>
                </a:moveTo>
                <a:cubicBezTo>
                  <a:pt x="18852" y="3927"/>
                  <a:pt x="18852" y="3936"/>
                  <a:pt x="18852" y="3944"/>
                </a:cubicBezTo>
              </a:path>
              <a:path w="5210" h="2358">
                <a:moveTo>
                  <a:pt x="18901" y="4390"/>
                </a:moveTo>
                <a:cubicBezTo>
                  <a:pt x="18901" y="4398"/>
                  <a:pt x="18901" y="4407"/>
                  <a:pt x="18901" y="4415"/>
                </a:cubicBezTo>
              </a:path>
              <a:path w="5210" h="2358">
                <a:moveTo>
                  <a:pt x="18579" y="5259"/>
                </a:moveTo>
                <a:cubicBezTo>
                  <a:pt x="18601" y="5226"/>
                  <a:pt x="18693" y="5201"/>
                  <a:pt x="18752" y="5184"/>
                </a:cubicBezTo>
              </a:path>
              <a:path w="5210" h="2358">
                <a:moveTo>
                  <a:pt x="18653" y="4961"/>
                </a:moveTo>
                <a:cubicBezTo>
                  <a:pt x="18653" y="5011"/>
                  <a:pt x="18653" y="5044"/>
                  <a:pt x="18653" y="5085"/>
                </a:cubicBezTo>
              </a:path>
              <a:path w="5210" h="2358">
                <a:moveTo>
                  <a:pt x="18628" y="5383"/>
                </a:moveTo>
                <a:lnTo>
                  <a:pt x="18628" y="5383"/>
                </a:lnTo>
                <a:lnTo>
                  <a:pt x="18628" y="5383"/>
                </a:lnTo>
              </a:path>
              <a:path w="5210" h="2358">
                <a:moveTo>
                  <a:pt x="18628" y="5383"/>
                </a:moveTo>
                <a:lnTo>
                  <a:pt x="18628" y="5383"/>
                </a:lnTo>
              </a:path>
              <a:path w="5210" h="2358">
                <a:moveTo>
                  <a:pt x="18976" y="5035"/>
                </a:moveTo>
                <a:cubicBezTo>
                  <a:pt x="19035" y="5010"/>
                  <a:pt x="19036" y="5011"/>
                  <a:pt x="19100" y="5011"/>
                </a:cubicBezTo>
                <a:cubicBezTo>
                  <a:pt x="19100" y="5159"/>
                  <a:pt x="19049" y="5199"/>
                  <a:pt x="18951" y="5308"/>
                </a:cubicBezTo>
                <a:cubicBezTo>
                  <a:pt x="18943" y="5316"/>
                  <a:pt x="18934" y="5325"/>
                  <a:pt x="18926" y="5333"/>
                </a:cubicBezTo>
                <a:cubicBezTo>
                  <a:pt x="19005" y="5333"/>
                  <a:pt x="19113" y="5283"/>
                  <a:pt x="19174" y="5234"/>
                </a:cubicBezTo>
                <a:cubicBezTo>
                  <a:pt x="19174" y="5226"/>
                  <a:pt x="19174" y="5217"/>
                  <a:pt x="19174" y="5209"/>
                </a:cubicBezTo>
              </a:path>
              <a:path w="5210" h="2358">
                <a:moveTo>
                  <a:pt x="19348" y="3746"/>
                </a:moveTo>
                <a:cubicBezTo>
                  <a:pt x="19348" y="3738"/>
                  <a:pt x="19348" y="3729"/>
                  <a:pt x="19348" y="3721"/>
                </a:cubicBezTo>
                <a:cubicBezTo>
                  <a:pt x="19388" y="3711"/>
                  <a:pt x="19407" y="3681"/>
                  <a:pt x="19447" y="3671"/>
                </a:cubicBezTo>
              </a:path>
              <a:path w="5210" h="2358">
                <a:moveTo>
                  <a:pt x="19199" y="3969"/>
                </a:moveTo>
                <a:cubicBezTo>
                  <a:pt x="19241" y="3958"/>
                  <a:pt x="19306" y="3903"/>
                  <a:pt x="19323" y="3894"/>
                </a:cubicBezTo>
                <a:cubicBezTo>
                  <a:pt x="19331" y="3894"/>
                  <a:pt x="19340" y="3894"/>
                  <a:pt x="19348" y="3894"/>
                </a:cubicBezTo>
                <a:cubicBezTo>
                  <a:pt x="19348" y="4066"/>
                  <a:pt x="19310" y="4167"/>
                  <a:pt x="19224" y="4316"/>
                </a:cubicBezTo>
                <a:cubicBezTo>
                  <a:pt x="19207" y="4341"/>
                  <a:pt x="19191" y="4365"/>
                  <a:pt x="19174" y="4390"/>
                </a:cubicBezTo>
                <a:cubicBezTo>
                  <a:pt x="19271" y="4381"/>
                  <a:pt x="19337" y="4345"/>
                  <a:pt x="19422" y="4316"/>
                </a:cubicBezTo>
              </a:path>
              <a:path w="5210" h="2358">
                <a:moveTo>
                  <a:pt x="19596" y="4465"/>
                </a:moveTo>
                <a:cubicBezTo>
                  <a:pt x="19657" y="4465"/>
                  <a:pt x="19697" y="4469"/>
                  <a:pt x="19745" y="4490"/>
                </a:cubicBezTo>
              </a:path>
              <a:path w="5210" h="2358">
                <a:moveTo>
                  <a:pt x="19621" y="4688"/>
                </a:moveTo>
                <a:cubicBezTo>
                  <a:pt x="19732" y="4711"/>
                  <a:pt x="19679" y="4705"/>
                  <a:pt x="19844" y="4688"/>
                </a:cubicBezTo>
              </a:path>
              <a:path w="5210" h="2358">
                <a:moveTo>
                  <a:pt x="20216" y="4118"/>
                </a:moveTo>
                <a:cubicBezTo>
                  <a:pt x="20355" y="4095"/>
                  <a:pt x="20455" y="4136"/>
                  <a:pt x="20365" y="4291"/>
                </a:cubicBezTo>
                <a:cubicBezTo>
                  <a:pt x="20316" y="4375"/>
                  <a:pt x="20191" y="4488"/>
                  <a:pt x="20166" y="4341"/>
                </a:cubicBezTo>
                <a:cubicBezTo>
                  <a:pt x="20155" y="4275"/>
                  <a:pt x="20354" y="4401"/>
                  <a:pt x="20389" y="4415"/>
                </a:cubicBezTo>
              </a:path>
              <a:path w="5210" h="2358">
                <a:moveTo>
                  <a:pt x="20563" y="4192"/>
                </a:moveTo>
                <a:cubicBezTo>
                  <a:pt x="20540" y="4284"/>
                  <a:pt x="20529" y="4309"/>
                  <a:pt x="20563" y="4366"/>
                </a:cubicBezTo>
                <a:cubicBezTo>
                  <a:pt x="20618" y="4370"/>
                  <a:pt x="20910" y="4333"/>
                  <a:pt x="20811" y="4192"/>
                </a:cubicBezTo>
                <a:cubicBezTo>
                  <a:pt x="20722" y="4162"/>
                  <a:pt x="20681" y="4157"/>
                  <a:pt x="20613" y="4192"/>
                </a:cubicBezTo>
              </a:path>
              <a:path w="5210" h="2358">
                <a:moveTo>
                  <a:pt x="20191" y="4713"/>
                </a:moveTo>
                <a:cubicBezTo>
                  <a:pt x="20380" y="4713"/>
                  <a:pt x="20551" y="4640"/>
                  <a:pt x="20737" y="4614"/>
                </a:cubicBezTo>
                <a:cubicBezTo>
                  <a:pt x="20770" y="4614"/>
                  <a:pt x="20803" y="4614"/>
                  <a:pt x="20836" y="4614"/>
                </a:cubicBezTo>
              </a:path>
              <a:path w="5210" h="2358">
                <a:moveTo>
                  <a:pt x="20241" y="4986"/>
                </a:moveTo>
                <a:cubicBezTo>
                  <a:pt x="20228" y="5037"/>
                  <a:pt x="20184" y="5082"/>
                  <a:pt x="20166" y="5135"/>
                </a:cubicBezTo>
                <a:cubicBezTo>
                  <a:pt x="20221" y="5158"/>
                  <a:pt x="20274" y="5159"/>
                  <a:pt x="20340" y="5159"/>
                </a:cubicBezTo>
              </a:path>
              <a:path w="5210" h="2358">
                <a:moveTo>
                  <a:pt x="20315" y="4986"/>
                </a:moveTo>
                <a:cubicBezTo>
                  <a:pt x="20315" y="5082"/>
                  <a:pt x="20304" y="5165"/>
                  <a:pt x="20290" y="5259"/>
                </a:cubicBezTo>
                <a:cubicBezTo>
                  <a:pt x="20290" y="5283"/>
                  <a:pt x="20290" y="5292"/>
                  <a:pt x="20290" y="5308"/>
                </a:cubicBezTo>
              </a:path>
              <a:path w="5210" h="2358">
                <a:moveTo>
                  <a:pt x="20687" y="4936"/>
                </a:moveTo>
                <a:cubicBezTo>
                  <a:pt x="20645" y="4974"/>
                  <a:pt x="20607" y="5001"/>
                  <a:pt x="20563" y="5035"/>
                </a:cubicBezTo>
                <a:cubicBezTo>
                  <a:pt x="20615" y="5056"/>
                  <a:pt x="20658" y="5099"/>
                  <a:pt x="20687" y="5135"/>
                </a:cubicBezTo>
                <a:cubicBezTo>
                  <a:pt x="20739" y="5201"/>
                  <a:pt x="20693" y="5230"/>
                  <a:pt x="20613" y="5259"/>
                </a:cubicBezTo>
                <a:cubicBezTo>
                  <a:pt x="20525" y="5291"/>
                  <a:pt x="20519" y="5299"/>
                  <a:pt x="20464" y="5259"/>
                </a:cubicBezTo>
              </a:path>
              <a:path w="5210" h="2358">
                <a:moveTo>
                  <a:pt x="20687" y="4936"/>
                </a:moveTo>
                <a:cubicBezTo>
                  <a:pt x="20751" y="4917"/>
                  <a:pt x="20775" y="4911"/>
                  <a:pt x="20836" y="4911"/>
                </a:cubicBezTo>
              </a:path>
              <a:path w="5210" h="2358">
                <a:moveTo>
                  <a:pt x="21134" y="4242"/>
                </a:moveTo>
                <a:cubicBezTo>
                  <a:pt x="21159" y="4242"/>
                  <a:pt x="21183" y="4242"/>
                  <a:pt x="21208" y="4242"/>
                </a:cubicBezTo>
              </a:path>
              <a:path w="5210" h="2358">
                <a:moveTo>
                  <a:pt x="21158" y="4093"/>
                </a:moveTo>
                <a:cubicBezTo>
                  <a:pt x="21199" y="4093"/>
                  <a:pt x="21208" y="4109"/>
                  <a:pt x="21183" y="4167"/>
                </a:cubicBezTo>
              </a:path>
              <a:path w="5210" h="2358">
                <a:moveTo>
                  <a:pt x="21183" y="4415"/>
                </a:moveTo>
                <a:lnTo>
                  <a:pt x="21183" y="4415"/>
                </a:lnTo>
                <a:lnTo>
                  <a:pt x="21183" y="4415"/>
                </a:lnTo>
              </a:path>
              <a:path w="5210" h="2358">
                <a:moveTo>
                  <a:pt x="21183" y="4415"/>
                </a:moveTo>
                <a:lnTo>
                  <a:pt x="21183" y="4415"/>
                </a:lnTo>
              </a:path>
              <a:path w="5210" h="2358">
                <a:moveTo>
                  <a:pt x="21382" y="4266"/>
                </a:moveTo>
                <a:cubicBezTo>
                  <a:pt x="21341" y="4367"/>
                  <a:pt x="21447" y="4330"/>
                  <a:pt x="21481" y="4415"/>
                </a:cubicBezTo>
                <a:cubicBezTo>
                  <a:pt x="21515" y="4500"/>
                  <a:pt x="21373" y="4503"/>
                  <a:pt x="21332" y="4514"/>
                </a:cubicBezTo>
              </a:path>
              <a:path w="5210" h="2358">
                <a:moveTo>
                  <a:pt x="21406" y="4266"/>
                </a:moveTo>
                <a:cubicBezTo>
                  <a:pt x="21513" y="4240"/>
                  <a:pt x="21553" y="4232"/>
                  <a:pt x="21630" y="4242"/>
                </a:cubicBezTo>
              </a:path>
              <a:path w="5210" h="2358">
                <a:moveTo>
                  <a:pt x="21630" y="4242"/>
                </a:moveTo>
                <a:lnTo>
                  <a:pt x="21630" y="4242"/>
                </a:lnTo>
              </a:path>
              <a:path w="5210" h="2358">
                <a:moveTo>
                  <a:pt x="22250" y="4341"/>
                </a:moveTo>
                <a:cubicBezTo>
                  <a:pt x="22260" y="4433"/>
                  <a:pt x="22293" y="4520"/>
                  <a:pt x="22299" y="4614"/>
                </a:cubicBezTo>
                <a:cubicBezTo>
                  <a:pt x="22299" y="4622"/>
                  <a:pt x="22299" y="4630"/>
                  <a:pt x="22299" y="4638"/>
                </a:cubicBezTo>
              </a:path>
              <a:path w="5210" h="2358">
                <a:moveTo>
                  <a:pt x="22151" y="4787"/>
                </a:moveTo>
                <a:cubicBezTo>
                  <a:pt x="22251" y="4772"/>
                  <a:pt x="22349" y="4754"/>
                  <a:pt x="22448" y="4738"/>
                </a:cubicBezTo>
                <a:cubicBezTo>
                  <a:pt x="22479" y="4733"/>
                  <a:pt x="22515" y="4738"/>
                  <a:pt x="22547" y="4738"/>
                </a:cubicBezTo>
              </a:path>
              <a:path w="5210" h="2358">
                <a:moveTo>
                  <a:pt x="22399" y="5085"/>
                </a:moveTo>
                <a:cubicBezTo>
                  <a:pt x="22438" y="5098"/>
                  <a:pt x="22409" y="5097"/>
                  <a:pt x="22448" y="5110"/>
                </a:cubicBezTo>
                <a:cubicBezTo>
                  <a:pt x="22397" y="5131"/>
                  <a:pt x="22340" y="5103"/>
                  <a:pt x="22275" y="5110"/>
                </a:cubicBezTo>
                <a:cubicBezTo>
                  <a:pt x="22204" y="5118"/>
                  <a:pt x="22164" y="5175"/>
                  <a:pt x="22151" y="5259"/>
                </a:cubicBezTo>
                <a:cubicBezTo>
                  <a:pt x="22151" y="5300"/>
                  <a:pt x="22151" y="5308"/>
                  <a:pt x="22151" y="5333"/>
                </a:cubicBezTo>
                <a:cubicBezTo>
                  <a:pt x="22263" y="5325"/>
                  <a:pt x="22284" y="5313"/>
                  <a:pt x="22374" y="5259"/>
                </a:cubicBezTo>
                <a:cubicBezTo>
                  <a:pt x="22418" y="5233"/>
                  <a:pt x="22423" y="5084"/>
                  <a:pt x="22423" y="5135"/>
                </a:cubicBezTo>
                <a:cubicBezTo>
                  <a:pt x="22423" y="5143"/>
                  <a:pt x="22423" y="5151"/>
                  <a:pt x="22423" y="5159"/>
                </a:cubicBezTo>
                <a:cubicBezTo>
                  <a:pt x="22450" y="5258"/>
                  <a:pt x="22448" y="5351"/>
                  <a:pt x="22448" y="5457"/>
                </a:cubicBezTo>
                <a:cubicBezTo>
                  <a:pt x="22448" y="5490"/>
                  <a:pt x="22448" y="5523"/>
                  <a:pt x="22448" y="5556"/>
                </a:cubicBezTo>
              </a:path>
              <a:path w="5210" h="2358">
                <a:moveTo>
                  <a:pt x="22721" y="4713"/>
                </a:moveTo>
                <a:cubicBezTo>
                  <a:pt x="22721" y="4653"/>
                  <a:pt x="22712" y="4614"/>
                  <a:pt x="22696" y="4564"/>
                </a:cubicBezTo>
                <a:cubicBezTo>
                  <a:pt x="22683" y="4522"/>
                  <a:pt x="22665" y="4476"/>
                  <a:pt x="22647" y="4440"/>
                </a:cubicBezTo>
                <a:cubicBezTo>
                  <a:pt x="22627" y="4400"/>
                  <a:pt x="22599" y="4358"/>
                  <a:pt x="22572" y="4316"/>
                </a:cubicBezTo>
                <a:cubicBezTo>
                  <a:pt x="22537" y="4263"/>
                  <a:pt x="22502" y="4227"/>
                  <a:pt x="22448" y="4192"/>
                </a:cubicBezTo>
                <a:cubicBezTo>
                  <a:pt x="22382" y="4149"/>
                  <a:pt x="22320" y="4141"/>
                  <a:pt x="22250" y="4118"/>
                </a:cubicBezTo>
                <a:cubicBezTo>
                  <a:pt x="22181" y="4095"/>
                  <a:pt x="22131" y="4046"/>
                  <a:pt x="22051" y="4068"/>
                </a:cubicBezTo>
                <a:cubicBezTo>
                  <a:pt x="21996" y="4083"/>
                  <a:pt x="21958" y="4120"/>
                  <a:pt x="21927" y="4142"/>
                </a:cubicBezTo>
                <a:cubicBezTo>
                  <a:pt x="21858" y="4191"/>
                  <a:pt x="21821" y="4233"/>
                  <a:pt x="21803" y="4316"/>
                </a:cubicBezTo>
                <a:cubicBezTo>
                  <a:pt x="21785" y="4399"/>
                  <a:pt x="21763" y="4502"/>
                  <a:pt x="21779" y="4589"/>
                </a:cubicBezTo>
                <a:cubicBezTo>
                  <a:pt x="21793" y="4669"/>
                  <a:pt x="21786" y="4759"/>
                  <a:pt x="21803" y="4837"/>
                </a:cubicBezTo>
                <a:cubicBezTo>
                  <a:pt x="21823" y="4928"/>
                  <a:pt x="21853" y="4991"/>
                  <a:pt x="21853" y="5085"/>
                </a:cubicBezTo>
                <a:cubicBezTo>
                  <a:pt x="21853" y="5162"/>
                  <a:pt x="21891" y="5234"/>
                  <a:pt x="21903" y="5308"/>
                </a:cubicBezTo>
                <a:cubicBezTo>
                  <a:pt x="21914" y="5375"/>
                  <a:pt x="21906" y="5443"/>
                  <a:pt x="21927" y="5507"/>
                </a:cubicBezTo>
                <a:cubicBezTo>
                  <a:pt x="21944" y="5556"/>
                  <a:pt x="21961" y="5607"/>
                  <a:pt x="21977" y="5655"/>
                </a:cubicBezTo>
                <a:cubicBezTo>
                  <a:pt x="21997" y="5716"/>
                  <a:pt x="22016" y="5758"/>
                  <a:pt x="22051" y="5804"/>
                </a:cubicBezTo>
                <a:cubicBezTo>
                  <a:pt x="22090" y="5856"/>
                  <a:pt x="22208" y="5906"/>
                  <a:pt x="22275" y="5904"/>
                </a:cubicBezTo>
                <a:cubicBezTo>
                  <a:pt x="22303" y="5903"/>
                  <a:pt x="22437" y="5871"/>
                  <a:pt x="22473" y="5854"/>
                </a:cubicBezTo>
                <a:cubicBezTo>
                  <a:pt x="22521" y="5831"/>
                  <a:pt x="22575" y="5784"/>
                  <a:pt x="22622" y="5755"/>
                </a:cubicBezTo>
                <a:cubicBezTo>
                  <a:pt x="22710" y="5700"/>
                  <a:pt x="22725" y="5627"/>
                  <a:pt x="22771" y="5531"/>
                </a:cubicBezTo>
                <a:cubicBezTo>
                  <a:pt x="22797" y="5477"/>
                  <a:pt x="22796" y="5441"/>
                  <a:pt x="22796" y="5383"/>
                </a:cubicBezTo>
                <a:cubicBezTo>
                  <a:pt x="22796" y="5313"/>
                  <a:pt x="22820" y="5257"/>
                  <a:pt x="22820" y="5184"/>
                </a:cubicBezTo>
                <a:cubicBezTo>
                  <a:pt x="22820" y="5125"/>
                  <a:pt x="22837" y="5091"/>
                  <a:pt x="22845" y="5035"/>
                </a:cubicBezTo>
                <a:cubicBezTo>
                  <a:pt x="22855" y="4963"/>
                  <a:pt x="22815" y="4904"/>
                  <a:pt x="22820" y="4837"/>
                </a:cubicBezTo>
                <a:cubicBezTo>
                  <a:pt x="22826" y="4748"/>
                  <a:pt x="22869" y="4660"/>
                  <a:pt x="22845" y="4564"/>
                </a:cubicBezTo>
                <a:cubicBezTo>
                  <a:pt x="22845" y="4562"/>
                  <a:pt x="22805" y="4504"/>
                  <a:pt x="22796" y="4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27960" y="1830240"/>
            <a:ext cx="142920" cy="98640"/>
          </a:xfrm>
          <a:custGeom>
            <a:avLst/>
            <a:gdLst/>
            <a:ahLst/>
            <a:rect l="l" t="t" r="r" b="b"/>
            <a:pathLst>
              <a:path w="398" h="274">
                <a:moveTo>
                  <a:pt x="20910" y="5184"/>
                </a:moveTo>
                <a:cubicBezTo>
                  <a:pt x="20968" y="5184"/>
                  <a:pt x="20993" y="5184"/>
                  <a:pt x="21034" y="5184"/>
                </a:cubicBezTo>
              </a:path>
              <a:path w="398" h="274">
                <a:moveTo>
                  <a:pt x="21059" y="5085"/>
                </a:moveTo>
                <a:cubicBezTo>
                  <a:pt x="21051" y="5085"/>
                  <a:pt x="21042" y="5085"/>
                  <a:pt x="21034" y="5085"/>
                </a:cubicBezTo>
              </a:path>
              <a:path w="398" h="274">
                <a:moveTo>
                  <a:pt x="21034" y="5085"/>
                </a:moveTo>
                <a:lnTo>
                  <a:pt x="21034" y="5085"/>
                </a:lnTo>
              </a:path>
              <a:path w="398" h="274">
                <a:moveTo>
                  <a:pt x="20960" y="5308"/>
                </a:moveTo>
                <a:cubicBezTo>
                  <a:pt x="20960" y="5333"/>
                  <a:pt x="20960" y="5341"/>
                  <a:pt x="20960" y="5308"/>
                </a:cubicBezTo>
              </a:path>
              <a:path w="398" h="274">
                <a:moveTo>
                  <a:pt x="21208" y="5135"/>
                </a:moveTo>
                <a:cubicBezTo>
                  <a:pt x="21208" y="5179"/>
                  <a:pt x="21260" y="5236"/>
                  <a:pt x="21258" y="5259"/>
                </a:cubicBezTo>
                <a:cubicBezTo>
                  <a:pt x="21233" y="5308"/>
                  <a:pt x="21224" y="5325"/>
                  <a:pt x="21208" y="5358"/>
                </a:cubicBezTo>
              </a:path>
              <a:path w="398" h="274">
                <a:moveTo>
                  <a:pt x="21183" y="5135"/>
                </a:moveTo>
                <a:cubicBezTo>
                  <a:pt x="21243" y="5128"/>
                  <a:pt x="21260" y="5123"/>
                  <a:pt x="21307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13800" y="1704960"/>
            <a:ext cx="36360" cy="63360"/>
          </a:xfrm>
          <a:custGeom>
            <a:avLst/>
            <a:gdLst/>
            <a:ahLst/>
            <a:rect l="l" t="t" r="r" b="b"/>
            <a:pathLst>
              <a:path w="100" h="174">
                <a:moveTo>
                  <a:pt x="21729" y="4738"/>
                </a:moveTo>
                <a:cubicBezTo>
                  <a:pt x="21772" y="4738"/>
                  <a:pt x="21769" y="4737"/>
                  <a:pt x="21803" y="4762"/>
                </a:cubicBezTo>
              </a:path>
              <a:path w="100" h="174">
                <a:moveTo>
                  <a:pt x="21704" y="4911"/>
                </a:moveTo>
                <a:cubicBezTo>
                  <a:pt x="21729" y="4911"/>
                  <a:pt x="21754" y="4911"/>
                  <a:pt x="21779" y="4911"/>
                </a:cubicBezTo>
              </a:path>
              <a:path w="100" h="174">
                <a:moveTo>
                  <a:pt x="21779" y="4911"/>
                </a:moveTo>
                <a:lnTo>
                  <a:pt x="21779" y="491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47000" y="1554120"/>
            <a:ext cx="54000" cy="6192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22101" y="4341"/>
                </a:moveTo>
                <a:cubicBezTo>
                  <a:pt x="22101" y="4333"/>
                  <a:pt x="22101" y="4324"/>
                  <a:pt x="22101" y="4316"/>
                </a:cubicBezTo>
                <a:cubicBezTo>
                  <a:pt x="22090" y="4369"/>
                  <a:pt x="22076" y="4408"/>
                  <a:pt x="22076" y="4465"/>
                </a:cubicBezTo>
                <a:cubicBezTo>
                  <a:pt x="22115" y="4475"/>
                  <a:pt x="22131" y="4490"/>
                  <a:pt x="22175" y="4490"/>
                </a:cubicBezTo>
                <a:cubicBezTo>
                  <a:pt x="22200" y="4490"/>
                  <a:pt x="22208" y="4490"/>
                  <a:pt x="22225" y="4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7760" y="2340000"/>
            <a:ext cx="411120" cy="295200"/>
          </a:xfrm>
          <a:custGeom>
            <a:avLst/>
            <a:gdLst/>
            <a:ahLst/>
            <a:rect l="l" t="t" r="r" b="b"/>
            <a:pathLst>
              <a:path w="1142" h="819">
                <a:moveTo>
                  <a:pt x="13965" y="7169"/>
                </a:moveTo>
                <a:cubicBezTo>
                  <a:pt x="14141" y="7169"/>
                  <a:pt x="14313" y="7213"/>
                  <a:pt x="14486" y="7243"/>
                </a:cubicBezTo>
                <a:cubicBezTo>
                  <a:pt x="14696" y="7279"/>
                  <a:pt x="14894" y="7307"/>
                  <a:pt x="15106" y="7317"/>
                </a:cubicBezTo>
              </a:path>
              <a:path w="1142" h="819">
                <a:moveTo>
                  <a:pt x="14263" y="6524"/>
                </a:moveTo>
                <a:cubicBezTo>
                  <a:pt x="14247" y="6555"/>
                  <a:pt x="14205" y="6686"/>
                  <a:pt x="14238" y="6722"/>
                </a:cubicBezTo>
                <a:cubicBezTo>
                  <a:pt x="14341" y="6834"/>
                  <a:pt x="14487" y="6718"/>
                  <a:pt x="14536" y="6648"/>
                </a:cubicBezTo>
              </a:path>
              <a:path w="1142" h="819">
                <a:moveTo>
                  <a:pt x="14511" y="6499"/>
                </a:moveTo>
                <a:cubicBezTo>
                  <a:pt x="14531" y="6663"/>
                  <a:pt x="14519" y="6839"/>
                  <a:pt x="14560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9720" y="2928960"/>
            <a:ext cx="411120" cy="411120"/>
          </a:xfrm>
          <a:custGeom>
            <a:avLst/>
            <a:gdLst/>
            <a:ahLst/>
            <a:rect l="l" t="t" r="r" b="b"/>
            <a:pathLst>
              <a:path w="1142" h="1142">
                <a:moveTo>
                  <a:pt x="15900" y="8409"/>
                </a:moveTo>
                <a:cubicBezTo>
                  <a:pt x="15945" y="8375"/>
                  <a:pt x="15989" y="8364"/>
                  <a:pt x="16049" y="8359"/>
                </a:cubicBezTo>
                <a:cubicBezTo>
                  <a:pt x="16057" y="8359"/>
                  <a:pt x="16065" y="8359"/>
                  <a:pt x="16073" y="8359"/>
                </a:cubicBezTo>
              </a:path>
              <a:path w="1142" h="1142">
                <a:moveTo>
                  <a:pt x="16073" y="8210"/>
                </a:moveTo>
                <a:cubicBezTo>
                  <a:pt x="16073" y="8253"/>
                  <a:pt x="16079" y="8278"/>
                  <a:pt x="16098" y="8310"/>
                </a:cubicBezTo>
              </a:path>
              <a:path w="1142" h="1142">
                <a:moveTo>
                  <a:pt x="16073" y="8508"/>
                </a:moveTo>
                <a:lnTo>
                  <a:pt x="16073" y="8508"/>
                </a:lnTo>
                <a:lnTo>
                  <a:pt x="16073" y="8508"/>
                </a:lnTo>
              </a:path>
              <a:path w="1142" h="1142">
                <a:moveTo>
                  <a:pt x="16073" y="8508"/>
                </a:moveTo>
                <a:lnTo>
                  <a:pt x="16073" y="8508"/>
                </a:lnTo>
              </a:path>
              <a:path w="1142" h="1142">
                <a:moveTo>
                  <a:pt x="16297" y="8334"/>
                </a:moveTo>
                <a:cubicBezTo>
                  <a:pt x="16360" y="8292"/>
                  <a:pt x="16372" y="8276"/>
                  <a:pt x="16421" y="8285"/>
                </a:cubicBezTo>
                <a:cubicBezTo>
                  <a:pt x="16404" y="8383"/>
                  <a:pt x="16390" y="8407"/>
                  <a:pt x="16321" y="8483"/>
                </a:cubicBezTo>
                <a:cubicBezTo>
                  <a:pt x="16390" y="8466"/>
                  <a:pt x="16529" y="8442"/>
                  <a:pt x="16594" y="8409"/>
                </a:cubicBezTo>
                <a:cubicBezTo>
                  <a:pt x="16619" y="8392"/>
                  <a:pt x="16644" y="8376"/>
                  <a:pt x="16669" y="8359"/>
                </a:cubicBezTo>
              </a:path>
              <a:path w="1142" h="1142">
                <a:moveTo>
                  <a:pt x="15528" y="8136"/>
                </a:moveTo>
                <a:cubicBezTo>
                  <a:pt x="15761" y="8230"/>
                  <a:pt x="16001" y="8260"/>
                  <a:pt x="16247" y="8310"/>
                </a:cubicBezTo>
                <a:cubicBezTo>
                  <a:pt x="16325" y="8326"/>
                  <a:pt x="16355" y="8334"/>
                  <a:pt x="16421" y="8334"/>
                </a:cubicBezTo>
              </a:path>
              <a:path w="1142" h="1142">
                <a:moveTo>
                  <a:pt x="15801" y="8855"/>
                </a:moveTo>
                <a:cubicBezTo>
                  <a:pt x="15885" y="8838"/>
                  <a:pt x="15959" y="8811"/>
                  <a:pt x="16049" y="8806"/>
                </a:cubicBezTo>
                <a:cubicBezTo>
                  <a:pt x="16057" y="8806"/>
                  <a:pt x="16065" y="8806"/>
                  <a:pt x="16073" y="8806"/>
                </a:cubicBezTo>
                <a:cubicBezTo>
                  <a:pt x="16052" y="8916"/>
                  <a:pt x="15953" y="8942"/>
                  <a:pt x="15949" y="9054"/>
                </a:cubicBezTo>
                <a:cubicBezTo>
                  <a:pt x="16074" y="9039"/>
                  <a:pt x="16105" y="9023"/>
                  <a:pt x="16197" y="9103"/>
                </a:cubicBezTo>
                <a:cubicBezTo>
                  <a:pt x="16093" y="9314"/>
                  <a:pt x="15987" y="9270"/>
                  <a:pt x="15776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83200" y="3463920"/>
            <a:ext cx="428760" cy="492120"/>
          </a:xfrm>
          <a:custGeom>
            <a:avLst/>
            <a:gdLst/>
            <a:ahLst/>
            <a:rect l="l" t="t" r="r" b="b"/>
            <a:pathLst>
              <a:path w="1192" h="1365">
                <a:moveTo>
                  <a:pt x="17338" y="10641"/>
                </a:moveTo>
                <a:cubicBezTo>
                  <a:pt x="17385" y="10641"/>
                  <a:pt x="17425" y="10656"/>
                  <a:pt x="17438" y="10616"/>
                </a:cubicBezTo>
              </a:path>
              <a:path w="1192" h="1365">
                <a:moveTo>
                  <a:pt x="17338" y="10468"/>
                </a:moveTo>
                <a:cubicBezTo>
                  <a:pt x="17338" y="10503"/>
                  <a:pt x="17343" y="10520"/>
                  <a:pt x="17363" y="10542"/>
                </a:cubicBezTo>
              </a:path>
              <a:path w="1192" h="1365">
                <a:moveTo>
                  <a:pt x="17363" y="10542"/>
                </a:moveTo>
                <a:lnTo>
                  <a:pt x="17363" y="10542"/>
                </a:lnTo>
              </a:path>
              <a:path w="1192" h="1365">
                <a:moveTo>
                  <a:pt x="17363" y="10815"/>
                </a:moveTo>
                <a:lnTo>
                  <a:pt x="17363" y="10815"/>
                </a:lnTo>
              </a:path>
              <a:path w="1192" h="1365">
                <a:moveTo>
                  <a:pt x="17587" y="10542"/>
                </a:moveTo>
                <a:cubicBezTo>
                  <a:pt x="17632" y="10514"/>
                  <a:pt x="17653" y="10517"/>
                  <a:pt x="17711" y="10517"/>
                </a:cubicBezTo>
                <a:cubicBezTo>
                  <a:pt x="17711" y="10647"/>
                  <a:pt x="17682" y="10684"/>
                  <a:pt x="17611" y="10790"/>
                </a:cubicBezTo>
                <a:cubicBezTo>
                  <a:pt x="17655" y="10790"/>
                  <a:pt x="17756" y="10794"/>
                  <a:pt x="17785" y="10765"/>
                </a:cubicBezTo>
                <a:cubicBezTo>
                  <a:pt x="17785" y="10757"/>
                  <a:pt x="17785" y="10748"/>
                  <a:pt x="17785" y="10740"/>
                </a:cubicBezTo>
              </a:path>
              <a:path w="1192" h="1365">
                <a:moveTo>
                  <a:pt x="16619" y="10988"/>
                </a:moveTo>
                <a:cubicBezTo>
                  <a:pt x="16710" y="10988"/>
                  <a:pt x="16781" y="10945"/>
                  <a:pt x="16867" y="10914"/>
                </a:cubicBezTo>
                <a:cubicBezTo>
                  <a:pt x="17057" y="10846"/>
                  <a:pt x="17249" y="10787"/>
                  <a:pt x="17438" y="10716"/>
                </a:cubicBezTo>
                <a:cubicBezTo>
                  <a:pt x="17544" y="10676"/>
                  <a:pt x="17676" y="10610"/>
                  <a:pt x="17785" y="10592"/>
                </a:cubicBezTo>
                <a:cubicBezTo>
                  <a:pt x="17793" y="10592"/>
                  <a:pt x="17802" y="10592"/>
                  <a:pt x="17810" y="10592"/>
                </a:cubicBezTo>
              </a:path>
              <a:path w="1192" h="1365">
                <a:moveTo>
                  <a:pt x="17190" y="9823"/>
                </a:moveTo>
                <a:cubicBezTo>
                  <a:pt x="17187" y="9843"/>
                  <a:pt x="17118" y="10025"/>
                  <a:pt x="17140" y="10046"/>
                </a:cubicBezTo>
                <a:cubicBezTo>
                  <a:pt x="17198" y="10101"/>
                  <a:pt x="17340" y="10057"/>
                  <a:pt x="17363" y="10021"/>
                </a:cubicBezTo>
              </a:path>
              <a:path w="1192" h="1365">
                <a:moveTo>
                  <a:pt x="17338" y="9624"/>
                </a:moveTo>
                <a:cubicBezTo>
                  <a:pt x="17338" y="9812"/>
                  <a:pt x="17305" y="9984"/>
                  <a:pt x="17289" y="10170"/>
                </a:cubicBezTo>
                <a:cubicBezTo>
                  <a:pt x="17280" y="10269"/>
                  <a:pt x="17309" y="10260"/>
                  <a:pt x="17264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6120" y="2589120"/>
            <a:ext cx="446040" cy="741600"/>
          </a:xfrm>
          <a:custGeom>
            <a:avLst/>
            <a:gdLst/>
            <a:ahLst/>
            <a:rect l="l" t="t" r="r" b="b"/>
            <a:pathLst>
              <a:path w="1241" h="2060">
                <a:moveTo>
                  <a:pt x="14511" y="7268"/>
                </a:moveTo>
                <a:cubicBezTo>
                  <a:pt x="14430" y="7173"/>
                  <a:pt x="14289" y="7161"/>
                  <a:pt x="14163" y="7218"/>
                </a:cubicBezTo>
                <a:cubicBezTo>
                  <a:pt x="14130" y="7243"/>
                  <a:pt x="14097" y="7268"/>
                  <a:pt x="14064" y="7293"/>
                </a:cubicBezTo>
                <a:cubicBezTo>
                  <a:pt x="14101" y="7404"/>
                  <a:pt x="14322" y="7494"/>
                  <a:pt x="14312" y="7615"/>
                </a:cubicBezTo>
                <a:cubicBezTo>
                  <a:pt x="14303" y="7719"/>
                  <a:pt x="14138" y="7672"/>
                  <a:pt x="14089" y="7665"/>
                </a:cubicBezTo>
                <a:cubicBezTo>
                  <a:pt x="14135" y="7539"/>
                  <a:pt x="14254" y="7387"/>
                  <a:pt x="14362" y="7293"/>
                </a:cubicBezTo>
                <a:cubicBezTo>
                  <a:pt x="14370" y="7293"/>
                  <a:pt x="14379" y="7293"/>
                  <a:pt x="14387" y="7293"/>
                </a:cubicBezTo>
              </a:path>
              <a:path w="1241" h="2060">
                <a:moveTo>
                  <a:pt x="14064" y="8012"/>
                </a:moveTo>
                <a:cubicBezTo>
                  <a:pt x="14222" y="7990"/>
                  <a:pt x="14377" y="7970"/>
                  <a:pt x="14536" y="7962"/>
                </a:cubicBezTo>
              </a:path>
              <a:path w="1241" h="2060">
                <a:moveTo>
                  <a:pt x="13965" y="8359"/>
                </a:moveTo>
                <a:cubicBezTo>
                  <a:pt x="13912" y="8482"/>
                  <a:pt x="13833" y="8583"/>
                  <a:pt x="13767" y="8682"/>
                </a:cubicBezTo>
                <a:cubicBezTo>
                  <a:pt x="13767" y="8690"/>
                  <a:pt x="13767" y="8698"/>
                  <a:pt x="13767" y="8706"/>
                </a:cubicBezTo>
              </a:path>
              <a:path w="1241" h="2060">
                <a:moveTo>
                  <a:pt x="14188" y="8359"/>
                </a:moveTo>
                <a:cubicBezTo>
                  <a:pt x="14188" y="8469"/>
                  <a:pt x="14267" y="8458"/>
                  <a:pt x="14362" y="8508"/>
                </a:cubicBezTo>
                <a:cubicBezTo>
                  <a:pt x="14509" y="8585"/>
                  <a:pt x="14265" y="8625"/>
                  <a:pt x="14213" y="8632"/>
                </a:cubicBezTo>
              </a:path>
              <a:path w="1241" h="2060">
                <a:moveTo>
                  <a:pt x="14337" y="8334"/>
                </a:moveTo>
                <a:cubicBezTo>
                  <a:pt x="14436" y="8310"/>
                  <a:pt x="14470" y="8302"/>
                  <a:pt x="14536" y="8285"/>
                </a:cubicBezTo>
              </a:path>
              <a:path w="1241" h="2060">
                <a:moveTo>
                  <a:pt x="13866" y="8210"/>
                </a:moveTo>
                <a:cubicBezTo>
                  <a:pt x="14028" y="8275"/>
                  <a:pt x="14255" y="8465"/>
                  <a:pt x="14412" y="8558"/>
                </a:cubicBezTo>
                <a:cubicBezTo>
                  <a:pt x="14524" y="8624"/>
                  <a:pt x="14723" y="8772"/>
                  <a:pt x="14858" y="8806"/>
                </a:cubicBezTo>
              </a:path>
              <a:path w="1241" h="2060">
                <a:moveTo>
                  <a:pt x="13816" y="8880"/>
                </a:moveTo>
                <a:cubicBezTo>
                  <a:pt x="13753" y="8849"/>
                  <a:pt x="13961" y="8805"/>
                  <a:pt x="13990" y="8806"/>
                </a:cubicBezTo>
                <a:cubicBezTo>
                  <a:pt x="14015" y="8814"/>
                  <a:pt x="14039" y="8822"/>
                  <a:pt x="14064" y="8830"/>
                </a:cubicBezTo>
                <a:cubicBezTo>
                  <a:pt x="14032" y="8976"/>
                  <a:pt x="13947" y="8973"/>
                  <a:pt x="13841" y="9054"/>
                </a:cubicBezTo>
                <a:cubicBezTo>
                  <a:pt x="13849" y="9054"/>
                  <a:pt x="13858" y="9054"/>
                  <a:pt x="13866" y="9054"/>
                </a:cubicBezTo>
                <a:cubicBezTo>
                  <a:pt x="13939" y="9034"/>
                  <a:pt x="14151" y="8991"/>
                  <a:pt x="14089" y="9153"/>
                </a:cubicBezTo>
                <a:cubicBezTo>
                  <a:pt x="14051" y="9252"/>
                  <a:pt x="13901" y="9252"/>
                  <a:pt x="13816" y="9252"/>
                </a:cubicBezTo>
                <a:cubicBezTo>
                  <a:pt x="13808" y="9252"/>
                  <a:pt x="13799" y="9252"/>
                  <a:pt x="13791" y="9252"/>
                </a:cubicBezTo>
              </a:path>
              <a:path w="1241" h="2060">
                <a:moveTo>
                  <a:pt x="14511" y="7441"/>
                </a:moveTo>
                <a:cubicBezTo>
                  <a:pt x="14575" y="7433"/>
                  <a:pt x="14623" y="7405"/>
                  <a:pt x="14684" y="7392"/>
                </a:cubicBezTo>
              </a:path>
              <a:path w="1241" h="2060">
                <a:moveTo>
                  <a:pt x="14585" y="7243"/>
                </a:moveTo>
                <a:cubicBezTo>
                  <a:pt x="14585" y="7309"/>
                  <a:pt x="14595" y="7338"/>
                  <a:pt x="14610" y="7417"/>
                </a:cubicBezTo>
              </a:path>
              <a:path w="1241" h="2060">
                <a:moveTo>
                  <a:pt x="14635" y="7565"/>
                </a:moveTo>
                <a:cubicBezTo>
                  <a:pt x="14635" y="7573"/>
                  <a:pt x="14635" y="7582"/>
                  <a:pt x="14635" y="7590"/>
                </a:cubicBezTo>
              </a:path>
              <a:path w="1241" h="2060">
                <a:moveTo>
                  <a:pt x="14635" y="7590"/>
                </a:moveTo>
                <a:lnTo>
                  <a:pt x="14635" y="7590"/>
                </a:lnTo>
              </a:path>
              <a:path w="1241" h="2060">
                <a:moveTo>
                  <a:pt x="14784" y="7243"/>
                </a:moveTo>
                <a:cubicBezTo>
                  <a:pt x="14794" y="7211"/>
                  <a:pt x="14817" y="7203"/>
                  <a:pt x="14858" y="7193"/>
                </a:cubicBezTo>
                <a:cubicBezTo>
                  <a:pt x="14852" y="7288"/>
                  <a:pt x="14846" y="7331"/>
                  <a:pt x="14808" y="7417"/>
                </a:cubicBezTo>
                <a:cubicBezTo>
                  <a:pt x="14878" y="7436"/>
                  <a:pt x="14932" y="7407"/>
                  <a:pt x="15007" y="73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4960" y="2374920"/>
            <a:ext cx="911160" cy="849240"/>
          </a:xfrm>
          <a:custGeom>
            <a:avLst/>
            <a:gdLst/>
            <a:ahLst/>
            <a:rect l="l" t="t" r="r" b="b"/>
            <a:pathLst>
              <a:path w="2531" h="2357">
                <a:moveTo>
                  <a:pt x="15156" y="7962"/>
                </a:moveTo>
                <a:cubicBezTo>
                  <a:pt x="15193" y="7993"/>
                  <a:pt x="15258" y="8081"/>
                  <a:pt x="15280" y="8136"/>
                </a:cubicBezTo>
              </a:path>
              <a:path w="2531" h="2357">
                <a:moveTo>
                  <a:pt x="15255" y="7962"/>
                </a:moveTo>
                <a:cubicBezTo>
                  <a:pt x="15231" y="8008"/>
                  <a:pt x="15156" y="8161"/>
                  <a:pt x="15131" y="8186"/>
                </a:cubicBezTo>
              </a:path>
              <a:path w="2531" h="2357">
                <a:moveTo>
                  <a:pt x="15776" y="7466"/>
                </a:moveTo>
                <a:cubicBezTo>
                  <a:pt x="15768" y="7466"/>
                  <a:pt x="15759" y="7466"/>
                  <a:pt x="15751" y="7466"/>
                </a:cubicBezTo>
                <a:cubicBezTo>
                  <a:pt x="15790" y="7532"/>
                  <a:pt x="15875" y="7573"/>
                  <a:pt x="15949" y="7615"/>
                </a:cubicBezTo>
                <a:cubicBezTo>
                  <a:pt x="15896" y="7702"/>
                  <a:pt x="15899" y="7696"/>
                  <a:pt x="15801" y="7714"/>
                </a:cubicBezTo>
              </a:path>
              <a:path w="2531" h="2357">
                <a:moveTo>
                  <a:pt x="15900" y="7342"/>
                </a:moveTo>
                <a:cubicBezTo>
                  <a:pt x="15986" y="7315"/>
                  <a:pt x="16059" y="7300"/>
                  <a:pt x="16148" y="7293"/>
                </a:cubicBezTo>
              </a:path>
              <a:path w="2531" h="2357">
                <a:moveTo>
                  <a:pt x="15751" y="7838"/>
                </a:moveTo>
                <a:cubicBezTo>
                  <a:pt x="15892" y="7814"/>
                  <a:pt x="15933" y="7808"/>
                  <a:pt x="16024" y="7789"/>
                </a:cubicBezTo>
              </a:path>
              <a:path w="2531" h="2357">
                <a:moveTo>
                  <a:pt x="15677" y="8037"/>
                </a:moveTo>
                <a:cubicBezTo>
                  <a:pt x="15692" y="8137"/>
                  <a:pt x="15566" y="8265"/>
                  <a:pt x="15528" y="8384"/>
                </a:cubicBezTo>
                <a:cubicBezTo>
                  <a:pt x="15528" y="8401"/>
                  <a:pt x="15528" y="8417"/>
                  <a:pt x="15528" y="8434"/>
                </a:cubicBezTo>
                <a:cubicBezTo>
                  <a:pt x="15660" y="8401"/>
                  <a:pt x="15826" y="8342"/>
                  <a:pt x="15825" y="8235"/>
                </a:cubicBezTo>
                <a:cubicBezTo>
                  <a:pt x="15736" y="8276"/>
                  <a:pt x="15687" y="8307"/>
                  <a:pt x="15627" y="8384"/>
                </a:cubicBezTo>
              </a:path>
              <a:path w="2531" h="2357">
                <a:moveTo>
                  <a:pt x="16321" y="7342"/>
                </a:moveTo>
                <a:cubicBezTo>
                  <a:pt x="16371" y="7342"/>
                  <a:pt x="16420" y="7342"/>
                  <a:pt x="16470" y="7342"/>
                </a:cubicBezTo>
              </a:path>
              <a:path w="2531" h="2357">
                <a:moveTo>
                  <a:pt x="16371" y="7193"/>
                </a:moveTo>
                <a:cubicBezTo>
                  <a:pt x="16371" y="7268"/>
                  <a:pt x="16371" y="7326"/>
                  <a:pt x="16371" y="7392"/>
                </a:cubicBezTo>
              </a:path>
              <a:path w="2531" h="2357">
                <a:moveTo>
                  <a:pt x="16321" y="7565"/>
                </a:moveTo>
                <a:lnTo>
                  <a:pt x="16321" y="7565"/>
                </a:lnTo>
                <a:lnTo>
                  <a:pt x="16321" y="7565"/>
                </a:lnTo>
              </a:path>
              <a:path w="2531" h="2357">
                <a:moveTo>
                  <a:pt x="16321" y="7565"/>
                </a:moveTo>
                <a:lnTo>
                  <a:pt x="16321" y="7565"/>
                </a:lnTo>
              </a:path>
              <a:path w="2531" h="2357">
                <a:moveTo>
                  <a:pt x="14486" y="8682"/>
                </a:moveTo>
                <a:cubicBezTo>
                  <a:pt x="14533" y="8682"/>
                  <a:pt x="14536" y="8686"/>
                  <a:pt x="14585" y="8706"/>
                </a:cubicBezTo>
              </a:path>
              <a:path w="2531" h="2357">
                <a:moveTo>
                  <a:pt x="14560" y="8508"/>
                </a:moveTo>
                <a:cubicBezTo>
                  <a:pt x="14560" y="8516"/>
                  <a:pt x="14560" y="8525"/>
                  <a:pt x="14560" y="8533"/>
                </a:cubicBezTo>
              </a:path>
              <a:path w="2531" h="2357">
                <a:moveTo>
                  <a:pt x="14560" y="8533"/>
                </a:moveTo>
                <a:lnTo>
                  <a:pt x="14560" y="8533"/>
                </a:lnTo>
              </a:path>
              <a:path w="2531" h="2357">
                <a:moveTo>
                  <a:pt x="14511" y="8855"/>
                </a:moveTo>
                <a:lnTo>
                  <a:pt x="14511" y="8855"/>
                </a:lnTo>
              </a:path>
              <a:path w="2531" h="2357">
                <a:moveTo>
                  <a:pt x="14734" y="8781"/>
                </a:moveTo>
                <a:cubicBezTo>
                  <a:pt x="14765" y="8791"/>
                  <a:pt x="14813" y="8862"/>
                  <a:pt x="14833" y="8905"/>
                </a:cubicBezTo>
                <a:cubicBezTo>
                  <a:pt x="14889" y="9026"/>
                  <a:pt x="14720" y="8891"/>
                  <a:pt x="14709" y="8880"/>
                </a:cubicBezTo>
              </a:path>
              <a:path w="2531" h="2357">
                <a:moveTo>
                  <a:pt x="14784" y="8756"/>
                </a:moveTo>
                <a:cubicBezTo>
                  <a:pt x="14852" y="8702"/>
                  <a:pt x="14897" y="8685"/>
                  <a:pt x="14982" y="8657"/>
                </a:cubicBezTo>
              </a:path>
              <a:path w="2531" h="2357">
                <a:moveTo>
                  <a:pt x="14982" y="8657"/>
                </a:moveTo>
                <a:lnTo>
                  <a:pt x="14982" y="8657"/>
                </a:lnTo>
              </a:path>
              <a:path w="2531" h="2357">
                <a:moveTo>
                  <a:pt x="16694" y="7169"/>
                </a:moveTo>
                <a:cubicBezTo>
                  <a:pt x="16686" y="7198"/>
                  <a:pt x="16676" y="7214"/>
                  <a:pt x="16669" y="7243"/>
                </a:cubicBezTo>
                <a:cubicBezTo>
                  <a:pt x="16697" y="7243"/>
                  <a:pt x="16753" y="7250"/>
                  <a:pt x="16768" y="7268"/>
                </a:cubicBezTo>
                <a:cubicBezTo>
                  <a:pt x="16835" y="7348"/>
                  <a:pt x="16652" y="7483"/>
                  <a:pt x="16594" y="7367"/>
                </a:cubicBezTo>
                <a:cubicBezTo>
                  <a:pt x="16594" y="7334"/>
                  <a:pt x="16594" y="7301"/>
                  <a:pt x="16594" y="7268"/>
                </a:cubicBezTo>
              </a:path>
              <a:path w="2531" h="2357">
                <a:moveTo>
                  <a:pt x="16694" y="7144"/>
                </a:moveTo>
                <a:cubicBezTo>
                  <a:pt x="16776" y="7116"/>
                  <a:pt x="16808" y="7106"/>
                  <a:pt x="16867" y="7094"/>
                </a:cubicBezTo>
              </a:path>
              <a:path w="2531" h="2357">
                <a:moveTo>
                  <a:pt x="17016" y="7045"/>
                </a:moveTo>
                <a:cubicBezTo>
                  <a:pt x="16643" y="7180"/>
                  <a:pt x="16271" y="7343"/>
                  <a:pt x="15925" y="7541"/>
                </a:cubicBezTo>
                <a:cubicBezTo>
                  <a:pt x="15806" y="7609"/>
                  <a:pt x="15664" y="7693"/>
                  <a:pt x="15553" y="7764"/>
                </a:cubicBezTo>
                <a:cubicBezTo>
                  <a:pt x="15546" y="7769"/>
                  <a:pt x="15535" y="7806"/>
                  <a:pt x="15528" y="7813"/>
                </a:cubicBezTo>
              </a:path>
              <a:path w="2531" h="2357">
                <a:moveTo>
                  <a:pt x="16321" y="6623"/>
                </a:moveTo>
                <a:cubicBezTo>
                  <a:pt x="16321" y="6615"/>
                  <a:pt x="16321" y="6606"/>
                  <a:pt x="16321" y="6598"/>
                </a:cubicBezTo>
                <a:cubicBezTo>
                  <a:pt x="16250" y="6598"/>
                  <a:pt x="16258" y="6632"/>
                  <a:pt x="16247" y="6722"/>
                </a:cubicBezTo>
                <a:cubicBezTo>
                  <a:pt x="16227" y="6878"/>
                  <a:pt x="16208" y="7037"/>
                  <a:pt x="16197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11960" y="2473200"/>
            <a:ext cx="588960" cy="608040"/>
          </a:xfrm>
          <a:custGeom>
            <a:avLst/>
            <a:gdLst/>
            <a:ahLst/>
            <a:rect l="l" t="t" r="r" b="b"/>
            <a:pathLst>
              <a:path w="1638" h="1688">
                <a:moveTo>
                  <a:pt x="17810" y="7615"/>
                </a:moveTo>
                <a:cubicBezTo>
                  <a:pt x="17900" y="7587"/>
                  <a:pt x="17977" y="7542"/>
                  <a:pt x="18058" y="7590"/>
                </a:cubicBezTo>
              </a:path>
              <a:path w="1638" h="1688">
                <a:moveTo>
                  <a:pt x="17909" y="7739"/>
                </a:moveTo>
                <a:cubicBezTo>
                  <a:pt x="18030" y="7739"/>
                  <a:pt x="18084" y="7729"/>
                  <a:pt x="18157" y="7665"/>
                </a:cubicBezTo>
              </a:path>
              <a:path w="1638" h="1688">
                <a:moveTo>
                  <a:pt x="18157" y="7665"/>
                </a:moveTo>
                <a:lnTo>
                  <a:pt x="18157" y="7665"/>
                </a:lnTo>
              </a:path>
              <a:path w="1638" h="1688">
                <a:moveTo>
                  <a:pt x="19025" y="6945"/>
                </a:moveTo>
                <a:cubicBezTo>
                  <a:pt x="19006" y="7037"/>
                  <a:pt x="18985" y="7126"/>
                  <a:pt x="18976" y="7218"/>
                </a:cubicBezTo>
                <a:cubicBezTo>
                  <a:pt x="19087" y="7234"/>
                  <a:pt x="19159" y="7220"/>
                  <a:pt x="19273" y="7193"/>
                </a:cubicBezTo>
              </a:path>
              <a:path w="1638" h="1688">
                <a:moveTo>
                  <a:pt x="19372" y="6871"/>
                </a:moveTo>
                <a:cubicBezTo>
                  <a:pt x="19303" y="7147"/>
                  <a:pt x="19243" y="7334"/>
                  <a:pt x="19075" y="7565"/>
                </a:cubicBezTo>
              </a:path>
              <a:path w="1638" h="1688">
                <a:moveTo>
                  <a:pt x="18579" y="7789"/>
                </a:moveTo>
                <a:cubicBezTo>
                  <a:pt x="18409" y="7789"/>
                  <a:pt x="18810" y="7724"/>
                  <a:pt x="18976" y="7689"/>
                </a:cubicBezTo>
                <a:cubicBezTo>
                  <a:pt x="19140" y="7654"/>
                  <a:pt x="19589" y="7615"/>
                  <a:pt x="19422" y="7615"/>
                </a:cubicBezTo>
              </a:path>
              <a:path w="1638" h="1688">
                <a:moveTo>
                  <a:pt x="18951" y="8186"/>
                </a:moveTo>
                <a:cubicBezTo>
                  <a:pt x="18986" y="8101"/>
                  <a:pt x="19028" y="8095"/>
                  <a:pt x="18951" y="8037"/>
                </a:cubicBezTo>
                <a:cubicBezTo>
                  <a:pt x="18795" y="8074"/>
                  <a:pt x="18771" y="8100"/>
                  <a:pt x="18678" y="8235"/>
                </a:cubicBezTo>
                <a:cubicBezTo>
                  <a:pt x="18842" y="8265"/>
                  <a:pt x="18902" y="8199"/>
                  <a:pt x="19025" y="8086"/>
                </a:cubicBezTo>
                <a:cubicBezTo>
                  <a:pt x="19007" y="8228"/>
                  <a:pt x="19006" y="8396"/>
                  <a:pt x="18976" y="8533"/>
                </a:cubicBezTo>
                <a:cubicBezTo>
                  <a:pt x="18968" y="8541"/>
                  <a:pt x="18959" y="8550"/>
                  <a:pt x="18951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24000" y="4187880"/>
            <a:ext cx="268200" cy="268200"/>
          </a:xfrm>
          <a:custGeom>
            <a:avLst/>
            <a:gdLst/>
            <a:ahLst/>
            <a:rect l="l" t="t" r="r" b="b"/>
            <a:pathLst>
              <a:path w="745" h="746">
                <a:moveTo>
                  <a:pt x="3398" y="11683"/>
                </a:moveTo>
                <a:cubicBezTo>
                  <a:pt x="3412" y="11724"/>
                  <a:pt x="3544" y="11684"/>
                  <a:pt x="3597" y="11683"/>
                </a:cubicBezTo>
                <a:cubicBezTo>
                  <a:pt x="3736" y="11680"/>
                  <a:pt x="4015" y="11711"/>
                  <a:pt x="4142" y="11658"/>
                </a:cubicBezTo>
                <a:cubicBezTo>
                  <a:pt x="4142" y="11650"/>
                  <a:pt x="4142" y="11641"/>
                  <a:pt x="4142" y="11633"/>
                </a:cubicBezTo>
              </a:path>
              <a:path w="745" h="746">
                <a:moveTo>
                  <a:pt x="3845" y="11906"/>
                </a:moveTo>
                <a:cubicBezTo>
                  <a:pt x="3782" y="11927"/>
                  <a:pt x="3820" y="12224"/>
                  <a:pt x="3820" y="12278"/>
                </a:cubicBezTo>
                <a:cubicBezTo>
                  <a:pt x="3820" y="12336"/>
                  <a:pt x="3820" y="12345"/>
                  <a:pt x="3820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97120" y="3714840"/>
            <a:ext cx="704880" cy="758880"/>
          </a:xfrm>
          <a:custGeom>
            <a:avLst/>
            <a:gdLst/>
            <a:ahLst/>
            <a:rect l="l" t="t" r="r" b="b"/>
            <a:pathLst>
              <a:path w="1961" h="2109">
                <a:moveTo>
                  <a:pt x="7491" y="11336"/>
                </a:moveTo>
                <a:cubicBezTo>
                  <a:pt x="7547" y="11364"/>
                  <a:pt x="7598" y="11361"/>
                  <a:pt x="7665" y="11361"/>
                </a:cubicBezTo>
                <a:cubicBezTo>
                  <a:pt x="7693" y="11361"/>
                  <a:pt x="7703" y="11363"/>
                  <a:pt x="7714" y="11385"/>
                </a:cubicBezTo>
              </a:path>
              <a:path w="1961" h="2109">
                <a:moveTo>
                  <a:pt x="7516" y="11559"/>
                </a:moveTo>
                <a:cubicBezTo>
                  <a:pt x="7589" y="11554"/>
                  <a:pt x="7645" y="11534"/>
                  <a:pt x="7714" y="11534"/>
                </a:cubicBezTo>
              </a:path>
              <a:path w="1961" h="2109">
                <a:moveTo>
                  <a:pt x="8062" y="11137"/>
                </a:moveTo>
                <a:cubicBezTo>
                  <a:pt x="8037" y="11137"/>
                  <a:pt x="8029" y="11137"/>
                  <a:pt x="8037" y="11112"/>
                </a:cubicBezTo>
              </a:path>
              <a:path w="1961" h="2109">
                <a:moveTo>
                  <a:pt x="8037" y="11112"/>
                </a:moveTo>
                <a:lnTo>
                  <a:pt x="8037" y="11112"/>
                </a:lnTo>
              </a:path>
              <a:path w="1961" h="2109">
                <a:moveTo>
                  <a:pt x="8037" y="11112"/>
                </a:moveTo>
                <a:cubicBezTo>
                  <a:pt x="8044" y="11073"/>
                  <a:pt x="8071" y="11002"/>
                  <a:pt x="8111" y="10964"/>
                </a:cubicBezTo>
                <a:cubicBezTo>
                  <a:pt x="8171" y="10908"/>
                  <a:pt x="8264" y="10889"/>
                  <a:pt x="8334" y="10939"/>
                </a:cubicBezTo>
                <a:cubicBezTo>
                  <a:pt x="8406" y="10990"/>
                  <a:pt x="8430" y="11058"/>
                  <a:pt x="8434" y="11137"/>
                </a:cubicBezTo>
                <a:cubicBezTo>
                  <a:pt x="8441" y="11269"/>
                  <a:pt x="8386" y="11294"/>
                  <a:pt x="8310" y="11385"/>
                </a:cubicBezTo>
                <a:cubicBezTo>
                  <a:pt x="8228" y="11483"/>
                  <a:pt x="8141" y="11582"/>
                  <a:pt x="8062" y="11683"/>
                </a:cubicBezTo>
                <a:cubicBezTo>
                  <a:pt x="7991" y="11774"/>
                  <a:pt x="7950" y="11869"/>
                  <a:pt x="7938" y="11981"/>
                </a:cubicBezTo>
                <a:cubicBezTo>
                  <a:pt x="7954" y="11900"/>
                  <a:pt x="7981" y="11882"/>
                  <a:pt x="8037" y="11832"/>
                </a:cubicBezTo>
                <a:cubicBezTo>
                  <a:pt x="8089" y="11786"/>
                  <a:pt x="8118" y="11755"/>
                  <a:pt x="8186" y="11807"/>
                </a:cubicBezTo>
                <a:cubicBezTo>
                  <a:pt x="8217" y="11831"/>
                  <a:pt x="8270" y="11934"/>
                  <a:pt x="8310" y="11931"/>
                </a:cubicBezTo>
                <a:cubicBezTo>
                  <a:pt x="8356" y="11928"/>
                  <a:pt x="8418" y="11865"/>
                  <a:pt x="8434" y="11857"/>
                </a:cubicBezTo>
                <a:cubicBezTo>
                  <a:pt x="8458" y="11857"/>
                  <a:pt x="8466" y="11857"/>
                  <a:pt x="8458" y="11832"/>
                </a:cubicBezTo>
              </a:path>
              <a:path w="1961" h="2109">
                <a:moveTo>
                  <a:pt x="8781" y="10790"/>
                </a:moveTo>
                <a:cubicBezTo>
                  <a:pt x="8781" y="10715"/>
                  <a:pt x="8800" y="10889"/>
                  <a:pt x="8806" y="10964"/>
                </a:cubicBezTo>
                <a:cubicBezTo>
                  <a:pt x="8810" y="11020"/>
                  <a:pt x="8806" y="11080"/>
                  <a:pt x="8806" y="11137"/>
                </a:cubicBezTo>
              </a:path>
              <a:path w="1961" h="2109">
                <a:moveTo>
                  <a:pt x="8930" y="10666"/>
                </a:moveTo>
                <a:cubicBezTo>
                  <a:pt x="8930" y="10784"/>
                  <a:pt x="8951" y="10895"/>
                  <a:pt x="8954" y="11013"/>
                </a:cubicBezTo>
                <a:cubicBezTo>
                  <a:pt x="8956" y="11100"/>
                  <a:pt x="8970" y="11113"/>
                  <a:pt x="8954" y="11162"/>
                </a:cubicBezTo>
              </a:path>
              <a:path w="1961" h="2109">
                <a:moveTo>
                  <a:pt x="8731" y="11336"/>
                </a:moveTo>
                <a:cubicBezTo>
                  <a:pt x="8811" y="11320"/>
                  <a:pt x="8899" y="11303"/>
                  <a:pt x="8979" y="11286"/>
                </a:cubicBezTo>
                <a:cubicBezTo>
                  <a:pt x="9040" y="11273"/>
                  <a:pt x="9050" y="11261"/>
                  <a:pt x="9103" y="11261"/>
                </a:cubicBezTo>
              </a:path>
              <a:path w="1961" h="2109">
                <a:moveTo>
                  <a:pt x="8905" y="11559"/>
                </a:moveTo>
                <a:cubicBezTo>
                  <a:pt x="8905" y="11688"/>
                  <a:pt x="8902" y="11805"/>
                  <a:pt x="8880" y="11931"/>
                </a:cubicBezTo>
              </a:path>
              <a:path w="1961" h="2109">
                <a:moveTo>
                  <a:pt x="8954" y="11559"/>
                </a:moveTo>
                <a:cubicBezTo>
                  <a:pt x="8972" y="11535"/>
                  <a:pt x="9081" y="11447"/>
                  <a:pt x="9128" y="11509"/>
                </a:cubicBezTo>
                <a:cubicBezTo>
                  <a:pt x="9206" y="11611"/>
                  <a:pt x="9091" y="11740"/>
                  <a:pt x="9054" y="11832"/>
                </a:cubicBezTo>
                <a:cubicBezTo>
                  <a:pt x="9046" y="11857"/>
                  <a:pt x="9037" y="11881"/>
                  <a:pt x="9029" y="11906"/>
                </a:cubicBezTo>
                <a:cubicBezTo>
                  <a:pt x="9097" y="11906"/>
                  <a:pt x="9159" y="11886"/>
                  <a:pt x="9227" y="11881"/>
                </a:cubicBezTo>
                <a:cubicBezTo>
                  <a:pt x="9252" y="11881"/>
                  <a:pt x="9260" y="11881"/>
                  <a:pt x="9277" y="11881"/>
                </a:cubicBezTo>
              </a:path>
              <a:path w="1961" h="2109">
                <a:moveTo>
                  <a:pt x="7665" y="12353"/>
                </a:moveTo>
                <a:cubicBezTo>
                  <a:pt x="7821" y="12419"/>
                  <a:pt x="7984" y="12424"/>
                  <a:pt x="8161" y="12427"/>
                </a:cubicBezTo>
                <a:cubicBezTo>
                  <a:pt x="8349" y="12430"/>
                  <a:pt x="8637" y="12423"/>
                  <a:pt x="8806" y="12328"/>
                </a:cubicBezTo>
                <a:cubicBezTo>
                  <a:pt x="9014" y="12211"/>
                  <a:pt x="9225" y="11955"/>
                  <a:pt x="9351" y="11757"/>
                </a:cubicBezTo>
                <a:cubicBezTo>
                  <a:pt x="9447" y="11606"/>
                  <a:pt x="9483" y="11442"/>
                  <a:pt x="9451" y="11261"/>
                </a:cubicBezTo>
                <a:cubicBezTo>
                  <a:pt x="9420" y="11083"/>
                  <a:pt x="9360" y="10921"/>
                  <a:pt x="9277" y="10765"/>
                </a:cubicBezTo>
                <a:cubicBezTo>
                  <a:pt x="9195" y="10612"/>
                  <a:pt x="9104" y="10510"/>
                  <a:pt x="8954" y="10418"/>
                </a:cubicBezTo>
                <a:cubicBezTo>
                  <a:pt x="8791" y="10318"/>
                  <a:pt x="8622" y="10299"/>
                  <a:pt x="8434" y="10319"/>
                </a:cubicBezTo>
                <a:cubicBezTo>
                  <a:pt x="8262" y="10337"/>
                  <a:pt x="8081" y="10424"/>
                  <a:pt x="7938" y="10517"/>
                </a:cubicBezTo>
                <a:cubicBezTo>
                  <a:pt x="7742" y="10644"/>
                  <a:pt x="7684" y="10761"/>
                  <a:pt x="7615" y="10988"/>
                </a:cubicBezTo>
                <a:cubicBezTo>
                  <a:pt x="7531" y="11262"/>
                  <a:pt x="7518" y="11534"/>
                  <a:pt x="7615" y="11807"/>
                </a:cubicBezTo>
                <a:cubicBezTo>
                  <a:pt x="7661" y="11937"/>
                  <a:pt x="7736" y="12079"/>
                  <a:pt x="7789" y="12204"/>
                </a:cubicBezTo>
                <a:cubicBezTo>
                  <a:pt x="7797" y="12221"/>
                  <a:pt x="7805" y="12237"/>
                  <a:pt x="7813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90800" y="4786200"/>
            <a:ext cx="706320" cy="928800"/>
          </a:xfrm>
          <a:custGeom>
            <a:avLst/>
            <a:gdLst/>
            <a:ahLst/>
            <a:rect l="l" t="t" r="r" b="b"/>
            <a:pathLst>
              <a:path w="1961" h="2581">
                <a:moveTo>
                  <a:pt x="5631" y="14213"/>
                </a:moveTo>
                <a:cubicBezTo>
                  <a:pt x="5618" y="14251"/>
                  <a:pt x="5606" y="14234"/>
                  <a:pt x="5606" y="14288"/>
                </a:cubicBezTo>
                <a:cubicBezTo>
                  <a:pt x="5606" y="14460"/>
                  <a:pt x="5590" y="14577"/>
                  <a:pt x="5531" y="14734"/>
                </a:cubicBezTo>
              </a:path>
              <a:path w="1961" h="2581">
                <a:moveTo>
                  <a:pt x="5804" y="14213"/>
                </a:moveTo>
                <a:cubicBezTo>
                  <a:pt x="5931" y="14237"/>
                  <a:pt x="6136" y="14329"/>
                  <a:pt x="6003" y="14511"/>
                </a:cubicBezTo>
                <a:cubicBezTo>
                  <a:pt x="5915" y="14631"/>
                  <a:pt x="5873" y="14610"/>
                  <a:pt x="5755" y="14610"/>
                </a:cubicBezTo>
                <a:cubicBezTo>
                  <a:pt x="5796" y="14476"/>
                  <a:pt x="5877" y="14426"/>
                  <a:pt x="6028" y="14511"/>
                </a:cubicBezTo>
                <a:cubicBezTo>
                  <a:pt x="6036" y="14519"/>
                  <a:pt x="6044" y="14528"/>
                  <a:pt x="6052" y="14536"/>
                </a:cubicBezTo>
              </a:path>
              <a:path w="1961" h="2581">
                <a:moveTo>
                  <a:pt x="6251" y="14660"/>
                </a:moveTo>
                <a:cubicBezTo>
                  <a:pt x="6291" y="14512"/>
                  <a:pt x="6301" y="14315"/>
                  <a:pt x="6251" y="14163"/>
                </a:cubicBezTo>
                <a:cubicBezTo>
                  <a:pt x="6245" y="14146"/>
                  <a:pt x="6189" y="14063"/>
                  <a:pt x="6176" y="14039"/>
                </a:cubicBezTo>
                <a:cubicBezTo>
                  <a:pt x="6479" y="13968"/>
                  <a:pt x="6785" y="13907"/>
                  <a:pt x="7094" y="13866"/>
                </a:cubicBezTo>
                <a:cubicBezTo>
                  <a:pt x="7232" y="13848"/>
                  <a:pt x="7355" y="13841"/>
                  <a:pt x="7491" y="13841"/>
                </a:cubicBezTo>
              </a:path>
              <a:path w="1961" h="2581">
                <a:moveTo>
                  <a:pt x="6499" y="14188"/>
                </a:moveTo>
                <a:cubicBezTo>
                  <a:pt x="6527" y="14175"/>
                  <a:pt x="6716" y="14082"/>
                  <a:pt x="6722" y="14163"/>
                </a:cubicBezTo>
                <a:cubicBezTo>
                  <a:pt x="6728" y="14248"/>
                  <a:pt x="6625" y="14284"/>
                  <a:pt x="6573" y="14312"/>
                </a:cubicBezTo>
                <a:cubicBezTo>
                  <a:pt x="6622" y="14216"/>
                  <a:pt x="6690" y="14254"/>
                  <a:pt x="6772" y="14288"/>
                </a:cubicBezTo>
                <a:cubicBezTo>
                  <a:pt x="6822" y="14452"/>
                  <a:pt x="6748" y="14548"/>
                  <a:pt x="6548" y="14536"/>
                </a:cubicBezTo>
                <a:cubicBezTo>
                  <a:pt x="6453" y="14504"/>
                  <a:pt x="6440" y="14477"/>
                  <a:pt x="6548" y="14387"/>
                </a:cubicBezTo>
              </a:path>
              <a:path w="1961" h="2581">
                <a:moveTo>
                  <a:pt x="7169" y="13990"/>
                </a:moveTo>
                <a:cubicBezTo>
                  <a:pt x="7104" y="14027"/>
                  <a:pt x="7048" y="14023"/>
                  <a:pt x="7020" y="14089"/>
                </a:cubicBezTo>
                <a:cubicBezTo>
                  <a:pt x="7001" y="14133"/>
                  <a:pt x="6979" y="14167"/>
                  <a:pt x="6970" y="14213"/>
                </a:cubicBezTo>
                <a:cubicBezTo>
                  <a:pt x="7053" y="14255"/>
                  <a:pt x="7150" y="14221"/>
                  <a:pt x="7243" y="14263"/>
                </a:cubicBezTo>
                <a:cubicBezTo>
                  <a:pt x="7251" y="14271"/>
                  <a:pt x="7260" y="14280"/>
                  <a:pt x="7268" y="14288"/>
                </a:cubicBezTo>
                <a:cubicBezTo>
                  <a:pt x="7222" y="14379"/>
                  <a:pt x="7101" y="14529"/>
                  <a:pt x="6970" y="14436"/>
                </a:cubicBezTo>
                <a:cubicBezTo>
                  <a:pt x="6962" y="14411"/>
                  <a:pt x="6953" y="14387"/>
                  <a:pt x="6945" y="14362"/>
                </a:cubicBezTo>
              </a:path>
              <a:path w="1961" h="2581">
                <a:moveTo>
                  <a:pt x="6995" y="13345"/>
                </a:moveTo>
                <a:cubicBezTo>
                  <a:pt x="6975" y="13385"/>
                  <a:pt x="6966" y="13392"/>
                  <a:pt x="6970" y="13419"/>
                </a:cubicBezTo>
                <a:cubicBezTo>
                  <a:pt x="7004" y="13454"/>
                  <a:pt x="6988" y="13321"/>
                  <a:pt x="7045" y="13295"/>
                </a:cubicBezTo>
                <a:cubicBezTo>
                  <a:pt x="7200" y="13225"/>
                  <a:pt x="7078" y="13602"/>
                  <a:pt x="7069" y="13618"/>
                </a:cubicBezTo>
                <a:cubicBezTo>
                  <a:pt x="7037" y="13674"/>
                  <a:pt x="6918" y="13848"/>
                  <a:pt x="6896" y="13717"/>
                </a:cubicBezTo>
                <a:cubicBezTo>
                  <a:pt x="6955" y="13648"/>
                  <a:pt x="7047" y="13603"/>
                  <a:pt x="7144" y="13667"/>
                </a:cubicBezTo>
                <a:cubicBezTo>
                  <a:pt x="7151" y="13671"/>
                  <a:pt x="7166" y="13729"/>
                  <a:pt x="7169" y="13742"/>
                </a:cubicBezTo>
              </a:path>
              <a:path w="1961" h="2581">
                <a:moveTo>
                  <a:pt x="6623" y="14709"/>
                </a:moveTo>
                <a:cubicBezTo>
                  <a:pt x="6603" y="14749"/>
                  <a:pt x="6628" y="14717"/>
                  <a:pt x="6697" y="14734"/>
                </a:cubicBezTo>
                <a:cubicBezTo>
                  <a:pt x="6704" y="14868"/>
                  <a:pt x="6708" y="15063"/>
                  <a:pt x="6524" y="15106"/>
                </a:cubicBezTo>
                <a:cubicBezTo>
                  <a:pt x="6516" y="15098"/>
                  <a:pt x="6507" y="15089"/>
                  <a:pt x="6499" y="15081"/>
                </a:cubicBezTo>
                <a:cubicBezTo>
                  <a:pt x="6472" y="14977"/>
                  <a:pt x="6529" y="14939"/>
                  <a:pt x="6648" y="14957"/>
                </a:cubicBezTo>
                <a:cubicBezTo>
                  <a:pt x="6715" y="14980"/>
                  <a:pt x="6736" y="14981"/>
                  <a:pt x="6747" y="15032"/>
                </a:cubicBezTo>
              </a:path>
              <a:path w="1961" h="2581">
                <a:moveTo>
                  <a:pt x="6945" y="14709"/>
                </a:moveTo>
                <a:cubicBezTo>
                  <a:pt x="6968" y="14732"/>
                  <a:pt x="6984" y="14804"/>
                  <a:pt x="6995" y="14858"/>
                </a:cubicBezTo>
                <a:cubicBezTo>
                  <a:pt x="7077" y="14812"/>
                  <a:pt x="7110" y="14782"/>
                  <a:pt x="7169" y="14709"/>
                </a:cubicBezTo>
              </a:path>
              <a:path w="1961" h="2581">
                <a:moveTo>
                  <a:pt x="7144" y="14585"/>
                </a:moveTo>
                <a:cubicBezTo>
                  <a:pt x="7144" y="14717"/>
                  <a:pt x="7144" y="14850"/>
                  <a:pt x="7144" y="14982"/>
                </a:cubicBezTo>
              </a:path>
              <a:path w="1961" h="2581">
                <a:moveTo>
                  <a:pt x="6052" y="15007"/>
                </a:moveTo>
                <a:cubicBezTo>
                  <a:pt x="6135" y="15007"/>
                  <a:pt x="6217" y="15007"/>
                  <a:pt x="6300" y="15007"/>
                </a:cubicBezTo>
              </a:path>
              <a:path w="1961" h="2581">
                <a:moveTo>
                  <a:pt x="6276" y="15304"/>
                </a:moveTo>
                <a:cubicBezTo>
                  <a:pt x="6540" y="15264"/>
                  <a:pt x="6805" y="15240"/>
                  <a:pt x="7069" y="15205"/>
                </a:cubicBezTo>
                <a:cubicBezTo>
                  <a:pt x="7219" y="15184"/>
                  <a:pt x="7253" y="15181"/>
                  <a:pt x="7342" y="15156"/>
                </a:cubicBezTo>
              </a:path>
              <a:path w="1961" h="2581">
                <a:moveTo>
                  <a:pt x="7169" y="15478"/>
                </a:moveTo>
                <a:cubicBezTo>
                  <a:pt x="7169" y="15405"/>
                  <a:pt x="7166" y="15661"/>
                  <a:pt x="7169" y="15677"/>
                </a:cubicBezTo>
                <a:cubicBezTo>
                  <a:pt x="7178" y="15724"/>
                  <a:pt x="7193" y="15730"/>
                  <a:pt x="7193" y="15776"/>
                </a:cubicBezTo>
              </a:path>
              <a:path w="1961" h="2581">
                <a:moveTo>
                  <a:pt x="6796" y="15577"/>
                </a:moveTo>
                <a:cubicBezTo>
                  <a:pt x="6757" y="15499"/>
                  <a:pt x="6794" y="15693"/>
                  <a:pt x="6821" y="15776"/>
                </a:cubicBezTo>
                <a:cubicBezTo>
                  <a:pt x="6835" y="15819"/>
                  <a:pt x="6841" y="15865"/>
                  <a:pt x="6871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1080" y="3751200"/>
            <a:ext cx="392040" cy="615960"/>
          </a:xfrm>
          <a:custGeom>
            <a:avLst/>
            <a:gdLst/>
            <a:ahLst/>
            <a:rect l="l" t="t" r="r" b="b"/>
            <a:pathLst>
              <a:path w="1092" h="1712">
                <a:moveTo>
                  <a:pt x="6400" y="10542"/>
                </a:moveTo>
                <a:cubicBezTo>
                  <a:pt x="6449" y="10592"/>
                  <a:pt x="6495" y="10447"/>
                  <a:pt x="6573" y="10492"/>
                </a:cubicBezTo>
                <a:cubicBezTo>
                  <a:pt x="6661" y="10543"/>
                  <a:pt x="6545" y="10712"/>
                  <a:pt x="6524" y="10765"/>
                </a:cubicBezTo>
                <a:cubicBezTo>
                  <a:pt x="6446" y="10739"/>
                  <a:pt x="6568" y="10727"/>
                  <a:pt x="6598" y="10765"/>
                </a:cubicBezTo>
                <a:cubicBezTo>
                  <a:pt x="6689" y="10881"/>
                  <a:pt x="6632" y="11058"/>
                  <a:pt x="6474" y="11063"/>
                </a:cubicBezTo>
                <a:cubicBezTo>
                  <a:pt x="6291" y="11068"/>
                  <a:pt x="6339" y="11017"/>
                  <a:pt x="6424" y="10939"/>
                </a:cubicBezTo>
              </a:path>
              <a:path w="1092" h="1712">
                <a:moveTo>
                  <a:pt x="7119" y="10418"/>
                </a:moveTo>
                <a:cubicBezTo>
                  <a:pt x="7095" y="10426"/>
                  <a:pt x="6976" y="10516"/>
                  <a:pt x="6945" y="10492"/>
                </a:cubicBezTo>
                <a:cubicBezTo>
                  <a:pt x="6907" y="10463"/>
                  <a:pt x="6914" y="10636"/>
                  <a:pt x="6896" y="10691"/>
                </a:cubicBezTo>
                <a:cubicBezTo>
                  <a:pt x="6873" y="10714"/>
                  <a:pt x="6862" y="10722"/>
                  <a:pt x="6896" y="10716"/>
                </a:cubicBezTo>
                <a:cubicBezTo>
                  <a:pt x="6989" y="10695"/>
                  <a:pt x="7090" y="10605"/>
                  <a:pt x="7169" y="10716"/>
                </a:cubicBezTo>
                <a:cubicBezTo>
                  <a:pt x="7275" y="10865"/>
                  <a:pt x="7067" y="10949"/>
                  <a:pt x="6970" y="10964"/>
                </a:cubicBezTo>
                <a:cubicBezTo>
                  <a:pt x="6962" y="10964"/>
                  <a:pt x="6953" y="10964"/>
                  <a:pt x="6945" y="10964"/>
                </a:cubicBezTo>
              </a:path>
              <a:path w="1092" h="1712">
                <a:moveTo>
                  <a:pt x="6251" y="11361"/>
                </a:moveTo>
                <a:cubicBezTo>
                  <a:pt x="6433" y="11396"/>
                  <a:pt x="6548" y="11368"/>
                  <a:pt x="6747" y="11336"/>
                </a:cubicBezTo>
                <a:cubicBezTo>
                  <a:pt x="6836" y="11322"/>
                  <a:pt x="7287" y="11200"/>
                  <a:pt x="7342" y="11237"/>
                </a:cubicBezTo>
              </a:path>
              <a:path w="1092" h="1712">
                <a:moveTo>
                  <a:pt x="6499" y="11658"/>
                </a:moveTo>
                <a:cubicBezTo>
                  <a:pt x="6440" y="11638"/>
                  <a:pt x="6474" y="11708"/>
                  <a:pt x="6474" y="11832"/>
                </a:cubicBezTo>
                <a:cubicBezTo>
                  <a:pt x="6474" y="11964"/>
                  <a:pt x="6474" y="11997"/>
                  <a:pt x="6474" y="12080"/>
                </a:cubicBezTo>
              </a:path>
              <a:path w="1092" h="1712">
                <a:moveTo>
                  <a:pt x="6772" y="11633"/>
                </a:moveTo>
                <a:cubicBezTo>
                  <a:pt x="6730" y="11619"/>
                  <a:pt x="6742" y="11594"/>
                  <a:pt x="6772" y="11559"/>
                </a:cubicBezTo>
                <a:cubicBezTo>
                  <a:pt x="6818" y="11506"/>
                  <a:pt x="6881" y="11509"/>
                  <a:pt x="6945" y="11509"/>
                </a:cubicBezTo>
                <a:cubicBezTo>
                  <a:pt x="6945" y="11601"/>
                  <a:pt x="6944" y="11675"/>
                  <a:pt x="6896" y="11757"/>
                </a:cubicBezTo>
                <a:cubicBezTo>
                  <a:pt x="6834" y="11863"/>
                  <a:pt x="6776" y="11965"/>
                  <a:pt x="6697" y="12055"/>
                </a:cubicBezTo>
                <a:cubicBezTo>
                  <a:pt x="6669" y="12083"/>
                  <a:pt x="6660" y="12096"/>
                  <a:pt x="6672" y="12129"/>
                </a:cubicBezTo>
                <a:cubicBezTo>
                  <a:pt x="6683" y="12075"/>
                  <a:pt x="6729" y="11991"/>
                  <a:pt x="6772" y="11956"/>
                </a:cubicBezTo>
                <a:cubicBezTo>
                  <a:pt x="6814" y="11923"/>
                  <a:pt x="6845" y="12000"/>
                  <a:pt x="6871" y="12005"/>
                </a:cubicBezTo>
                <a:cubicBezTo>
                  <a:pt x="6971" y="12026"/>
                  <a:pt x="7026" y="11984"/>
                  <a:pt x="7069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83200" y="4259160"/>
            <a:ext cx="517680" cy="428760"/>
          </a:xfrm>
          <a:custGeom>
            <a:avLst/>
            <a:gdLst/>
            <a:ahLst/>
            <a:rect l="l" t="t" r="r" b="b"/>
            <a:pathLst>
              <a:path w="1440" h="1191">
                <a:moveTo>
                  <a:pt x="17462" y="12229"/>
                </a:moveTo>
                <a:cubicBezTo>
                  <a:pt x="17519" y="12229"/>
                  <a:pt x="17652" y="12265"/>
                  <a:pt x="17611" y="12204"/>
                </a:cubicBezTo>
              </a:path>
              <a:path w="1440" h="1191">
                <a:moveTo>
                  <a:pt x="17562" y="12055"/>
                </a:moveTo>
                <a:cubicBezTo>
                  <a:pt x="17562" y="12063"/>
                  <a:pt x="17562" y="12072"/>
                  <a:pt x="17562" y="12080"/>
                </a:cubicBezTo>
              </a:path>
              <a:path w="1440" h="1191">
                <a:moveTo>
                  <a:pt x="17562" y="12080"/>
                </a:moveTo>
                <a:lnTo>
                  <a:pt x="17562" y="12080"/>
                </a:lnTo>
              </a:path>
              <a:path w="1440" h="1191">
                <a:moveTo>
                  <a:pt x="17587" y="12378"/>
                </a:moveTo>
                <a:lnTo>
                  <a:pt x="17587" y="12378"/>
                </a:lnTo>
              </a:path>
              <a:path w="1440" h="1191">
                <a:moveTo>
                  <a:pt x="17835" y="12129"/>
                </a:moveTo>
                <a:cubicBezTo>
                  <a:pt x="17835" y="12206"/>
                  <a:pt x="17856" y="12201"/>
                  <a:pt x="17934" y="12229"/>
                </a:cubicBezTo>
                <a:cubicBezTo>
                  <a:pt x="18002" y="12254"/>
                  <a:pt x="18098" y="12325"/>
                  <a:pt x="18008" y="12402"/>
                </a:cubicBezTo>
                <a:cubicBezTo>
                  <a:pt x="17942" y="12435"/>
                  <a:pt x="17918" y="12427"/>
                  <a:pt x="17909" y="12328"/>
                </a:cubicBezTo>
              </a:path>
              <a:path w="1440" h="1191">
                <a:moveTo>
                  <a:pt x="17934" y="12080"/>
                </a:moveTo>
                <a:cubicBezTo>
                  <a:pt x="17981" y="12064"/>
                  <a:pt x="18018" y="12039"/>
                  <a:pt x="18058" y="12005"/>
                </a:cubicBezTo>
              </a:path>
              <a:path w="1440" h="1191">
                <a:moveTo>
                  <a:pt x="16619" y="11857"/>
                </a:moveTo>
                <a:cubicBezTo>
                  <a:pt x="16698" y="11797"/>
                  <a:pt x="17002" y="11860"/>
                  <a:pt x="17115" y="11881"/>
                </a:cubicBezTo>
                <a:cubicBezTo>
                  <a:pt x="17348" y="11925"/>
                  <a:pt x="17579" y="12000"/>
                  <a:pt x="17810" y="12055"/>
                </a:cubicBezTo>
                <a:cubicBezTo>
                  <a:pt x="17811" y="12055"/>
                  <a:pt x="17995" y="12069"/>
                  <a:pt x="18008" y="12080"/>
                </a:cubicBezTo>
                <a:cubicBezTo>
                  <a:pt x="18008" y="12088"/>
                  <a:pt x="18008" y="12097"/>
                  <a:pt x="18008" y="12105"/>
                </a:cubicBezTo>
              </a:path>
              <a:path w="1440" h="1191">
                <a:moveTo>
                  <a:pt x="16942" y="12477"/>
                </a:moveTo>
                <a:cubicBezTo>
                  <a:pt x="17029" y="12462"/>
                  <a:pt x="17101" y="12432"/>
                  <a:pt x="17190" y="12427"/>
                </a:cubicBezTo>
                <a:cubicBezTo>
                  <a:pt x="17198" y="12427"/>
                  <a:pt x="17206" y="12427"/>
                  <a:pt x="17214" y="12427"/>
                </a:cubicBezTo>
                <a:cubicBezTo>
                  <a:pt x="17214" y="12510"/>
                  <a:pt x="17226" y="12599"/>
                  <a:pt x="17140" y="12650"/>
                </a:cubicBezTo>
                <a:cubicBezTo>
                  <a:pt x="17115" y="12650"/>
                  <a:pt x="17107" y="12650"/>
                  <a:pt x="17140" y="12650"/>
                </a:cubicBezTo>
                <a:cubicBezTo>
                  <a:pt x="17218" y="12650"/>
                  <a:pt x="17296" y="12651"/>
                  <a:pt x="17314" y="12750"/>
                </a:cubicBezTo>
                <a:cubicBezTo>
                  <a:pt x="17336" y="12871"/>
                  <a:pt x="17253" y="13022"/>
                  <a:pt x="17115" y="13022"/>
                </a:cubicBezTo>
                <a:cubicBezTo>
                  <a:pt x="17103" y="13022"/>
                  <a:pt x="16882" y="12973"/>
                  <a:pt x="17016" y="12973"/>
                </a:cubicBezTo>
                <a:cubicBezTo>
                  <a:pt x="17024" y="12973"/>
                  <a:pt x="17033" y="12973"/>
                  <a:pt x="17041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88000" y="374184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15825" y="10592"/>
                </a:moveTo>
                <a:cubicBezTo>
                  <a:pt x="15870" y="10592"/>
                  <a:pt x="15886" y="10577"/>
                  <a:pt x="15925" y="10567"/>
                </a:cubicBezTo>
              </a:path>
              <a:path w="348" h="423">
                <a:moveTo>
                  <a:pt x="15801" y="10418"/>
                </a:moveTo>
                <a:cubicBezTo>
                  <a:pt x="15801" y="10497"/>
                  <a:pt x="15807" y="10487"/>
                  <a:pt x="15850" y="10567"/>
                </a:cubicBezTo>
              </a:path>
              <a:path w="348" h="423">
                <a:moveTo>
                  <a:pt x="15850" y="10815"/>
                </a:moveTo>
                <a:lnTo>
                  <a:pt x="15850" y="10815"/>
                </a:lnTo>
              </a:path>
              <a:path w="348" h="423">
                <a:moveTo>
                  <a:pt x="15850" y="10815"/>
                </a:moveTo>
                <a:lnTo>
                  <a:pt x="15850" y="10815"/>
                </a:lnTo>
              </a:path>
              <a:path w="348" h="423">
                <a:moveTo>
                  <a:pt x="15974" y="10492"/>
                </a:moveTo>
                <a:cubicBezTo>
                  <a:pt x="16008" y="10446"/>
                  <a:pt x="16029" y="10429"/>
                  <a:pt x="16073" y="10393"/>
                </a:cubicBezTo>
                <a:cubicBezTo>
                  <a:pt x="16116" y="10479"/>
                  <a:pt x="15971" y="10609"/>
                  <a:pt x="16049" y="10666"/>
                </a:cubicBezTo>
                <a:cubicBezTo>
                  <a:pt x="16106" y="10647"/>
                  <a:pt x="16113" y="10638"/>
                  <a:pt x="16148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29120" y="3581280"/>
            <a:ext cx="357120" cy="347760"/>
          </a:xfrm>
          <a:custGeom>
            <a:avLst/>
            <a:gdLst/>
            <a:ahLst/>
            <a:rect l="l" t="t" r="r" b="b"/>
            <a:pathLst>
              <a:path w="993" h="968">
                <a:moveTo>
                  <a:pt x="13717" y="10914"/>
                </a:moveTo>
                <a:cubicBezTo>
                  <a:pt x="13674" y="10914"/>
                  <a:pt x="13787" y="10852"/>
                  <a:pt x="13816" y="10840"/>
                </a:cubicBezTo>
                <a:cubicBezTo>
                  <a:pt x="13964" y="10776"/>
                  <a:pt x="14136" y="10751"/>
                  <a:pt x="14288" y="10691"/>
                </a:cubicBezTo>
                <a:cubicBezTo>
                  <a:pt x="14402" y="10646"/>
                  <a:pt x="14524" y="10579"/>
                  <a:pt x="14635" y="10542"/>
                </a:cubicBezTo>
                <a:cubicBezTo>
                  <a:pt x="14660" y="10542"/>
                  <a:pt x="14668" y="10542"/>
                  <a:pt x="14684" y="10542"/>
                </a:cubicBezTo>
              </a:path>
              <a:path w="993" h="968">
                <a:moveTo>
                  <a:pt x="14238" y="9971"/>
                </a:moveTo>
                <a:cubicBezTo>
                  <a:pt x="14238" y="9899"/>
                  <a:pt x="14263" y="10194"/>
                  <a:pt x="14263" y="10195"/>
                </a:cubicBezTo>
                <a:cubicBezTo>
                  <a:pt x="14263" y="10286"/>
                  <a:pt x="14263" y="10294"/>
                  <a:pt x="14263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70320" y="3732120"/>
            <a:ext cx="901800" cy="492120"/>
          </a:xfrm>
          <a:custGeom>
            <a:avLst/>
            <a:gdLst/>
            <a:ahLst/>
            <a:rect l="l" t="t" r="r" b="b"/>
            <a:pathLst>
              <a:path w="2506" h="1366">
                <a:moveTo>
                  <a:pt x="14684" y="11311"/>
                </a:moveTo>
                <a:cubicBezTo>
                  <a:pt x="14713" y="11282"/>
                  <a:pt x="14702" y="11267"/>
                  <a:pt x="14759" y="11261"/>
                </a:cubicBezTo>
                <a:cubicBezTo>
                  <a:pt x="14834" y="11254"/>
                  <a:pt x="14825" y="11271"/>
                  <a:pt x="14883" y="11286"/>
                </a:cubicBezTo>
                <a:cubicBezTo>
                  <a:pt x="14919" y="11295"/>
                  <a:pt x="14972" y="11320"/>
                  <a:pt x="15007" y="11336"/>
                </a:cubicBezTo>
                <a:cubicBezTo>
                  <a:pt x="15045" y="11353"/>
                  <a:pt x="15094" y="11384"/>
                  <a:pt x="15131" y="11410"/>
                </a:cubicBezTo>
                <a:cubicBezTo>
                  <a:pt x="15156" y="11427"/>
                  <a:pt x="15169" y="11459"/>
                  <a:pt x="15205" y="11485"/>
                </a:cubicBezTo>
                <a:cubicBezTo>
                  <a:pt x="15257" y="11523"/>
                  <a:pt x="15324" y="11517"/>
                  <a:pt x="15379" y="11534"/>
                </a:cubicBezTo>
                <a:cubicBezTo>
                  <a:pt x="15431" y="11551"/>
                  <a:pt x="15479" y="11578"/>
                  <a:pt x="15528" y="11584"/>
                </a:cubicBezTo>
                <a:cubicBezTo>
                  <a:pt x="15588" y="11592"/>
                  <a:pt x="15644" y="11599"/>
                  <a:pt x="15701" y="11609"/>
                </a:cubicBezTo>
                <a:cubicBezTo>
                  <a:pt x="15755" y="11618"/>
                  <a:pt x="15831" y="11627"/>
                  <a:pt x="15875" y="11633"/>
                </a:cubicBezTo>
                <a:cubicBezTo>
                  <a:pt x="15935" y="11641"/>
                  <a:pt x="15990" y="11639"/>
                  <a:pt x="16049" y="11658"/>
                </a:cubicBezTo>
                <a:cubicBezTo>
                  <a:pt x="16120" y="11681"/>
                  <a:pt x="16170" y="11683"/>
                  <a:pt x="16247" y="11683"/>
                </a:cubicBezTo>
                <a:cubicBezTo>
                  <a:pt x="16294" y="11683"/>
                  <a:pt x="16326" y="11703"/>
                  <a:pt x="16371" y="11708"/>
                </a:cubicBezTo>
                <a:cubicBezTo>
                  <a:pt x="16461" y="11718"/>
                  <a:pt x="16503" y="11708"/>
                  <a:pt x="16594" y="11708"/>
                </a:cubicBezTo>
                <a:cubicBezTo>
                  <a:pt x="16500" y="11708"/>
                  <a:pt x="16431" y="11696"/>
                  <a:pt x="16346" y="11683"/>
                </a:cubicBezTo>
                <a:cubicBezTo>
                  <a:pt x="16293" y="11675"/>
                  <a:pt x="16251" y="11670"/>
                  <a:pt x="16197" y="11658"/>
                </a:cubicBezTo>
                <a:cubicBezTo>
                  <a:pt x="16142" y="11646"/>
                  <a:pt x="16080" y="11616"/>
                  <a:pt x="16024" y="11609"/>
                </a:cubicBezTo>
                <a:cubicBezTo>
                  <a:pt x="15956" y="11600"/>
                  <a:pt x="15915" y="11574"/>
                  <a:pt x="15850" y="11559"/>
                </a:cubicBezTo>
                <a:cubicBezTo>
                  <a:pt x="15778" y="11543"/>
                  <a:pt x="15698" y="11554"/>
                  <a:pt x="15627" y="11534"/>
                </a:cubicBezTo>
                <a:cubicBezTo>
                  <a:pt x="15537" y="11508"/>
                  <a:pt x="15445" y="11518"/>
                  <a:pt x="15354" y="11485"/>
                </a:cubicBezTo>
                <a:cubicBezTo>
                  <a:pt x="15278" y="11458"/>
                  <a:pt x="15232" y="11452"/>
                  <a:pt x="15156" y="11435"/>
                </a:cubicBezTo>
                <a:cubicBezTo>
                  <a:pt x="15103" y="11423"/>
                  <a:pt x="15002" y="11391"/>
                  <a:pt x="14957" y="11361"/>
                </a:cubicBezTo>
                <a:cubicBezTo>
                  <a:pt x="14883" y="11312"/>
                  <a:pt x="14831" y="11278"/>
                  <a:pt x="14759" y="11212"/>
                </a:cubicBezTo>
                <a:cubicBezTo>
                  <a:pt x="14705" y="11162"/>
                  <a:pt x="14659" y="11123"/>
                  <a:pt x="14585" y="11112"/>
                </a:cubicBezTo>
                <a:cubicBezTo>
                  <a:pt x="14546" y="11106"/>
                  <a:pt x="14517" y="11096"/>
                  <a:pt x="14486" y="11088"/>
                </a:cubicBezTo>
                <a:cubicBezTo>
                  <a:pt x="14562" y="11100"/>
                  <a:pt x="14587" y="11112"/>
                  <a:pt x="14660" y="11137"/>
                </a:cubicBezTo>
                <a:cubicBezTo>
                  <a:pt x="14744" y="11165"/>
                  <a:pt x="14827" y="11184"/>
                  <a:pt x="14908" y="11212"/>
                </a:cubicBezTo>
                <a:cubicBezTo>
                  <a:pt x="14995" y="11242"/>
                  <a:pt x="15075" y="11275"/>
                  <a:pt x="15156" y="11311"/>
                </a:cubicBezTo>
                <a:cubicBezTo>
                  <a:pt x="15219" y="11339"/>
                  <a:pt x="15310" y="11370"/>
                  <a:pt x="15379" y="11385"/>
                </a:cubicBezTo>
                <a:cubicBezTo>
                  <a:pt x="15446" y="11399"/>
                  <a:pt x="15511" y="11448"/>
                  <a:pt x="15577" y="11460"/>
                </a:cubicBezTo>
                <a:cubicBezTo>
                  <a:pt x="15653" y="11473"/>
                  <a:pt x="15723" y="11489"/>
                  <a:pt x="15801" y="11509"/>
                </a:cubicBezTo>
                <a:cubicBezTo>
                  <a:pt x="15883" y="11530"/>
                  <a:pt x="15966" y="11555"/>
                  <a:pt x="16049" y="11559"/>
                </a:cubicBezTo>
                <a:cubicBezTo>
                  <a:pt x="16131" y="11563"/>
                  <a:pt x="16193" y="11597"/>
                  <a:pt x="16272" y="11609"/>
                </a:cubicBezTo>
                <a:cubicBezTo>
                  <a:pt x="16364" y="11623"/>
                  <a:pt x="16456" y="11637"/>
                  <a:pt x="16545" y="11658"/>
                </a:cubicBezTo>
                <a:cubicBezTo>
                  <a:pt x="16586" y="11667"/>
                  <a:pt x="16646" y="11700"/>
                  <a:pt x="16694" y="11708"/>
                </a:cubicBezTo>
                <a:cubicBezTo>
                  <a:pt x="16746" y="11716"/>
                  <a:pt x="16790" y="11726"/>
                  <a:pt x="16842" y="11733"/>
                </a:cubicBezTo>
              </a:path>
              <a:path w="2506" h="1366">
                <a:moveTo>
                  <a:pt x="16867" y="11733"/>
                </a:moveTo>
                <a:lnTo>
                  <a:pt x="16867" y="11733"/>
                </a:lnTo>
              </a:path>
              <a:path w="2506" h="1366">
                <a:moveTo>
                  <a:pt x="14362" y="10641"/>
                </a:moveTo>
                <a:cubicBezTo>
                  <a:pt x="14417" y="10641"/>
                  <a:pt x="14432" y="10629"/>
                  <a:pt x="14486" y="10616"/>
                </a:cubicBezTo>
                <a:cubicBezTo>
                  <a:pt x="14494" y="10616"/>
                  <a:pt x="14503" y="10616"/>
                  <a:pt x="14511" y="10616"/>
                </a:cubicBezTo>
              </a:path>
              <a:path w="2506" h="1366">
                <a:moveTo>
                  <a:pt x="14362" y="10492"/>
                </a:moveTo>
                <a:lnTo>
                  <a:pt x="14362" y="10492"/>
                </a:lnTo>
              </a:path>
              <a:path w="2506" h="1366">
                <a:moveTo>
                  <a:pt x="14461" y="10864"/>
                </a:moveTo>
                <a:lnTo>
                  <a:pt x="14461" y="10864"/>
                </a:lnTo>
              </a:path>
              <a:path w="2506" h="1366">
                <a:moveTo>
                  <a:pt x="14560" y="10517"/>
                </a:moveTo>
                <a:cubicBezTo>
                  <a:pt x="14531" y="10606"/>
                  <a:pt x="14551" y="10566"/>
                  <a:pt x="14635" y="10592"/>
                </a:cubicBezTo>
                <a:cubicBezTo>
                  <a:pt x="14684" y="10607"/>
                  <a:pt x="14783" y="10708"/>
                  <a:pt x="14684" y="10740"/>
                </a:cubicBezTo>
                <a:cubicBezTo>
                  <a:pt x="14668" y="10732"/>
                  <a:pt x="14651" y="10724"/>
                  <a:pt x="14635" y="10716"/>
                </a:cubicBezTo>
              </a:path>
              <a:path w="2506" h="1366">
                <a:moveTo>
                  <a:pt x="14560" y="10468"/>
                </a:moveTo>
                <a:cubicBezTo>
                  <a:pt x="14654" y="10382"/>
                  <a:pt x="14641" y="10379"/>
                  <a:pt x="14759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94200" y="4268880"/>
            <a:ext cx="428760" cy="419040"/>
          </a:xfrm>
          <a:custGeom>
            <a:avLst/>
            <a:gdLst/>
            <a:ahLst/>
            <a:rect l="l" t="t" r="r" b="b"/>
            <a:pathLst>
              <a:path w="1192" h="1166">
                <a:moveTo>
                  <a:pt x="14436" y="12005"/>
                </a:moveTo>
                <a:cubicBezTo>
                  <a:pt x="14478" y="12005"/>
                  <a:pt x="14503" y="12005"/>
                  <a:pt x="14536" y="12005"/>
                </a:cubicBezTo>
              </a:path>
              <a:path w="1192" h="1166">
                <a:moveTo>
                  <a:pt x="14585" y="11881"/>
                </a:moveTo>
                <a:cubicBezTo>
                  <a:pt x="14636" y="11844"/>
                  <a:pt x="14709" y="11827"/>
                  <a:pt x="14709" y="11931"/>
                </a:cubicBezTo>
                <a:cubicBezTo>
                  <a:pt x="14709" y="11995"/>
                  <a:pt x="14654" y="12031"/>
                  <a:pt x="14635" y="12080"/>
                </a:cubicBezTo>
                <a:cubicBezTo>
                  <a:pt x="14690" y="12080"/>
                  <a:pt x="14716" y="12065"/>
                  <a:pt x="14759" y="12030"/>
                </a:cubicBezTo>
              </a:path>
              <a:path w="1192" h="1166">
                <a:moveTo>
                  <a:pt x="14486" y="11981"/>
                </a:moveTo>
                <a:lnTo>
                  <a:pt x="14486" y="11981"/>
                </a:lnTo>
                <a:lnTo>
                  <a:pt x="14486" y="11981"/>
                </a:lnTo>
                <a:lnTo>
                  <a:pt x="14486" y="11981"/>
                </a:lnTo>
              </a:path>
              <a:path w="1192" h="1166">
                <a:moveTo>
                  <a:pt x="14511" y="12129"/>
                </a:moveTo>
                <a:cubicBezTo>
                  <a:pt x="14511" y="12137"/>
                  <a:pt x="14511" y="12146"/>
                  <a:pt x="14511" y="12154"/>
                </a:cubicBezTo>
              </a:path>
              <a:path w="1192" h="1166">
                <a:moveTo>
                  <a:pt x="13593" y="11956"/>
                </a:moveTo>
                <a:cubicBezTo>
                  <a:pt x="13757" y="11928"/>
                  <a:pt x="13920" y="11955"/>
                  <a:pt x="14089" y="11981"/>
                </a:cubicBezTo>
                <a:cubicBezTo>
                  <a:pt x="14319" y="12017"/>
                  <a:pt x="14527" y="12055"/>
                  <a:pt x="14759" y="12055"/>
                </a:cubicBezTo>
                <a:cubicBezTo>
                  <a:pt x="14767" y="12055"/>
                  <a:pt x="14776" y="12055"/>
                  <a:pt x="14784" y="12055"/>
                </a:cubicBezTo>
              </a:path>
              <a:path w="1192" h="1166">
                <a:moveTo>
                  <a:pt x="13940" y="12303"/>
                </a:moveTo>
                <a:cubicBezTo>
                  <a:pt x="13940" y="12415"/>
                  <a:pt x="13937" y="12515"/>
                  <a:pt x="13915" y="12626"/>
                </a:cubicBezTo>
                <a:cubicBezTo>
                  <a:pt x="13896" y="12722"/>
                  <a:pt x="13857" y="12865"/>
                  <a:pt x="13940" y="12948"/>
                </a:cubicBezTo>
                <a:cubicBezTo>
                  <a:pt x="14023" y="13031"/>
                  <a:pt x="14147" y="12984"/>
                  <a:pt x="14238" y="12948"/>
                </a:cubicBezTo>
                <a:cubicBezTo>
                  <a:pt x="14280" y="12932"/>
                  <a:pt x="14384" y="12860"/>
                  <a:pt x="14412" y="12824"/>
                </a:cubicBezTo>
                <a:cubicBezTo>
                  <a:pt x="14433" y="12797"/>
                  <a:pt x="14402" y="12742"/>
                  <a:pt x="14387" y="12725"/>
                </a:cubicBezTo>
                <a:cubicBezTo>
                  <a:pt x="14362" y="12697"/>
                  <a:pt x="14276" y="12684"/>
                  <a:pt x="14238" y="12700"/>
                </a:cubicBezTo>
                <a:cubicBezTo>
                  <a:pt x="14192" y="12719"/>
                  <a:pt x="14135" y="12738"/>
                  <a:pt x="14114" y="12799"/>
                </a:cubicBezTo>
                <a:cubicBezTo>
                  <a:pt x="14089" y="12871"/>
                  <a:pt x="14097" y="12898"/>
                  <a:pt x="14114" y="12973"/>
                </a:cubicBezTo>
                <a:cubicBezTo>
                  <a:pt x="14124" y="13016"/>
                  <a:pt x="14096" y="13008"/>
                  <a:pt x="14139" y="13022"/>
                </a:cubicBezTo>
              </a:path>
              <a:path w="1192" h="1166">
                <a:moveTo>
                  <a:pt x="14288" y="12675"/>
                </a:moveTo>
                <a:cubicBezTo>
                  <a:pt x="14288" y="12667"/>
                  <a:pt x="14288" y="12658"/>
                  <a:pt x="14288" y="12650"/>
                </a:cubicBezTo>
                <a:cubicBezTo>
                  <a:pt x="14351" y="12650"/>
                  <a:pt x="14390" y="12632"/>
                  <a:pt x="14436" y="12650"/>
                </a:cubicBezTo>
              </a:path>
              <a:path w="1192" h="1166">
                <a:moveTo>
                  <a:pt x="14387" y="12452"/>
                </a:moveTo>
                <a:cubicBezTo>
                  <a:pt x="14387" y="12460"/>
                  <a:pt x="14387" y="12469"/>
                  <a:pt x="14387" y="12477"/>
                </a:cubicBezTo>
              </a:path>
              <a:path w="1192" h="1166">
                <a:moveTo>
                  <a:pt x="14412" y="12774"/>
                </a:moveTo>
                <a:cubicBezTo>
                  <a:pt x="14412" y="12782"/>
                  <a:pt x="14412" y="12791"/>
                  <a:pt x="14412" y="12799"/>
                </a:cubicBezTo>
              </a:path>
              <a:path w="1192" h="1166">
                <a:moveTo>
                  <a:pt x="14412" y="12799"/>
                </a:moveTo>
                <a:lnTo>
                  <a:pt x="14412" y="12799"/>
                </a:lnTo>
              </a:path>
              <a:path w="1192" h="1166">
                <a:moveTo>
                  <a:pt x="14560" y="12551"/>
                </a:moveTo>
                <a:cubicBezTo>
                  <a:pt x="14601" y="12524"/>
                  <a:pt x="14633" y="12510"/>
                  <a:pt x="14684" y="12502"/>
                </a:cubicBezTo>
                <a:cubicBezTo>
                  <a:pt x="14703" y="12616"/>
                  <a:pt x="14682" y="12674"/>
                  <a:pt x="14610" y="12774"/>
                </a:cubicBezTo>
                <a:cubicBezTo>
                  <a:pt x="14602" y="12782"/>
                  <a:pt x="14593" y="12791"/>
                  <a:pt x="14585" y="12799"/>
                </a:cubicBezTo>
                <a:cubicBezTo>
                  <a:pt x="14654" y="12793"/>
                  <a:pt x="14716" y="12774"/>
                  <a:pt x="14784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0800" y="3473280"/>
            <a:ext cx="339480" cy="465480"/>
          </a:xfrm>
          <a:custGeom>
            <a:avLst/>
            <a:gdLst/>
            <a:ahLst/>
            <a:rect l="l" t="t" r="r" b="b"/>
            <a:pathLst>
              <a:path w="943" h="1291">
                <a:moveTo>
                  <a:pt x="15280" y="10939"/>
                </a:moveTo>
                <a:cubicBezTo>
                  <a:pt x="15364" y="10897"/>
                  <a:pt x="15446" y="10859"/>
                  <a:pt x="15528" y="10815"/>
                </a:cubicBezTo>
                <a:cubicBezTo>
                  <a:pt x="15659" y="10745"/>
                  <a:pt x="15813" y="10668"/>
                  <a:pt x="15949" y="10616"/>
                </a:cubicBezTo>
                <a:cubicBezTo>
                  <a:pt x="15975" y="10606"/>
                  <a:pt x="16125" y="10569"/>
                  <a:pt x="16148" y="10542"/>
                </a:cubicBezTo>
                <a:cubicBezTo>
                  <a:pt x="16164" y="10522"/>
                  <a:pt x="16210" y="10533"/>
                  <a:pt x="16222" y="10517"/>
                </a:cubicBezTo>
                <a:cubicBezTo>
                  <a:pt x="16222" y="10509"/>
                  <a:pt x="16222" y="10500"/>
                  <a:pt x="16222" y="10492"/>
                </a:cubicBezTo>
              </a:path>
              <a:path w="943" h="1291">
                <a:moveTo>
                  <a:pt x="15677" y="9674"/>
                </a:moveTo>
                <a:cubicBezTo>
                  <a:pt x="15677" y="9583"/>
                  <a:pt x="15677" y="9806"/>
                  <a:pt x="15677" y="9897"/>
                </a:cubicBezTo>
                <a:cubicBezTo>
                  <a:pt x="15677" y="9980"/>
                  <a:pt x="15677" y="10062"/>
                  <a:pt x="15677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19760" y="4510080"/>
            <a:ext cx="393480" cy="125280"/>
          </a:xfrm>
          <a:custGeom>
            <a:avLst/>
            <a:gdLst/>
            <a:ahLst/>
            <a:rect l="l" t="t" r="r" b="b"/>
            <a:pathLst>
              <a:path w="1093" h="349">
                <a:moveTo>
                  <a:pt x="13667" y="12874"/>
                </a:moveTo>
                <a:cubicBezTo>
                  <a:pt x="13891" y="12851"/>
                  <a:pt x="14091" y="12763"/>
                  <a:pt x="14312" y="12700"/>
                </a:cubicBezTo>
                <a:cubicBezTo>
                  <a:pt x="14468" y="12656"/>
                  <a:pt x="14625" y="12616"/>
                  <a:pt x="14759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7760" y="4776840"/>
            <a:ext cx="142560" cy="2160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13965" y="13320"/>
                </a:moveTo>
                <a:cubicBezTo>
                  <a:pt x="14070" y="13302"/>
                  <a:pt x="14132" y="13279"/>
                  <a:pt x="14238" y="13295"/>
                </a:cubicBezTo>
                <a:cubicBezTo>
                  <a:pt x="14238" y="13478"/>
                  <a:pt x="14222" y="13498"/>
                  <a:pt x="14064" y="13593"/>
                </a:cubicBezTo>
                <a:cubicBezTo>
                  <a:pt x="14132" y="13577"/>
                  <a:pt x="14353" y="13514"/>
                  <a:pt x="14362" y="13643"/>
                </a:cubicBezTo>
                <a:cubicBezTo>
                  <a:pt x="14374" y="13801"/>
                  <a:pt x="14142" y="13889"/>
                  <a:pt x="14015" y="13866"/>
                </a:cubicBezTo>
                <a:cubicBezTo>
                  <a:pt x="13990" y="13862"/>
                  <a:pt x="13990" y="13841"/>
                  <a:pt x="14015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7760" y="5303880"/>
            <a:ext cx="231480" cy="492120"/>
          </a:xfrm>
          <a:custGeom>
            <a:avLst/>
            <a:gdLst/>
            <a:ahLst/>
            <a:rect l="l" t="t" r="r" b="b"/>
            <a:pathLst>
              <a:path w="646" h="1365">
                <a:moveTo>
                  <a:pt x="14238" y="14759"/>
                </a:moveTo>
                <a:cubicBezTo>
                  <a:pt x="14289" y="14708"/>
                  <a:pt x="14282" y="15079"/>
                  <a:pt x="14288" y="15131"/>
                </a:cubicBezTo>
                <a:cubicBezTo>
                  <a:pt x="14306" y="15205"/>
                  <a:pt x="14314" y="15212"/>
                  <a:pt x="14312" y="15255"/>
                </a:cubicBezTo>
              </a:path>
              <a:path w="646" h="1365">
                <a:moveTo>
                  <a:pt x="13965" y="15453"/>
                </a:moveTo>
                <a:cubicBezTo>
                  <a:pt x="14187" y="15400"/>
                  <a:pt x="14382" y="15354"/>
                  <a:pt x="14610" y="15354"/>
                </a:cubicBezTo>
              </a:path>
              <a:path w="646" h="1365">
                <a:moveTo>
                  <a:pt x="14163" y="15627"/>
                </a:moveTo>
                <a:cubicBezTo>
                  <a:pt x="14299" y="15593"/>
                  <a:pt x="14391" y="15581"/>
                  <a:pt x="14486" y="15677"/>
                </a:cubicBezTo>
                <a:cubicBezTo>
                  <a:pt x="14438" y="15740"/>
                  <a:pt x="14393" y="15794"/>
                  <a:pt x="14337" y="15850"/>
                </a:cubicBezTo>
                <a:cubicBezTo>
                  <a:pt x="14396" y="15850"/>
                  <a:pt x="14495" y="15822"/>
                  <a:pt x="14536" y="15875"/>
                </a:cubicBezTo>
                <a:cubicBezTo>
                  <a:pt x="14640" y="16011"/>
                  <a:pt x="14379" y="16089"/>
                  <a:pt x="14312" y="16098"/>
                </a:cubicBezTo>
                <a:cubicBezTo>
                  <a:pt x="14230" y="16098"/>
                  <a:pt x="14197" y="16115"/>
                  <a:pt x="14213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57880" y="5126040"/>
            <a:ext cx="1608120" cy="830160"/>
          </a:xfrm>
          <a:custGeom>
            <a:avLst/>
            <a:gdLst/>
            <a:ahLst/>
            <a:rect l="l" t="t" r="r" b="b"/>
            <a:pathLst>
              <a:path w="4466" h="2308">
                <a:moveTo>
                  <a:pt x="14908" y="15329"/>
                </a:moveTo>
                <a:cubicBezTo>
                  <a:pt x="14970" y="15419"/>
                  <a:pt x="15062" y="15513"/>
                  <a:pt x="15106" y="15602"/>
                </a:cubicBezTo>
              </a:path>
              <a:path w="4466" h="2308">
                <a:moveTo>
                  <a:pt x="15007" y="15354"/>
                </a:moveTo>
                <a:cubicBezTo>
                  <a:pt x="14957" y="15440"/>
                  <a:pt x="14909" y="15509"/>
                  <a:pt x="14883" y="15602"/>
                </a:cubicBezTo>
              </a:path>
              <a:path w="4466" h="2308">
                <a:moveTo>
                  <a:pt x="15478" y="14908"/>
                </a:moveTo>
                <a:cubicBezTo>
                  <a:pt x="15478" y="15019"/>
                  <a:pt x="15517" y="15120"/>
                  <a:pt x="15528" y="15230"/>
                </a:cubicBezTo>
                <a:cubicBezTo>
                  <a:pt x="15528" y="15304"/>
                  <a:pt x="15528" y="15313"/>
                  <a:pt x="15528" y="15354"/>
                </a:cubicBezTo>
              </a:path>
              <a:path w="4466" h="2308">
                <a:moveTo>
                  <a:pt x="15280" y="15453"/>
                </a:moveTo>
                <a:cubicBezTo>
                  <a:pt x="15397" y="15443"/>
                  <a:pt x="15513" y="15430"/>
                  <a:pt x="15627" y="15404"/>
                </a:cubicBezTo>
              </a:path>
              <a:path w="4466" h="2308">
                <a:moveTo>
                  <a:pt x="15404" y="15751"/>
                </a:moveTo>
                <a:cubicBezTo>
                  <a:pt x="15499" y="15713"/>
                  <a:pt x="15622" y="15668"/>
                  <a:pt x="15726" y="15701"/>
                </a:cubicBezTo>
                <a:cubicBezTo>
                  <a:pt x="15806" y="15726"/>
                  <a:pt x="15649" y="15807"/>
                  <a:pt x="15577" y="15850"/>
                </a:cubicBezTo>
                <a:cubicBezTo>
                  <a:pt x="15569" y="15858"/>
                  <a:pt x="15561" y="15867"/>
                  <a:pt x="15553" y="15875"/>
                </a:cubicBezTo>
                <a:cubicBezTo>
                  <a:pt x="15625" y="15875"/>
                  <a:pt x="15713" y="15855"/>
                  <a:pt x="15776" y="15900"/>
                </a:cubicBezTo>
                <a:cubicBezTo>
                  <a:pt x="15800" y="15948"/>
                  <a:pt x="15809" y="15962"/>
                  <a:pt x="15801" y="15999"/>
                </a:cubicBezTo>
                <a:cubicBezTo>
                  <a:pt x="15778" y="16013"/>
                  <a:pt x="15434" y="16157"/>
                  <a:pt x="15453" y="16024"/>
                </a:cubicBezTo>
                <a:cubicBezTo>
                  <a:pt x="15478" y="15974"/>
                  <a:pt x="15503" y="15925"/>
                  <a:pt x="15528" y="15875"/>
                </a:cubicBezTo>
              </a:path>
              <a:path w="4466" h="2308">
                <a:moveTo>
                  <a:pt x="16148" y="15280"/>
                </a:moveTo>
                <a:cubicBezTo>
                  <a:pt x="16224" y="15339"/>
                  <a:pt x="16305" y="15420"/>
                  <a:pt x="16346" y="15503"/>
                </a:cubicBezTo>
              </a:path>
              <a:path w="4466" h="2308">
                <a:moveTo>
                  <a:pt x="16321" y="15205"/>
                </a:moveTo>
                <a:cubicBezTo>
                  <a:pt x="16269" y="15286"/>
                  <a:pt x="16196" y="15509"/>
                  <a:pt x="16123" y="15553"/>
                </a:cubicBezTo>
                <a:cubicBezTo>
                  <a:pt x="16123" y="15545"/>
                  <a:pt x="16123" y="15536"/>
                  <a:pt x="16123" y="15528"/>
                </a:cubicBezTo>
              </a:path>
              <a:path w="4466" h="2308">
                <a:moveTo>
                  <a:pt x="16619" y="14759"/>
                </a:moveTo>
                <a:cubicBezTo>
                  <a:pt x="16656" y="14820"/>
                  <a:pt x="16644" y="14880"/>
                  <a:pt x="16644" y="14957"/>
                </a:cubicBezTo>
                <a:cubicBezTo>
                  <a:pt x="16644" y="14965"/>
                  <a:pt x="16644" y="14974"/>
                  <a:pt x="16644" y="14982"/>
                </a:cubicBezTo>
                <a:cubicBezTo>
                  <a:pt x="16789" y="14982"/>
                  <a:pt x="16832" y="14979"/>
                  <a:pt x="16942" y="14883"/>
                </a:cubicBezTo>
              </a:path>
              <a:path w="4466" h="2308">
                <a:moveTo>
                  <a:pt x="16892" y="14610"/>
                </a:moveTo>
                <a:cubicBezTo>
                  <a:pt x="16892" y="14802"/>
                  <a:pt x="16912" y="14989"/>
                  <a:pt x="16917" y="15180"/>
                </a:cubicBezTo>
                <a:cubicBezTo>
                  <a:pt x="16917" y="15205"/>
                  <a:pt x="16917" y="15230"/>
                  <a:pt x="16917" y="15255"/>
                </a:cubicBezTo>
              </a:path>
              <a:path w="4466" h="2308">
                <a:moveTo>
                  <a:pt x="16619" y="15404"/>
                </a:moveTo>
                <a:cubicBezTo>
                  <a:pt x="16811" y="15367"/>
                  <a:pt x="16996" y="15315"/>
                  <a:pt x="17190" y="15304"/>
                </a:cubicBezTo>
              </a:path>
              <a:path w="4466" h="2308">
                <a:moveTo>
                  <a:pt x="16793" y="15602"/>
                </a:moveTo>
                <a:cubicBezTo>
                  <a:pt x="16892" y="15602"/>
                  <a:pt x="16991" y="15602"/>
                  <a:pt x="17090" y="15602"/>
                </a:cubicBezTo>
                <a:cubicBezTo>
                  <a:pt x="17041" y="15702"/>
                  <a:pt x="17003" y="15764"/>
                  <a:pt x="16892" y="15801"/>
                </a:cubicBezTo>
                <a:cubicBezTo>
                  <a:pt x="16978" y="15801"/>
                  <a:pt x="17115" y="15768"/>
                  <a:pt x="17115" y="15900"/>
                </a:cubicBezTo>
                <a:cubicBezTo>
                  <a:pt x="17115" y="16028"/>
                  <a:pt x="16959" y="16043"/>
                  <a:pt x="16867" y="16049"/>
                </a:cubicBezTo>
                <a:cubicBezTo>
                  <a:pt x="16859" y="16049"/>
                  <a:pt x="16850" y="16049"/>
                  <a:pt x="16842" y="16049"/>
                </a:cubicBezTo>
              </a:path>
              <a:path w="4466" h="2308">
                <a:moveTo>
                  <a:pt x="17363" y="15205"/>
                </a:moveTo>
                <a:cubicBezTo>
                  <a:pt x="17384" y="15143"/>
                  <a:pt x="17441" y="15171"/>
                  <a:pt x="17512" y="15156"/>
                </a:cubicBezTo>
                <a:cubicBezTo>
                  <a:pt x="17608" y="15136"/>
                  <a:pt x="17577" y="15122"/>
                  <a:pt x="17636" y="15180"/>
                </a:cubicBezTo>
              </a:path>
              <a:path w="4466" h="2308">
                <a:moveTo>
                  <a:pt x="17438" y="15304"/>
                </a:moveTo>
                <a:cubicBezTo>
                  <a:pt x="17487" y="15329"/>
                  <a:pt x="17573" y="15349"/>
                  <a:pt x="17636" y="15329"/>
                </a:cubicBezTo>
                <a:cubicBezTo>
                  <a:pt x="17653" y="15321"/>
                  <a:pt x="17669" y="15312"/>
                  <a:pt x="17686" y="15304"/>
                </a:cubicBezTo>
              </a:path>
              <a:path w="4466" h="2308">
                <a:moveTo>
                  <a:pt x="18380" y="14784"/>
                </a:moveTo>
                <a:cubicBezTo>
                  <a:pt x="18377" y="14813"/>
                  <a:pt x="18324" y="14982"/>
                  <a:pt x="18355" y="15007"/>
                </a:cubicBezTo>
                <a:cubicBezTo>
                  <a:pt x="18441" y="15076"/>
                  <a:pt x="18575" y="15037"/>
                  <a:pt x="18628" y="14982"/>
                </a:cubicBezTo>
              </a:path>
              <a:path w="4466" h="2308">
                <a:moveTo>
                  <a:pt x="18728" y="14610"/>
                </a:moveTo>
                <a:cubicBezTo>
                  <a:pt x="18672" y="14764"/>
                  <a:pt x="18641" y="14941"/>
                  <a:pt x="18628" y="15106"/>
                </a:cubicBezTo>
                <a:cubicBezTo>
                  <a:pt x="18624" y="15156"/>
                  <a:pt x="18655" y="15287"/>
                  <a:pt x="18604" y="15304"/>
                </a:cubicBezTo>
              </a:path>
              <a:path w="4466" h="2308">
                <a:moveTo>
                  <a:pt x="18132" y="15478"/>
                </a:moveTo>
                <a:cubicBezTo>
                  <a:pt x="18374" y="15478"/>
                  <a:pt x="18611" y="15458"/>
                  <a:pt x="18852" y="15453"/>
                </a:cubicBezTo>
                <a:cubicBezTo>
                  <a:pt x="18926" y="15453"/>
                  <a:pt x="18935" y="15453"/>
                  <a:pt x="18976" y="15453"/>
                </a:cubicBezTo>
              </a:path>
              <a:path w="4466" h="2308">
                <a:moveTo>
                  <a:pt x="18231" y="15751"/>
                </a:moveTo>
                <a:cubicBezTo>
                  <a:pt x="18312" y="15697"/>
                  <a:pt x="18434" y="15645"/>
                  <a:pt x="18479" y="15776"/>
                </a:cubicBezTo>
                <a:cubicBezTo>
                  <a:pt x="18548" y="15977"/>
                  <a:pt x="18341" y="16016"/>
                  <a:pt x="18207" y="16024"/>
                </a:cubicBezTo>
                <a:cubicBezTo>
                  <a:pt x="18145" y="16024"/>
                  <a:pt x="18130" y="16033"/>
                  <a:pt x="18107" y="15999"/>
                </a:cubicBezTo>
                <a:cubicBezTo>
                  <a:pt x="18220" y="15961"/>
                  <a:pt x="18252" y="15941"/>
                  <a:pt x="18355" y="15999"/>
                </a:cubicBezTo>
                <a:cubicBezTo>
                  <a:pt x="18399" y="16021"/>
                  <a:pt x="18411" y="16034"/>
                  <a:pt x="18430" y="15999"/>
                </a:cubicBezTo>
              </a:path>
              <a:path w="4466" h="2308">
                <a:moveTo>
                  <a:pt x="18579" y="15701"/>
                </a:moveTo>
                <a:cubicBezTo>
                  <a:pt x="18671" y="15671"/>
                  <a:pt x="18762" y="15647"/>
                  <a:pt x="18852" y="15627"/>
                </a:cubicBezTo>
                <a:cubicBezTo>
                  <a:pt x="18927" y="15611"/>
                  <a:pt x="18952" y="15718"/>
                  <a:pt x="18951" y="15776"/>
                </a:cubicBezTo>
                <a:cubicBezTo>
                  <a:pt x="18949" y="15870"/>
                  <a:pt x="18926" y="15955"/>
                  <a:pt x="18926" y="16049"/>
                </a:cubicBezTo>
              </a:path>
              <a:path w="4466" h="2308">
                <a:moveTo>
                  <a:pt x="17810" y="14759"/>
                </a:moveTo>
                <a:cubicBezTo>
                  <a:pt x="17830" y="14925"/>
                  <a:pt x="17821" y="15088"/>
                  <a:pt x="17835" y="15255"/>
                </a:cubicBezTo>
                <a:cubicBezTo>
                  <a:pt x="17853" y="15474"/>
                  <a:pt x="17884" y="15679"/>
                  <a:pt x="17884" y="15900"/>
                </a:cubicBezTo>
                <a:cubicBezTo>
                  <a:pt x="17884" y="16081"/>
                  <a:pt x="17919" y="16300"/>
                  <a:pt x="17909" y="16470"/>
                </a:cubicBezTo>
                <a:cubicBezTo>
                  <a:pt x="17905" y="16544"/>
                  <a:pt x="17860" y="16513"/>
                  <a:pt x="17934" y="16545"/>
                </a:cubicBezTo>
                <a:cubicBezTo>
                  <a:pt x="18063" y="16601"/>
                  <a:pt x="18298" y="16527"/>
                  <a:pt x="18430" y="16520"/>
                </a:cubicBezTo>
                <a:cubicBezTo>
                  <a:pt x="18688" y="16506"/>
                  <a:pt x="18944" y="16520"/>
                  <a:pt x="19199" y="16495"/>
                </a:cubicBezTo>
                <a:cubicBezTo>
                  <a:pt x="19283" y="16487"/>
                  <a:pt x="19280" y="16495"/>
                  <a:pt x="19323" y="16495"/>
                </a:cubicBezTo>
                <a:cubicBezTo>
                  <a:pt x="19331" y="16495"/>
                  <a:pt x="19340" y="16495"/>
                  <a:pt x="19348" y="16495"/>
                </a:cubicBezTo>
                <a:cubicBezTo>
                  <a:pt x="19331" y="16407"/>
                  <a:pt x="19305" y="16310"/>
                  <a:pt x="19298" y="16222"/>
                </a:cubicBezTo>
                <a:cubicBezTo>
                  <a:pt x="19286" y="16071"/>
                  <a:pt x="19289" y="15923"/>
                  <a:pt x="19273" y="15776"/>
                </a:cubicBezTo>
                <a:cubicBezTo>
                  <a:pt x="19262" y="15676"/>
                  <a:pt x="19269" y="15576"/>
                  <a:pt x="19248" y="15478"/>
                </a:cubicBezTo>
                <a:cubicBezTo>
                  <a:pt x="19224" y="15365"/>
                  <a:pt x="19210" y="15246"/>
                  <a:pt x="19199" y="15131"/>
                </a:cubicBezTo>
                <a:cubicBezTo>
                  <a:pt x="19186" y="14996"/>
                  <a:pt x="19140" y="14869"/>
                  <a:pt x="19124" y="14734"/>
                </a:cubicBezTo>
                <a:cubicBezTo>
                  <a:pt x="19112" y="14633"/>
                  <a:pt x="19100" y="14539"/>
                  <a:pt x="19100" y="14436"/>
                </a:cubicBezTo>
                <a:cubicBezTo>
                  <a:pt x="19100" y="14370"/>
                  <a:pt x="19100" y="14304"/>
                  <a:pt x="19100" y="14238"/>
                </a:cubicBezTo>
                <a:cubicBezTo>
                  <a:pt x="19044" y="14249"/>
                  <a:pt x="18981" y="14249"/>
                  <a:pt x="18926" y="14263"/>
                </a:cubicBezTo>
                <a:cubicBezTo>
                  <a:pt x="18816" y="14291"/>
                  <a:pt x="18714" y="14271"/>
                  <a:pt x="18604" y="14288"/>
                </a:cubicBezTo>
                <a:cubicBezTo>
                  <a:pt x="18491" y="14305"/>
                  <a:pt x="18367" y="14313"/>
                  <a:pt x="18256" y="14337"/>
                </a:cubicBezTo>
                <a:cubicBezTo>
                  <a:pt x="18171" y="14355"/>
                  <a:pt x="18093" y="14347"/>
                  <a:pt x="18008" y="14362"/>
                </a:cubicBezTo>
                <a:cubicBezTo>
                  <a:pt x="17977" y="14368"/>
                  <a:pt x="17924" y="14379"/>
                  <a:pt x="17884" y="14387"/>
                </a:cubicBezTo>
                <a:cubicBezTo>
                  <a:pt x="17844" y="14407"/>
                  <a:pt x="17838" y="14416"/>
                  <a:pt x="17810" y="14412"/>
                </a:cubicBezTo>
                <a:cubicBezTo>
                  <a:pt x="17810" y="14501"/>
                  <a:pt x="17825" y="14575"/>
                  <a:pt x="17835" y="14660"/>
                </a:cubicBezTo>
                <a:cubicBezTo>
                  <a:pt x="17844" y="14743"/>
                  <a:pt x="17846" y="14820"/>
                  <a:pt x="17859" y="14908"/>
                </a:cubicBezTo>
                <a:cubicBezTo>
                  <a:pt x="17868" y="14969"/>
                  <a:pt x="17880" y="15018"/>
                  <a:pt x="17884" y="15081"/>
                </a:cubicBezTo>
                <a:cubicBezTo>
                  <a:pt x="17884" y="15089"/>
                  <a:pt x="17884" y="15098"/>
                  <a:pt x="17884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3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26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</a:rPr>
              <a:t>Your grandmother needs to halve a recipe for gingerbread cookies.  The recipe calls for five and a third cups of flour.  How much flour will your grandmother need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rite it using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11920" y="3571920"/>
            <a:ext cx="27000" cy="160200"/>
          </a:xfrm>
          <a:custGeom>
            <a:avLst/>
            <a:gdLst/>
            <a:ahLst/>
            <a:rect l="l" t="t" r="r" b="b"/>
            <a:pathLst>
              <a:path w="75" h="447">
                <a:moveTo>
                  <a:pt x="16446" y="10096"/>
                </a:moveTo>
                <a:cubicBezTo>
                  <a:pt x="16446" y="10104"/>
                  <a:pt x="16446" y="10112"/>
                  <a:pt x="16446" y="10120"/>
                </a:cubicBezTo>
              </a:path>
              <a:path w="75" h="447">
                <a:moveTo>
                  <a:pt x="16495" y="9947"/>
                </a:moveTo>
                <a:cubicBezTo>
                  <a:pt x="16495" y="9894"/>
                  <a:pt x="16497" y="10202"/>
                  <a:pt x="16495" y="10220"/>
                </a:cubicBezTo>
                <a:cubicBezTo>
                  <a:pt x="16482" y="10328"/>
                  <a:pt x="16479" y="10377"/>
                  <a:pt x="16421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27840" y="1393920"/>
            <a:ext cx="268200" cy="650880"/>
          </a:xfrm>
          <a:custGeom>
            <a:avLst/>
            <a:gdLst/>
            <a:ahLst/>
            <a:rect l="l" t="t" r="r" b="b"/>
            <a:pathLst>
              <a:path w="745" h="1811">
                <a:moveTo>
                  <a:pt x="17165" y="3870"/>
                </a:moveTo>
                <a:cubicBezTo>
                  <a:pt x="17182" y="4069"/>
                  <a:pt x="17190" y="4264"/>
                  <a:pt x="17190" y="4465"/>
                </a:cubicBezTo>
                <a:cubicBezTo>
                  <a:pt x="17190" y="4564"/>
                  <a:pt x="17190" y="4580"/>
                  <a:pt x="17190" y="4638"/>
                </a:cubicBezTo>
              </a:path>
              <a:path w="745" h="1811">
                <a:moveTo>
                  <a:pt x="16743" y="4787"/>
                </a:moveTo>
                <a:cubicBezTo>
                  <a:pt x="16990" y="4760"/>
                  <a:pt x="17247" y="4756"/>
                  <a:pt x="17487" y="4713"/>
                </a:cubicBezTo>
              </a:path>
              <a:path w="745" h="1811">
                <a:moveTo>
                  <a:pt x="16818" y="5110"/>
                </a:moveTo>
                <a:cubicBezTo>
                  <a:pt x="16924" y="5049"/>
                  <a:pt x="17041" y="5041"/>
                  <a:pt x="17165" y="5035"/>
                </a:cubicBezTo>
                <a:cubicBezTo>
                  <a:pt x="17200" y="5035"/>
                  <a:pt x="17213" y="5044"/>
                  <a:pt x="17214" y="5085"/>
                </a:cubicBezTo>
                <a:cubicBezTo>
                  <a:pt x="17125" y="5304"/>
                  <a:pt x="16961" y="5459"/>
                  <a:pt x="16793" y="5631"/>
                </a:cubicBezTo>
                <a:cubicBezTo>
                  <a:pt x="16776" y="5647"/>
                  <a:pt x="16760" y="5664"/>
                  <a:pt x="16743" y="5680"/>
                </a:cubicBezTo>
                <a:cubicBezTo>
                  <a:pt x="16905" y="5660"/>
                  <a:pt x="17040" y="5573"/>
                  <a:pt x="17214" y="5556"/>
                </a:cubicBezTo>
                <a:cubicBezTo>
                  <a:pt x="17274" y="5550"/>
                  <a:pt x="17348" y="5556"/>
                  <a:pt x="17413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040" y="4606920"/>
            <a:ext cx="1204920" cy="1366920"/>
          </a:xfrm>
          <a:custGeom>
            <a:avLst/>
            <a:gdLst/>
            <a:ahLst/>
            <a:rect l="l" t="t" r="r" b="b"/>
            <a:pathLst>
              <a:path w="3349" h="3796">
                <a:moveTo>
                  <a:pt x="4713" y="12799"/>
                </a:moveTo>
                <a:cubicBezTo>
                  <a:pt x="4713" y="12838"/>
                  <a:pt x="4696" y="12824"/>
                  <a:pt x="4663" y="12824"/>
                </a:cubicBezTo>
              </a:path>
              <a:path w="3349" h="3796">
                <a:moveTo>
                  <a:pt x="2084" y="14039"/>
                </a:moveTo>
                <a:cubicBezTo>
                  <a:pt x="2049" y="14179"/>
                  <a:pt x="2136" y="14355"/>
                  <a:pt x="2133" y="14511"/>
                </a:cubicBezTo>
                <a:cubicBezTo>
                  <a:pt x="2125" y="14552"/>
                  <a:pt x="2116" y="14594"/>
                  <a:pt x="2108" y="14635"/>
                </a:cubicBezTo>
              </a:path>
              <a:path w="3349" h="3796">
                <a:moveTo>
                  <a:pt x="1687" y="14908"/>
                </a:moveTo>
                <a:cubicBezTo>
                  <a:pt x="1869" y="14828"/>
                  <a:pt x="2199" y="14600"/>
                  <a:pt x="2406" y="14635"/>
                </a:cubicBezTo>
                <a:cubicBezTo>
                  <a:pt x="2406" y="14651"/>
                  <a:pt x="2406" y="14668"/>
                  <a:pt x="2406" y="14684"/>
                </a:cubicBezTo>
              </a:path>
              <a:path w="3349" h="3796">
                <a:moveTo>
                  <a:pt x="1935" y="15131"/>
                </a:moveTo>
                <a:cubicBezTo>
                  <a:pt x="2045" y="15075"/>
                  <a:pt x="2091" y="15059"/>
                  <a:pt x="2183" y="15081"/>
                </a:cubicBezTo>
                <a:cubicBezTo>
                  <a:pt x="2329" y="15295"/>
                  <a:pt x="2236" y="15488"/>
                  <a:pt x="1960" y="15602"/>
                </a:cubicBezTo>
                <a:cubicBezTo>
                  <a:pt x="1927" y="15602"/>
                  <a:pt x="1893" y="15602"/>
                  <a:pt x="1860" y="15602"/>
                </a:cubicBezTo>
                <a:cubicBezTo>
                  <a:pt x="1912" y="15448"/>
                  <a:pt x="2010" y="15412"/>
                  <a:pt x="2183" y="15404"/>
                </a:cubicBezTo>
                <a:cubicBezTo>
                  <a:pt x="2224" y="15404"/>
                  <a:pt x="2266" y="15404"/>
                  <a:pt x="2307" y="15404"/>
                </a:cubicBezTo>
              </a:path>
              <a:path w="3349" h="3796">
                <a:moveTo>
                  <a:pt x="2679" y="14635"/>
                </a:moveTo>
                <a:cubicBezTo>
                  <a:pt x="2785" y="14751"/>
                  <a:pt x="2877" y="14863"/>
                  <a:pt x="2977" y="14982"/>
                </a:cubicBezTo>
              </a:path>
              <a:path w="3349" h="3796">
                <a:moveTo>
                  <a:pt x="2877" y="14511"/>
                </a:moveTo>
                <a:cubicBezTo>
                  <a:pt x="2838" y="14621"/>
                  <a:pt x="2653" y="15023"/>
                  <a:pt x="2753" y="15056"/>
                </a:cubicBezTo>
              </a:path>
              <a:path w="3349" h="3796">
                <a:moveTo>
                  <a:pt x="3324" y="13915"/>
                </a:moveTo>
                <a:cubicBezTo>
                  <a:pt x="3337" y="14061"/>
                  <a:pt x="3342" y="14223"/>
                  <a:pt x="3373" y="14362"/>
                </a:cubicBezTo>
              </a:path>
              <a:path w="3349" h="3796">
                <a:moveTo>
                  <a:pt x="3522" y="13692"/>
                </a:moveTo>
                <a:cubicBezTo>
                  <a:pt x="3533" y="13841"/>
                  <a:pt x="3515" y="14167"/>
                  <a:pt x="3621" y="14288"/>
                </a:cubicBezTo>
                <a:cubicBezTo>
                  <a:pt x="3740" y="14424"/>
                  <a:pt x="3885" y="14134"/>
                  <a:pt x="3919" y="14089"/>
                </a:cubicBezTo>
                <a:cubicBezTo>
                  <a:pt x="3840" y="13931"/>
                  <a:pt x="3789" y="14244"/>
                  <a:pt x="3770" y="14362"/>
                </a:cubicBezTo>
              </a:path>
              <a:path w="3349" h="3796">
                <a:moveTo>
                  <a:pt x="3448" y="14585"/>
                </a:moveTo>
                <a:cubicBezTo>
                  <a:pt x="3629" y="14481"/>
                  <a:pt x="3797" y="14411"/>
                  <a:pt x="3994" y="14337"/>
                </a:cubicBezTo>
              </a:path>
              <a:path w="3349" h="3796">
                <a:moveTo>
                  <a:pt x="3696" y="14883"/>
                </a:moveTo>
                <a:cubicBezTo>
                  <a:pt x="3715" y="14845"/>
                  <a:pt x="3894" y="14742"/>
                  <a:pt x="3894" y="14858"/>
                </a:cubicBezTo>
                <a:cubicBezTo>
                  <a:pt x="3842" y="14990"/>
                  <a:pt x="3820" y="15038"/>
                  <a:pt x="3746" y="15106"/>
                </a:cubicBezTo>
                <a:cubicBezTo>
                  <a:pt x="3738" y="15123"/>
                  <a:pt x="3729" y="15139"/>
                  <a:pt x="3721" y="15156"/>
                </a:cubicBezTo>
                <a:cubicBezTo>
                  <a:pt x="3800" y="15103"/>
                  <a:pt x="3968" y="15058"/>
                  <a:pt x="3919" y="15230"/>
                </a:cubicBezTo>
                <a:cubicBezTo>
                  <a:pt x="3850" y="15471"/>
                  <a:pt x="3655" y="15404"/>
                  <a:pt x="3473" y="15404"/>
                </a:cubicBezTo>
              </a:path>
              <a:path w="3349" h="3796">
                <a:moveTo>
                  <a:pt x="2009" y="15999"/>
                </a:moveTo>
                <a:cubicBezTo>
                  <a:pt x="2061" y="16018"/>
                  <a:pt x="2157" y="16049"/>
                  <a:pt x="2158" y="16049"/>
                </a:cubicBezTo>
              </a:path>
              <a:path w="3349" h="3796">
                <a:moveTo>
                  <a:pt x="2084" y="15751"/>
                </a:moveTo>
                <a:cubicBezTo>
                  <a:pt x="2084" y="15810"/>
                  <a:pt x="2090" y="15851"/>
                  <a:pt x="2108" y="15900"/>
                </a:cubicBezTo>
              </a:path>
              <a:path w="3349" h="3796">
                <a:moveTo>
                  <a:pt x="2108" y="15900"/>
                </a:moveTo>
                <a:lnTo>
                  <a:pt x="2108" y="15900"/>
                </a:lnTo>
              </a:path>
              <a:path w="3349" h="3796">
                <a:moveTo>
                  <a:pt x="2108" y="16073"/>
                </a:moveTo>
                <a:cubicBezTo>
                  <a:pt x="2125" y="16048"/>
                  <a:pt x="2141" y="16024"/>
                  <a:pt x="2158" y="15999"/>
                </a:cubicBezTo>
              </a:path>
              <a:path w="3349" h="3796">
                <a:moveTo>
                  <a:pt x="2332" y="15726"/>
                </a:moveTo>
                <a:cubicBezTo>
                  <a:pt x="2414" y="15726"/>
                  <a:pt x="2447" y="15726"/>
                  <a:pt x="2505" y="15726"/>
                </a:cubicBezTo>
                <a:cubicBezTo>
                  <a:pt x="2505" y="15873"/>
                  <a:pt x="2428" y="16004"/>
                  <a:pt x="2356" y="16148"/>
                </a:cubicBezTo>
                <a:cubicBezTo>
                  <a:pt x="2464" y="16099"/>
                  <a:pt x="2571" y="16050"/>
                  <a:pt x="2679" y="15999"/>
                </a:cubicBezTo>
              </a:path>
              <a:path w="3349" h="3796">
                <a:moveTo>
                  <a:pt x="4018" y="13568"/>
                </a:moveTo>
                <a:cubicBezTo>
                  <a:pt x="4066" y="13568"/>
                  <a:pt x="4068" y="13564"/>
                  <a:pt x="4118" y="13543"/>
                </a:cubicBezTo>
              </a:path>
              <a:path w="3349" h="3796">
                <a:moveTo>
                  <a:pt x="3994" y="13444"/>
                </a:moveTo>
                <a:cubicBezTo>
                  <a:pt x="3994" y="13452"/>
                  <a:pt x="3994" y="13461"/>
                  <a:pt x="3994" y="13469"/>
                </a:cubicBezTo>
              </a:path>
              <a:path w="3349" h="3796">
                <a:moveTo>
                  <a:pt x="4142" y="13866"/>
                </a:moveTo>
                <a:lnTo>
                  <a:pt x="4142" y="13866"/>
                </a:lnTo>
                <a:lnTo>
                  <a:pt x="4142" y="13866"/>
                </a:lnTo>
              </a:path>
              <a:path w="3349" h="3796">
                <a:moveTo>
                  <a:pt x="4142" y="13866"/>
                </a:moveTo>
                <a:lnTo>
                  <a:pt x="4142" y="13866"/>
                </a:lnTo>
              </a:path>
              <a:path w="3349" h="3796">
                <a:moveTo>
                  <a:pt x="4316" y="13469"/>
                </a:moveTo>
                <a:cubicBezTo>
                  <a:pt x="4390" y="13444"/>
                  <a:pt x="4415" y="13435"/>
                  <a:pt x="4465" y="13419"/>
                </a:cubicBezTo>
                <a:cubicBezTo>
                  <a:pt x="4520" y="13586"/>
                  <a:pt x="4463" y="13710"/>
                  <a:pt x="4440" y="13891"/>
                </a:cubicBezTo>
                <a:cubicBezTo>
                  <a:pt x="4593" y="13852"/>
                  <a:pt x="4719" y="13774"/>
                  <a:pt x="4862" y="13692"/>
                </a:cubicBezTo>
              </a:path>
              <a:path w="3349" h="3796">
                <a:moveTo>
                  <a:pt x="1885" y="15429"/>
                </a:moveTo>
                <a:cubicBezTo>
                  <a:pt x="1939" y="15375"/>
                  <a:pt x="2264" y="15669"/>
                  <a:pt x="2307" y="15701"/>
                </a:cubicBezTo>
                <a:cubicBezTo>
                  <a:pt x="2350" y="15733"/>
                  <a:pt x="2568" y="15930"/>
                  <a:pt x="2629" y="15949"/>
                </a:cubicBezTo>
              </a:path>
              <a:path w="3349" h="3796">
                <a:moveTo>
                  <a:pt x="2977" y="16123"/>
                </a:moveTo>
                <a:cubicBezTo>
                  <a:pt x="2993" y="16277"/>
                  <a:pt x="3068" y="16417"/>
                  <a:pt x="3101" y="16570"/>
                </a:cubicBezTo>
                <a:cubicBezTo>
                  <a:pt x="3101" y="16620"/>
                  <a:pt x="3095" y="16603"/>
                  <a:pt x="3076" y="16495"/>
                </a:cubicBezTo>
              </a:path>
              <a:path w="3349" h="3796">
                <a:moveTo>
                  <a:pt x="3373" y="14412"/>
                </a:moveTo>
                <a:cubicBezTo>
                  <a:pt x="3717" y="14060"/>
                  <a:pt x="4075" y="13769"/>
                  <a:pt x="4465" y="13469"/>
                </a:cubicBezTo>
                <a:cubicBezTo>
                  <a:pt x="4473" y="13461"/>
                  <a:pt x="4482" y="13452"/>
                  <a:pt x="4490" y="13444"/>
                </a:cubicBezTo>
              </a:path>
              <a:path w="3349" h="3796">
                <a:moveTo>
                  <a:pt x="4986" y="13395"/>
                </a:moveTo>
                <a:cubicBezTo>
                  <a:pt x="4888" y="13470"/>
                  <a:pt x="4818" y="13557"/>
                  <a:pt x="4762" y="13667"/>
                </a:cubicBezTo>
                <a:cubicBezTo>
                  <a:pt x="4900" y="13756"/>
                  <a:pt x="5108" y="13820"/>
                  <a:pt x="4986" y="14015"/>
                </a:cubicBezTo>
                <a:cubicBezTo>
                  <a:pt x="4961" y="14031"/>
                  <a:pt x="4936" y="14048"/>
                  <a:pt x="4911" y="14064"/>
                </a:cubicBezTo>
                <a:cubicBezTo>
                  <a:pt x="4850" y="13865"/>
                  <a:pt x="4929" y="13769"/>
                  <a:pt x="4986" y="13568"/>
                </a:cubicBezTo>
                <a:cubicBezTo>
                  <a:pt x="4986" y="13560"/>
                  <a:pt x="4986" y="13551"/>
                  <a:pt x="4986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0200" y="2874960"/>
            <a:ext cx="304920" cy="304920"/>
          </a:xfrm>
          <a:custGeom>
            <a:avLst/>
            <a:gdLst/>
            <a:ahLst/>
            <a:rect l="l" t="t" r="r" b="b"/>
            <a:pathLst>
              <a:path w="845" h="844">
                <a:moveTo>
                  <a:pt x="7441" y="8062"/>
                </a:moveTo>
                <a:cubicBezTo>
                  <a:pt x="7343" y="8037"/>
                  <a:pt x="7245" y="8022"/>
                  <a:pt x="7144" y="8012"/>
                </a:cubicBezTo>
                <a:cubicBezTo>
                  <a:pt x="7127" y="8094"/>
                  <a:pt x="7086" y="8174"/>
                  <a:pt x="7069" y="8260"/>
                </a:cubicBezTo>
                <a:cubicBezTo>
                  <a:pt x="7069" y="8268"/>
                  <a:pt x="7069" y="8277"/>
                  <a:pt x="7069" y="8285"/>
                </a:cubicBezTo>
                <a:cubicBezTo>
                  <a:pt x="7156" y="8285"/>
                  <a:pt x="7252" y="8258"/>
                  <a:pt x="7317" y="8334"/>
                </a:cubicBezTo>
                <a:cubicBezTo>
                  <a:pt x="7412" y="8445"/>
                  <a:pt x="7282" y="8545"/>
                  <a:pt x="7193" y="8582"/>
                </a:cubicBezTo>
                <a:cubicBezTo>
                  <a:pt x="7099" y="8621"/>
                  <a:pt x="7034" y="8609"/>
                  <a:pt x="6945" y="8582"/>
                </a:cubicBezTo>
              </a:path>
              <a:path w="845" h="844">
                <a:moveTo>
                  <a:pt x="7714" y="7987"/>
                </a:moveTo>
                <a:cubicBezTo>
                  <a:pt x="7699" y="8078"/>
                  <a:pt x="7671" y="8165"/>
                  <a:pt x="7665" y="8260"/>
                </a:cubicBezTo>
                <a:cubicBezTo>
                  <a:pt x="7665" y="8285"/>
                  <a:pt x="7665" y="8293"/>
                  <a:pt x="7665" y="8310"/>
                </a:cubicBezTo>
              </a:path>
              <a:path w="845" h="844">
                <a:moveTo>
                  <a:pt x="7441" y="8458"/>
                </a:moveTo>
                <a:cubicBezTo>
                  <a:pt x="7517" y="8458"/>
                  <a:pt x="7591" y="8409"/>
                  <a:pt x="7665" y="8384"/>
                </a:cubicBezTo>
                <a:cubicBezTo>
                  <a:pt x="7725" y="8364"/>
                  <a:pt x="7736" y="8359"/>
                  <a:pt x="7789" y="8359"/>
                </a:cubicBezTo>
              </a:path>
              <a:path w="845" h="844">
                <a:moveTo>
                  <a:pt x="7565" y="8508"/>
                </a:moveTo>
                <a:cubicBezTo>
                  <a:pt x="7646" y="8492"/>
                  <a:pt x="7659" y="8463"/>
                  <a:pt x="7739" y="8483"/>
                </a:cubicBezTo>
                <a:cubicBezTo>
                  <a:pt x="7723" y="8564"/>
                  <a:pt x="7693" y="8616"/>
                  <a:pt x="7615" y="8657"/>
                </a:cubicBezTo>
                <a:cubicBezTo>
                  <a:pt x="7571" y="8680"/>
                  <a:pt x="7633" y="8646"/>
                  <a:pt x="7665" y="8657"/>
                </a:cubicBezTo>
                <a:cubicBezTo>
                  <a:pt x="7777" y="8697"/>
                  <a:pt x="7684" y="8780"/>
                  <a:pt x="7615" y="8806"/>
                </a:cubicBezTo>
                <a:cubicBezTo>
                  <a:pt x="7562" y="8827"/>
                  <a:pt x="7581" y="8819"/>
                  <a:pt x="7541" y="8806"/>
                </a:cubicBezTo>
              </a:path>
              <a:path w="845" h="844">
                <a:moveTo>
                  <a:pt x="7541" y="8806"/>
                </a:moveTo>
                <a:lnTo>
                  <a:pt x="7541" y="88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8760" y="4027320"/>
            <a:ext cx="1320480" cy="704880"/>
          </a:xfrm>
          <a:custGeom>
            <a:avLst/>
            <a:gdLst/>
            <a:ahLst/>
            <a:rect l="l" t="t" r="r" b="b"/>
            <a:pathLst>
              <a:path w="3672" h="1960">
                <a:moveTo>
                  <a:pt x="11410" y="11435"/>
                </a:moveTo>
                <a:cubicBezTo>
                  <a:pt x="11410" y="11294"/>
                  <a:pt x="11433" y="11666"/>
                  <a:pt x="11435" y="11807"/>
                </a:cubicBezTo>
                <a:cubicBezTo>
                  <a:pt x="11437" y="11914"/>
                  <a:pt x="11435" y="12022"/>
                  <a:pt x="11435" y="12129"/>
                </a:cubicBezTo>
              </a:path>
              <a:path w="3672" h="1960">
                <a:moveTo>
                  <a:pt x="10939" y="12278"/>
                </a:moveTo>
                <a:cubicBezTo>
                  <a:pt x="11183" y="12232"/>
                  <a:pt x="11409" y="12185"/>
                  <a:pt x="11658" y="12179"/>
                </a:cubicBezTo>
                <a:cubicBezTo>
                  <a:pt x="11723" y="12178"/>
                  <a:pt x="11757" y="12166"/>
                  <a:pt x="11782" y="12204"/>
                </a:cubicBezTo>
              </a:path>
              <a:path w="3672" h="1960">
                <a:moveTo>
                  <a:pt x="11212" y="12601"/>
                </a:moveTo>
                <a:cubicBezTo>
                  <a:pt x="11241" y="12557"/>
                  <a:pt x="11385" y="12516"/>
                  <a:pt x="11460" y="12502"/>
                </a:cubicBezTo>
                <a:cubicBezTo>
                  <a:pt x="11504" y="12502"/>
                  <a:pt x="11517" y="12499"/>
                  <a:pt x="11534" y="12526"/>
                </a:cubicBezTo>
                <a:cubicBezTo>
                  <a:pt x="11566" y="12735"/>
                  <a:pt x="11469" y="12775"/>
                  <a:pt x="11336" y="12923"/>
                </a:cubicBezTo>
                <a:cubicBezTo>
                  <a:pt x="11269" y="12998"/>
                  <a:pt x="11210" y="13075"/>
                  <a:pt x="11137" y="13146"/>
                </a:cubicBezTo>
                <a:cubicBezTo>
                  <a:pt x="11269" y="13128"/>
                  <a:pt x="11374" y="13081"/>
                  <a:pt x="11509" y="13072"/>
                </a:cubicBezTo>
                <a:cubicBezTo>
                  <a:pt x="11551" y="13072"/>
                  <a:pt x="11559" y="13072"/>
                  <a:pt x="11584" y="13072"/>
                </a:cubicBezTo>
              </a:path>
              <a:path w="3672" h="1960">
                <a:moveTo>
                  <a:pt x="12452" y="12005"/>
                </a:moveTo>
                <a:cubicBezTo>
                  <a:pt x="12508" y="11979"/>
                  <a:pt x="12649" y="12217"/>
                  <a:pt x="12700" y="12303"/>
                </a:cubicBezTo>
                <a:cubicBezTo>
                  <a:pt x="12733" y="12359"/>
                  <a:pt x="12857" y="12423"/>
                  <a:pt x="12799" y="12452"/>
                </a:cubicBezTo>
                <a:cubicBezTo>
                  <a:pt x="12791" y="12452"/>
                  <a:pt x="12782" y="12452"/>
                  <a:pt x="12774" y="12452"/>
                </a:cubicBezTo>
              </a:path>
              <a:path w="3672" h="1960">
                <a:moveTo>
                  <a:pt x="12750" y="11931"/>
                </a:moveTo>
                <a:cubicBezTo>
                  <a:pt x="12654" y="11955"/>
                  <a:pt x="12581" y="12154"/>
                  <a:pt x="12526" y="12229"/>
                </a:cubicBezTo>
                <a:cubicBezTo>
                  <a:pt x="12474" y="12301"/>
                  <a:pt x="12364" y="12409"/>
                  <a:pt x="12353" y="12502"/>
                </a:cubicBezTo>
                <a:cubicBezTo>
                  <a:pt x="12353" y="12510"/>
                  <a:pt x="12353" y="12518"/>
                  <a:pt x="12353" y="12526"/>
                </a:cubicBezTo>
              </a:path>
              <a:path w="3672" h="1960">
                <a:moveTo>
                  <a:pt x="12353" y="12526"/>
                </a:moveTo>
                <a:lnTo>
                  <a:pt x="12353" y="12526"/>
                </a:lnTo>
              </a:path>
              <a:path w="3672" h="1960">
                <a:moveTo>
                  <a:pt x="13643" y="11782"/>
                </a:moveTo>
                <a:cubicBezTo>
                  <a:pt x="13643" y="11689"/>
                  <a:pt x="13467" y="11776"/>
                  <a:pt x="13395" y="11782"/>
                </a:cubicBezTo>
                <a:cubicBezTo>
                  <a:pt x="13296" y="11782"/>
                  <a:pt x="13279" y="11782"/>
                  <a:pt x="13221" y="11782"/>
                </a:cubicBezTo>
                <a:cubicBezTo>
                  <a:pt x="13221" y="11914"/>
                  <a:pt x="13221" y="12047"/>
                  <a:pt x="13221" y="12179"/>
                </a:cubicBezTo>
                <a:cubicBezTo>
                  <a:pt x="13343" y="12154"/>
                  <a:pt x="13399" y="12057"/>
                  <a:pt x="13543" y="12129"/>
                </a:cubicBezTo>
                <a:cubicBezTo>
                  <a:pt x="13731" y="12223"/>
                  <a:pt x="13633" y="12486"/>
                  <a:pt x="13494" y="12576"/>
                </a:cubicBezTo>
                <a:cubicBezTo>
                  <a:pt x="13461" y="12597"/>
                  <a:pt x="13063" y="12696"/>
                  <a:pt x="13122" y="12551"/>
                </a:cubicBezTo>
                <a:cubicBezTo>
                  <a:pt x="13147" y="12518"/>
                  <a:pt x="13171" y="12485"/>
                  <a:pt x="13196" y="12452"/>
                </a:cubicBezTo>
              </a:path>
              <a:path w="3672" h="1960">
                <a:moveTo>
                  <a:pt x="14312" y="11187"/>
                </a:moveTo>
                <a:cubicBezTo>
                  <a:pt x="14312" y="11363"/>
                  <a:pt x="14332" y="11533"/>
                  <a:pt x="14337" y="11708"/>
                </a:cubicBezTo>
                <a:cubicBezTo>
                  <a:pt x="14337" y="11733"/>
                  <a:pt x="14337" y="11757"/>
                  <a:pt x="14337" y="11782"/>
                </a:cubicBezTo>
              </a:path>
              <a:path w="3672" h="1960">
                <a:moveTo>
                  <a:pt x="13990" y="11931"/>
                </a:moveTo>
                <a:cubicBezTo>
                  <a:pt x="14167" y="11931"/>
                  <a:pt x="14363" y="11938"/>
                  <a:pt x="14536" y="11906"/>
                </a:cubicBezTo>
                <a:cubicBezTo>
                  <a:pt x="14576" y="11886"/>
                  <a:pt x="14592" y="11867"/>
                  <a:pt x="14585" y="11906"/>
                </a:cubicBezTo>
              </a:path>
              <a:path w="3672" h="1960">
                <a:moveTo>
                  <a:pt x="14114" y="12254"/>
                </a:moveTo>
                <a:cubicBezTo>
                  <a:pt x="14184" y="12198"/>
                  <a:pt x="14271" y="12184"/>
                  <a:pt x="14362" y="12204"/>
                </a:cubicBezTo>
                <a:cubicBezTo>
                  <a:pt x="14379" y="12212"/>
                  <a:pt x="14395" y="12221"/>
                  <a:pt x="14412" y="12229"/>
                </a:cubicBezTo>
                <a:cubicBezTo>
                  <a:pt x="14439" y="12370"/>
                  <a:pt x="14387" y="12424"/>
                  <a:pt x="14263" y="12502"/>
                </a:cubicBezTo>
                <a:cubicBezTo>
                  <a:pt x="14246" y="12510"/>
                  <a:pt x="14230" y="12518"/>
                  <a:pt x="14213" y="12526"/>
                </a:cubicBezTo>
                <a:cubicBezTo>
                  <a:pt x="14237" y="12456"/>
                  <a:pt x="14370" y="12483"/>
                  <a:pt x="14436" y="12502"/>
                </a:cubicBezTo>
                <a:cubicBezTo>
                  <a:pt x="14560" y="12538"/>
                  <a:pt x="14663" y="12660"/>
                  <a:pt x="14585" y="12799"/>
                </a:cubicBezTo>
                <a:cubicBezTo>
                  <a:pt x="14508" y="12935"/>
                  <a:pt x="14310" y="12911"/>
                  <a:pt x="14188" y="12898"/>
                </a:cubicBezTo>
                <a:cubicBezTo>
                  <a:pt x="14180" y="12898"/>
                  <a:pt x="14171" y="12898"/>
                  <a:pt x="14163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38320" y="5160960"/>
            <a:ext cx="714600" cy="1357200"/>
          </a:xfrm>
          <a:custGeom>
            <a:avLst/>
            <a:gdLst/>
            <a:ahLst/>
            <a:rect l="l" t="t" r="r" b="b"/>
            <a:pathLst>
              <a:path w="1985" h="3771">
                <a:moveTo>
                  <a:pt x="9054" y="16247"/>
                </a:moveTo>
                <a:cubicBezTo>
                  <a:pt x="8968" y="16294"/>
                  <a:pt x="8725" y="16397"/>
                  <a:pt x="8806" y="16545"/>
                </a:cubicBezTo>
                <a:cubicBezTo>
                  <a:pt x="8888" y="16694"/>
                  <a:pt x="8965" y="16656"/>
                  <a:pt x="9004" y="16842"/>
                </a:cubicBezTo>
                <a:cubicBezTo>
                  <a:pt x="8952" y="16920"/>
                  <a:pt x="8931" y="16946"/>
                  <a:pt x="8855" y="16942"/>
                </a:cubicBezTo>
                <a:cubicBezTo>
                  <a:pt x="8784" y="16727"/>
                  <a:pt x="8881" y="16613"/>
                  <a:pt x="9004" y="16421"/>
                </a:cubicBezTo>
                <a:cubicBezTo>
                  <a:pt x="9069" y="16319"/>
                  <a:pt x="9086" y="16322"/>
                  <a:pt x="8979" y="16346"/>
                </a:cubicBezTo>
              </a:path>
              <a:path w="1985" h="3771">
                <a:moveTo>
                  <a:pt x="8706" y="17140"/>
                </a:moveTo>
                <a:cubicBezTo>
                  <a:pt x="8691" y="16951"/>
                  <a:pt x="8666" y="16757"/>
                  <a:pt x="8632" y="16570"/>
                </a:cubicBezTo>
                <a:cubicBezTo>
                  <a:pt x="8597" y="16381"/>
                  <a:pt x="8598" y="16442"/>
                  <a:pt x="8781" y="16297"/>
                </a:cubicBezTo>
                <a:cubicBezTo>
                  <a:pt x="8977" y="16141"/>
                  <a:pt x="9101" y="16064"/>
                  <a:pt x="9351" y="16049"/>
                </a:cubicBezTo>
                <a:cubicBezTo>
                  <a:pt x="9458" y="16043"/>
                  <a:pt x="9377" y="16073"/>
                  <a:pt x="9351" y="16098"/>
                </a:cubicBezTo>
              </a:path>
              <a:path w="1985" h="3771">
                <a:moveTo>
                  <a:pt x="8235" y="16818"/>
                </a:moveTo>
                <a:cubicBezTo>
                  <a:pt x="8291" y="16770"/>
                  <a:pt x="8346" y="16731"/>
                  <a:pt x="8409" y="16694"/>
                </a:cubicBezTo>
                <a:cubicBezTo>
                  <a:pt x="8409" y="16833"/>
                  <a:pt x="8372" y="16885"/>
                  <a:pt x="8285" y="16991"/>
                </a:cubicBezTo>
                <a:cubicBezTo>
                  <a:pt x="8381" y="16991"/>
                  <a:pt x="8538" y="16984"/>
                  <a:pt x="8483" y="17140"/>
                </a:cubicBezTo>
                <a:cubicBezTo>
                  <a:pt x="8452" y="17229"/>
                  <a:pt x="8247" y="17378"/>
                  <a:pt x="8161" y="17264"/>
                </a:cubicBezTo>
                <a:cubicBezTo>
                  <a:pt x="8161" y="17205"/>
                  <a:pt x="8164" y="17179"/>
                  <a:pt x="8186" y="17140"/>
                </a:cubicBezTo>
              </a:path>
              <a:path w="1985" h="3771">
                <a:moveTo>
                  <a:pt x="8706" y="15801"/>
                </a:moveTo>
                <a:cubicBezTo>
                  <a:pt x="8697" y="15810"/>
                  <a:pt x="8616" y="15891"/>
                  <a:pt x="8682" y="15825"/>
                </a:cubicBezTo>
                <a:cubicBezTo>
                  <a:pt x="8752" y="15713"/>
                  <a:pt x="8852" y="15681"/>
                  <a:pt x="8830" y="15900"/>
                </a:cubicBezTo>
                <a:cubicBezTo>
                  <a:pt x="8818" y="16022"/>
                  <a:pt x="8741" y="16099"/>
                  <a:pt x="8682" y="16197"/>
                </a:cubicBezTo>
                <a:cubicBezTo>
                  <a:pt x="8637" y="16119"/>
                  <a:pt x="8590" y="15996"/>
                  <a:pt x="8756" y="16049"/>
                </a:cubicBezTo>
                <a:cubicBezTo>
                  <a:pt x="8870" y="16085"/>
                  <a:pt x="8797" y="16137"/>
                  <a:pt x="8855" y="16098"/>
                </a:cubicBezTo>
              </a:path>
              <a:path w="1985" h="3771">
                <a:moveTo>
                  <a:pt x="8954" y="17140"/>
                </a:moveTo>
                <a:cubicBezTo>
                  <a:pt x="8980" y="17062"/>
                  <a:pt x="8960" y="17164"/>
                  <a:pt x="8954" y="17190"/>
                </a:cubicBezTo>
                <a:cubicBezTo>
                  <a:pt x="8940" y="17248"/>
                  <a:pt x="8891" y="17438"/>
                  <a:pt x="8954" y="17462"/>
                </a:cubicBezTo>
                <a:cubicBezTo>
                  <a:pt x="9104" y="17521"/>
                  <a:pt x="9173" y="17386"/>
                  <a:pt x="9227" y="17264"/>
                </a:cubicBezTo>
                <a:cubicBezTo>
                  <a:pt x="9234" y="17247"/>
                  <a:pt x="9137" y="17344"/>
                  <a:pt x="9128" y="17438"/>
                </a:cubicBezTo>
              </a:path>
              <a:path w="1985" h="3771">
                <a:moveTo>
                  <a:pt x="8682" y="17438"/>
                </a:moveTo>
                <a:cubicBezTo>
                  <a:pt x="8775" y="17391"/>
                  <a:pt x="8802" y="17379"/>
                  <a:pt x="8855" y="17338"/>
                </a:cubicBezTo>
              </a:path>
              <a:path w="1985" h="3771">
                <a:moveTo>
                  <a:pt x="8756" y="17686"/>
                </a:moveTo>
                <a:cubicBezTo>
                  <a:pt x="8918" y="17617"/>
                  <a:pt x="9084" y="17512"/>
                  <a:pt x="9252" y="17462"/>
                </a:cubicBezTo>
                <a:cubicBezTo>
                  <a:pt x="9302" y="17462"/>
                  <a:pt x="9318" y="17462"/>
                  <a:pt x="9351" y="17462"/>
                </a:cubicBezTo>
              </a:path>
              <a:path w="1985" h="3771">
                <a:moveTo>
                  <a:pt x="9128" y="17760"/>
                </a:moveTo>
                <a:cubicBezTo>
                  <a:pt x="9018" y="17788"/>
                  <a:pt x="9109" y="17716"/>
                  <a:pt x="9178" y="17711"/>
                </a:cubicBezTo>
                <a:cubicBezTo>
                  <a:pt x="9211" y="17719"/>
                  <a:pt x="9244" y="17727"/>
                  <a:pt x="9277" y="17735"/>
                </a:cubicBezTo>
                <a:cubicBezTo>
                  <a:pt x="9277" y="17920"/>
                  <a:pt x="9258" y="18047"/>
                  <a:pt x="9079" y="18107"/>
                </a:cubicBezTo>
                <a:cubicBezTo>
                  <a:pt x="9070" y="17990"/>
                  <a:pt x="9089" y="17862"/>
                  <a:pt x="9252" y="17884"/>
                </a:cubicBezTo>
                <a:cubicBezTo>
                  <a:pt x="9296" y="17906"/>
                  <a:pt x="9308" y="17919"/>
                  <a:pt x="9327" y="17884"/>
                </a:cubicBezTo>
              </a:path>
              <a:path w="1985" h="3771">
                <a:moveTo>
                  <a:pt x="9277" y="14908"/>
                </a:moveTo>
                <a:cubicBezTo>
                  <a:pt x="9343" y="14969"/>
                  <a:pt x="9350" y="14807"/>
                  <a:pt x="9426" y="14759"/>
                </a:cubicBezTo>
                <a:cubicBezTo>
                  <a:pt x="9518" y="15038"/>
                  <a:pt x="9551" y="15282"/>
                  <a:pt x="9302" y="15503"/>
                </a:cubicBezTo>
                <a:cubicBezTo>
                  <a:pt x="9285" y="15503"/>
                  <a:pt x="9269" y="15503"/>
                  <a:pt x="9252" y="15503"/>
                </a:cubicBezTo>
                <a:cubicBezTo>
                  <a:pt x="9290" y="15343"/>
                  <a:pt x="9359" y="15184"/>
                  <a:pt x="9550" y="15329"/>
                </a:cubicBezTo>
                <a:cubicBezTo>
                  <a:pt x="9572" y="15373"/>
                  <a:pt x="9585" y="15385"/>
                  <a:pt x="9550" y="15404"/>
                </a:cubicBezTo>
              </a:path>
              <a:path w="1985" h="3771">
                <a:moveTo>
                  <a:pt x="9624" y="14461"/>
                </a:moveTo>
                <a:cubicBezTo>
                  <a:pt x="9640" y="14414"/>
                  <a:pt x="9665" y="14377"/>
                  <a:pt x="9699" y="14337"/>
                </a:cubicBezTo>
                <a:cubicBezTo>
                  <a:pt x="9770" y="14518"/>
                  <a:pt x="9741" y="14610"/>
                  <a:pt x="9649" y="14784"/>
                </a:cubicBezTo>
                <a:cubicBezTo>
                  <a:pt x="9622" y="14703"/>
                  <a:pt x="9668" y="14652"/>
                  <a:pt x="9773" y="14660"/>
                </a:cubicBezTo>
                <a:cubicBezTo>
                  <a:pt x="9840" y="14682"/>
                  <a:pt x="9858" y="14686"/>
                  <a:pt x="9897" y="14709"/>
                </a:cubicBezTo>
              </a:path>
              <a:path w="1985" h="3771">
                <a:moveTo>
                  <a:pt x="9649" y="15007"/>
                </a:moveTo>
                <a:cubicBezTo>
                  <a:pt x="9755" y="14925"/>
                  <a:pt x="9856" y="14851"/>
                  <a:pt x="9971" y="14784"/>
                </a:cubicBezTo>
              </a:path>
              <a:path w="1985" h="3771">
                <a:moveTo>
                  <a:pt x="9773" y="15106"/>
                </a:moveTo>
                <a:cubicBezTo>
                  <a:pt x="9837" y="15106"/>
                  <a:pt x="9949" y="15040"/>
                  <a:pt x="9996" y="15056"/>
                </a:cubicBezTo>
                <a:cubicBezTo>
                  <a:pt x="10106" y="15093"/>
                  <a:pt x="9938" y="15259"/>
                  <a:pt x="9922" y="15280"/>
                </a:cubicBezTo>
                <a:cubicBezTo>
                  <a:pt x="9905" y="15288"/>
                  <a:pt x="9889" y="15296"/>
                  <a:pt x="9872" y="15304"/>
                </a:cubicBezTo>
                <a:cubicBezTo>
                  <a:pt x="9951" y="15293"/>
                  <a:pt x="10125" y="15215"/>
                  <a:pt x="10145" y="15354"/>
                </a:cubicBezTo>
                <a:cubicBezTo>
                  <a:pt x="10177" y="15573"/>
                  <a:pt x="9951" y="15538"/>
                  <a:pt x="9823" y="1555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27320" y="5187960"/>
            <a:ext cx="830520" cy="482760"/>
          </a:xfrm>
          <a:custGeom>
            <a:avLst/>
            <a:gdLst/>
            <a:ahLst/>
            <a:rect l="l" t="t" r="r" b="b"/>
            <a:pathLst>
              <a:path w="2308" h="1340">
                <a:moveTo>
                  <a:pt x="11410" y="14709"/>
                </a:moveTo>
                <a:cubicBezTo>
                  <a:pt x="11425" y="14860"/>
                  <a:pt x="11435" y="15003"/>
                  <a:pt x="11435" y="15156"/>
                </a:cubicBezTo>
              </a:path>
              <a:path w="2308" h="1340">
                <a:moveTo>
                  <a:pt x="11187" y="15081"/>
                </a:moveTo>
                <a:cubicBezTo>
                  <a:pt x="11360" y="15040"/>
                  <a:pt x="11531" y="15004"/>
                  <a:pt x="11708" y="14982"/>
                </a:cubicBezTo>
              </a:path>
              <a:path w="2308" h="1340">
                <a:moveTo>
                  <a:pt x="11385" y="15255"/>
                </a:moveTo>
                <a:cubicBezTo>
                  <a:pt x="11435" y="15189"/>
                  <a:pt x="11559" y="15056"/>
                  <a:pt x="11633" y="15180"/>
                </a:cubicBezTo>
                <a:cubicBezTo>
                  <a:pt x="11731" y="15344"/>
                  <a:pt x="11478" y="15586"/>
                  <a:pt x="11385" y="15701"/>
                </a:cubicBezTo>
                <a:cubicBezTo>
                  <a:pt x="11377" y="15709"/>
                  <a:pt x="11369" y="15718"/>
                  <a:pt x="11361" y="15726"/>
                </a:cubicBezTo>
                <a:cubicBezTo>
                  <a:pt x="11488" y="15680"/>
                  <a:pt x="11624" y="15632"/>
                  <a:pt x="11757" y="15602"/>
                </a:cubicBezTo>
                <a:cubicBezTo>
                  <a:pt x="11765" y="15602"/>
                  <a:pt x="11774" y="15602"/>
                  <a:pt x="11782" y="15602"/>
                </a:cubicBezTo>
              </a:path>
              <a:path w="2308" h="1340">
                <a:moveTo>
                  <a:pt x="12154" y="15032"/>
                </a:moveTo>
                <a:cubicBezTo>
                  <a:pt x="12280" y="15083"/>
                  <a:pt x="12414" y="15130"/>
                  <a:pt x="12452" y="15280"/>
                </a:cubicBezTo>
                <a:cubicBezTo>
                  <a:pt x="12452" y="15288"/>
                  <a:pt x="12452" y="15296"/>
                  <a:pt x="12452" y="15304"/>
                </a:cubicBezTo>
              </a:path>
              <a:path w="2308" h="1340">
                <a:moveTo>
                  <a:pt x="12402" y="15007"/>
                </a:moveTo>
                <a:cubicBezTo>
                  <a:pt x="12362" y="15107"/>
                  <a:pt x="12323" y="15206"/>
                  <a:pt x="12278" y="15304"/>
                </a:cubicBezTo>
              </a:path>
              <a:path w="2308" h="1340">
                <a:moveTo>
                  <a:pt x="12923" y="14461"/>
                </a:moveTo>
                <a:cubicBezTo>
                  <a:pt x="12978" y="14601"/>
                  <a:pt x="12998" y="14705"/>
                  <a:pt x="12998" y="14858"/>
                </a:cubicBezTo>
              </a:path>
              <a:path w="2308" h="1340">
                <a:moveTo>
                  <a:pt x="13196" y="14412"/>
                </a:moveTo>
                <a:cubicBezTo>
                  <a:pt x="13196" y="14531"/>
                  <a:pt x="13141" y="14785"/>
                  <a:pt x="13246" y="14858"/>
                </a:cubicBezTo>
                <a:cubicBezTo>
                  <a:pt x="13331" y="14917"/>
                  <a:pt x="13433" y="14792"/>
                  <a:pt x="13469" y="14734"/>
                </a:cubicBezTo>
                <a:cubicBezTo>
                  <a:pt x="13469" y="14709"/>
                  <a:pt x="13469" y="14701"/>
                  <a:pt x="13469" y="14684"/>
                </a:cubicBezTo>
                <a:cubicBezTo>
                  <a:pt x="13351" y="14714"/>
                  <a:pt x="13334" y="14788"/>
                  <a:pt x="13320" y="14908"/>
                </a:cubicBezTo>
                <a:cubicBezTo>
                  <a:pt x="13320" y="14916"/>
                  <a:pt x="13320" y="14924"/>
                  <a:pt x="13320" y="14932"/>
                </a:cubicBezTo>
              </a:path>
              <a:path w="2308" h="1340">
                <a:moveTo>
                  <a:pt x="12948" y="15081"/>
                </a:moveTo>
                <a:cubicBezTo>
                  <a:pt x="13083" y="15045"/>
                  <a:pt x="13360" y="14923"/>
                  <a:pt x="13494" y="14957"/>
                </a:cubicBezTo>
                <a:cubicBezTo>
                  <a:pt x="13494" y="14982"/>
                  <a:pt x="13494" y="14990"/>
                  <a:pt x="13494" y="15007"/>
                </a:cubicBezTo>
              </a:path>
              <a:path w="2308" h="1340">
                <a:moveTo>
                  <a:pt x="13122" y="15280"/>
                </a:moveTo>
                <a:cubicBezTo>
                  <a:pt x="13209" y="15255"/>
                  <a:pt x="13254" y="15241"/>
                  <a:pt x="13345" y="15230"/>
                </a:cubicBezTo>
                <a:cubicBezTo>
                  <a:pt x="13365" y="15362"/>
                  <a:pt x="13347" y="15447"/>
                  <a:pt x="13221" y="15528"/>
                </a:cubicBezTo>
                <a:cubicBezTo>
                  <a:pt x="13213" y="15528"/>
                  <a:pt x="13204" y="15528"/>
                  <a:pt x="13196" y="15528"/>
                </a:cubicBezTo>
                <a:cubicBezTo>
                  <a:pt x="13307" y="15506"/>
                  <a:pt x="13356" y="15447"/>
                  <a:pt x="13469" y="15528"/>
                </a:cubicBezTo>
                <a:cubicBezTo>
                  <a:pt x="13477" y="15544"/>
                  <a:pt x="13486" y="15561"/>
                  <a:pt x="13494" y="15577"/>
                </a:cubicBezTo>
                <a:cubicBezTo>
                  <a:pt x="13385" y="15708"/>
                  <a:pt x="13282" y="15796"/>
                  <a:pt x="13097" y="15726"/>
                </a:cubicBezTo>
                <a:cubicBezTo>
                  <a:pt x="13056" y="15701"/>
                  <a:pt x="13014" y="15677"/>
                  <a:pt x="12973" y="15652"/>
                </a:cubicBezTo>
              </a:path>
              <a:path w="2308" h="1340">
                <a:moveTo>
                  <a:pt x="11385" y="14536"/>
                </a:moveTo>
                <a:cubicBezTo>
                  <a:pt x="11385" y="14511"/>
                  <a:pt x="11385" y="14503"/>
                  <a:pt x="11385" y="14486"/>
                </a:cubicBezTo>
                <a:cubicBezTo>
                  <a:pt x="11400" y="14617"/>
                  <a:pt x="11423" y="14751"/>
                  <a:pt x="11435" y="14883"/>
                </a:cubicBezTo>
                <a:cubicBezTo>
                  <a:pt x="11439" y="14922"/>
                  <a:pt x="11435" y="14967"/>
                  <a:pt x="11435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16680" y="5106960"/>
            <a:ext cx="661680" cy="501840"/>
          </a:xfrm>
          <a:custGeom>
            <a:avLst/>
            <a:gdLst/>
            <a:ahLst/>
            <a:rect l="l" t="t" r="r" b="b"/>
            <a:pathLst>
              <a:path w="1837" h="1390">
                <a:moveTo>
                  <a:pt x="14337" y="14908"/>
                </a:moveTo>
                <a:cubicBezTo>
                  <a:pt x="14309" y="14908"/>
                  <a:pt x="14298" y="14906"/>
                  <a:pt x="14288" y="14883"/>
                </a:cubicBezTo>
                <a:cubicBezTo>
                  <a:pt x="14379" y="14852"/>
                  <a:pt x="14503" y="14800"/>
                  <a:pt x="14560" y="14858"/>
                </a:cubicBezTo>
              </a:path>
              <a:path w="1837" h="1390">
                <a:moveTo>
                  <a:pt x="14213" y="15106"/>
                </a:moveTo>
                <a:cubicBezTo>
                  <a:pt x="14322" y="15082"/>
                  <a:pt x="14429" y="15051"/>
                  <a:pt x="14536" y="15032"/>
                </a:cubicBezTo>
              </a:path>
              <a:path w="1837" h="1390">
                <a:moveTo>
                  <a:pt x="15230" y="14263"/>
                </a:moveTo>
                <a:cubicBezTo>
                  <a:pt x="15269" y="14418"/>
                  <a:pt x="15321" y="14566"/>
                  <a:pt x="15304" y="14734"/>
                </a:cubicBezTo>
                <a:cubicBezTo>
                  <a:pt x="15286" y="14791"/>
                  <a:pt x="15278" y="14834"/>
                  <a:pt x="15280" y="14784"/>
                </a:cubicBezTo>
              </a:path>
              <a:path w="1837" h="1390">
                <a:moveTo>
                  <a:pt x="15553" y="14188"/>
                </a:moveTo>
                <a:cubicBezTo>
                  <a:pt x="15541" y="14322"/>
                  <a:pt x="15457" y="14506"/>
                  <a:pt x="15528" y="14635"/>
                </a:cubicBezTo>
                <a:cubicBezTo>
                  <a:pt x="15606" y="14777"/>
                  <a:pt x="15868" y="14693"/>
                  <a:pt x="15949" y="14610"/>
                </a:cubicBezTo>
                <a:cubicBezTo>
                  <a:pt x="16031" y="14525"/>
                  <a:pt x="15989" y="14513"/>
                  <a:pt x="15974" y="14436"/>
                </a:cubicBezTo>
                <a:cubicBezTo>
                  <a:pt x="15860" y="14471"/>
                  <a:pt x="15848" y="14566"/>
                  <a:pt x="15776" y="14684"/>
                </a:cubicBezTo>
              </a:path>
              <a:path w="1837" h="1390">
                <a:moveTo>
                  <a:pt x="15180" y="15007"/>
                </a:moveTo>
                <a:cubicBezTo>
                  <a:pt x="15346" y="14952"/>
                  <a:pt x="15521" y="14899"/>
                  <a:pt x="15701" y="14858"/>
                </a:cubicBezTo>
                <a:cubicBezTo>
                  <a:pt x="15811" y="14833"/>
                  <a:pt x="15935" y="14800"/>
                  <a:pt x="16049" y="14784"/>
                </a:cubicBezTo>
              </a:path>
              <a:path w="1837" h="1390">
                <a:moveTo>
                  <a:pt x="15404" y="15131"/>
                </a:moveTo>
                <a:cubicBezTo>
                  <a:pt x="15427" y="15108"/>
                  <a:pt x="15435" y="15104"/>
                  <a:pt x="15429" y="15081"/>
                </a:cubicBezTo>
                <a:cubicBezTo>
                  <a:pt x="15456" y="15179"/>
                  <a:pt x="15395" y="15249"/>
                  <a:pt x="15379" y="15354"/>
                </a:cubicBezTo>
                <a:cubicBezTo>
                  <a:pt x="15373" y="15392"/>
                  <a:pt x="15367" y="15532"/>
                  <a:pt x="15404" y="15553"/>
                </a:cubicBezTo>
                <a:cubicBezTo>
                  <a:pt x="15510" y="15612"/>
                  <a:pt x="15637" y="15569"/>
                  <a:pt x="15726" y="15503"/>
                </a:cubicBezTo>
                <a:cubicBezTo>
                  <a:pt x="15763" y="15475"/>
                  <a:pt x="15854" y="15382"/>
                  <a:pt x="15850" y="15329"/>
                </a:cubicBezTo>
                <a:cubicBezTo>
                  <a:pt x="15828" y="15307"/>
                  <a:pt x="15819" y="15302"/>
                  <a:pt x="15825" y="15280"/>
                </a:cubicBezTo>
                <a:cubicBezTo>
                  <a:pt x="15760" y="15258"/>
                  <a:pt x="15707" y="15232"/>
                  <a:pt x="15652" y="15280"/>
                </a:cubicBezTo>
                <a:cubicBezTo>
                  <a:pt x="15589" y="15335"/>
                  <a:pt x="15602" y="15428"/>
                  <a:pt x="15602" y="15503"/>
                </a:cubicBezTo>
                <a:cubicBezTo>
                  <a:pt x="15602" y="15528"/>
                  <a:pt x="15602" y="15536"/>
                  <a:pt x="15627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15040" y="4152960"/>
            <a:ext cx="2179800" cy="1839960"/>
          </a:xfrm>
          <a:custGeom>
            <a:avLst/>
            <a:gdLst/>
            <a:ahLst/>
            <a:rect l="l" t="t" r="r" b="b"/>
            <a:pathLst>
              <a:path w="6053" h="5111">
                <a:moveTo>
                  <a:pt x="17314" y="16346"/>
                </a:moveTo>
                <a:cubicBezTo>
                  <a:pt x="17293" y="16512"/>
                  <a:pt x="17293" y="16547"/>
                  <a:pt x="17264" y="16644"/>
                </a:cubicBezTo>
              </a:path>
              <a:path w="6053" h="5111">
                <a:moveTo>
                  <a:pt x="18281" y="14288"/>
                </a:moveTo>
                <a:cubicBezTo>
                  <a:pt x="18281" y="14263"/>
                  <a:pt x="18281" y="14255"/>
                  <a:pt x="18306" y="14263"/>
                </a:cubicBezTo>
              </a:path>
              <a:path w="6053" h="5111">
                <a:moveTo>
                  <a:pt x="18281" y="14263"/>
                </a:moveTo>
                <a:lnTo>
                  <a:pt x="18281" y="14263"/>
                </a:lnTo>
              </a:path>
              <a:path w="6053" h="5111">
                <a:moveTo>
                  <a:pt x="18281" y="14312"/>
                </a:moveTo>
                <a:cubicBezTo>
                  <a:pt x="18290" y="14474"/>
                  <a:pt x="18250" y="14680"/>
                  <a:pt x="18281" y="14833"/>
                </a:cubicBezTo>
                <a:cubicBezTo>
                  <a:pt x="18289" y="14841"/>
                  <a:pt x="18298" y="14850"/>
                  <a:pt x="18306" y="14858"/>
                </a:cubicBezTo>
              </a:path>
              <a:path w="6053" h="5111">
                <a:moveTo>
                  <a:pt x="18604" y="14238"/>
                </a:moveTo>
                <a:cubicBezTo>
                  <a:pt x="18604" y="14359"/>
                  <a:pt x="18590" y="14466"/>
                  <a:pt x="18579" y="14585"/>
                </a:cubicBezTo>
                <a:cubicBezTo>
                  <a:pt x="18575" y="14629"/>
                  <a:pt x="18589" y="14745"/>
                  <a:pt x="18653" y="14759"/>
                </a:cubicBezTo>
                <a:cubicBezTo>
                  <a:pt x="18771" y="14784"/>
                  <a:pt x="18839" y="14756"/>
                  <a:pt x="18901" y="14660"/>
                </a:cubicBezTo>
                <a:cubicBezTo>
                  <a:pt x="18925" y="14612"/>
                  <a:pt x="18933" y="14597"/>
                  <a:pt x="18926" y="14560"/>
                </a:cubicBezTo>
                <a:cubicBezTo>
                  <a:pt x="18835" y="14551"/>
                  <a:pt x="18710" y="14606"/>
                  <a:pt x="18703" y="14734"/>
                </a:cubicBezTo>
                <a:cubicBezTo>
                  <a:pt x="18711" y="14742"/>
                  <a:pt x="18720" y="14751"/>
                  <a:pt x="18728" y="14759"/>
                </a:cubicBezTo>
              </a:path>
              <a:path w="6053" h="5111">
                <a:moveTo>
                  <a:pt x="18107" y="15106"/>
                </a:moveTo>
                <a:cubicBezTo>
                  <a:pt x="18099" y="15004"/>
                  <a:pt x="18075" y="14910"/>
                  <a:pt x="18058" y="14808"/>
                </a:cubicBezTo>
                <a:cubicBezTo>
                  <a:pt x="18025" y="14610"/>
                  <a:pt x="18061" y="14405"/>
                  <a:pt x="18008" y="14213"/>
                </a:cubicBezTo>
                <a:cubicBezTo>
                  <a:pt x="18008" y="14185"/>
                  <a:pt x="18006" y="14174"/>
                  <a:pt x="17983" y="14163"/>
                </a:cubicBezTo>
                <a:cubicBezTo>
                  <a:pt x="18279" y="14075"/>
                  <a:pt x="18596" y="14103"/>
                  <a:pt x="18901" y="14064"/>
                </a:cubicBezTo>
                <a:cubicBezTo>
                  <a:pt x="19045" y="14046"/>
                  <a:pt x="19180" y="14003"/>
                  <a:pt x="19323" y="13990"/>
                </a:cubicBezTo>
              </a:path>
              <a:path w="6053" h="5111">
                <a:moveTo>
                  <a:pt x="17462" y="14362"/>
                </a:moveTo>
                <a:cubicBezTo>
                  <a:pt x="17421" y="14348"/>
                  <a:pt x="17360" y="14578"/>
                  <a:pt x="17338" y="14660"/>
                </a:cubicBezTo>
                <a:cubicBezTo>
                  <a:pt x="17319" y="14731"/>
                  <a:pt x="17263" y="14961"/>
                  <a:pt x="17363" y="15007"/>
                </a:cubicBezTo>
                <a:cubicBezTo>
                  <a:pt x="17502" y="15071"/>
                  <a:pt x="17650" y="14966"/>
                  <a:pt x="17735" y="14858"/>
                </a:cubicBezTo>
                <a:cubicBezTo>
                  <a:pt x="17793" y="14784"/>
                  <a:pt x="17785" y="14741"/>
                  <a:pt x="17785" y="14660"/>
                </a:cubicBezTo>
                <a:cubicBezTo>
                  <a:pt x="17649" y="14679"/>
                  <a:pt x="17587" y="14715"/>
                  <a:pt x="17562" y="14858"/>
                </a:cubicBezTo>
                <a:cubicBezTo>
                  <a:pt x="17562" y="14932"/>
                  <a:pt x="17562" y="14941"/>
                  <a:pt x="17562" y="14982"/>
                </a:cubicBezTo>
              </a:path>
              <a:path w="6053" h="5111">
                <a:moveTo>
                  <a:pt x="18703" y="13419"/>
                </a:moveTo>
                <a:cubicBezTo>
                  <a:pt x="18721" y="13366"/>
                  <a:pt x="18721" y="13424"/>
                  <a:pt x="18703" y="13370"/>
                </a:cubicBezTo>
              </a:path>
              <a:path w="6053" h="5111">
                <a:moveTo>
                  <a:pt x="18703" y="13395"/>
                </a:moveTo>
                <a:lnTo>
                  <a:pt x="18703" y="13395"/>
                </a:lnTo>
              </a:path>
              <a:path w="6053" h="5111">
                <a:moveTo>
                  <a:pt x="18653" y="13444"/>
                </a:moveTo>
                <a:cubicBezTo>
                  <a:pt x="18653" y="13499"/>
                  <a:pt x="18689" y="13373"/>
                  <a:pt x="18703" y="13345"/>
                </a:cubicBezTo>
                <a:cubicBezTo>
                  <a:pt x="18735" y="13281"/>
                  <a:pt x="18779" y="13257"/>
                  <a:pt x="18802" y="13271"/>
                </a:cubicBezTo>
                <a:cubicBezTo>
                  <a:pt x="18894" y="13328"/>
                  <a:pt x="18887" y="13449"/>
                  <a:pt x="18827" y="13543"/>
                </a:cubicBezTo>
                <a:cubicBezTo>
                  <a:pt x="18744" y="13673"/>
                  <a:pt x="18636" y="13789"/>
                  <a:pt x="18579" y="13940"/>
                </a:cubicBezTo>
                <a:cubicBezTo>
                  <a:pt x="18558" y="14024"/>
                  <a:pt x="18556" y="14043"/>
                  <a:pt x="18529" y="14089"/>
                </a:cubicBezTo>
                <a:cubicBezTo>
                  <a:pt x="18547" y="14000"/>
                  <a:pt x="18613" y="13941"/>
                  <a:pt x="18653" y="13866"/>
                </a:cubicBezTo>
                <a:cubicBezTo>
                  <a:pt x="18653" y="13858"/>
                  <a:pt x="18653" y="13849"/>
                  <a:pt x="18653" y="13841"/>
                </a:cubicBezTo>
                <a:cubicBezTo>
                  <a:pt x="18699" y="13852"/>
                  <a:pt x="18787" y="13942"/>
                  <a:pt x="18827" y="13940"/>
                </a:cubicBezTo>
                <a:cubicBezTo>
                  <a:pt x="18904" y="13921"/>
                  <a:pt x="18921" y="13928"/>
                  <a:pt x="18951" y="13891"/>
                </a:cubicBezTo>
              </a:path>
              <a:path w="6053" h="5111">
                <a:moveTo>
                  <a:pt x="18281" y="15131"/>
                </a:moveTo>
                <a:cubicBezTo>
                  <a:pt x="18331" y="15032"/>
                  <a:pt x="18306" y="15293"/>
                  <a:pt x="18306" y="15404"/>
                </a:cubicBezTo>
                <a:cubicBezTo>
                  <a:pt x="18306" y="15495"/>
                  <a:pt x="18306" y="15668"/>
                  <a:pt x="18306" y="15577"/>
                </a:cubicBezTo>
              </a:path>
              <a:path w="6053" h="5111">
                <a:moveTo>
                  <a:pt x="18554" y="15106"/>
                </a:moveTo>
                <a:cubicBezTo>
                  <a:pt x="18586" y="15028"/>
                  <a:pt x="18659" y="15007"/>
                  <a:pt x="18728" y="14957"/>
                </a:cubicBezTo>
                <a:cubicBezTo>
                  <a:pt x="18850" y="15116"/>
                  <a:pt x="18749" y="15227"/>
                  <a:pt x="18678" y="15404"/>
                </a:cubicBezTo>
                <a:cubicBezTo>
                  <a:pt x="18642" y="15494"/>
                  <a:pt x="18625" y="15499"/>
                  <a:pt x="18628" y="15553"/>
                </a:cubicBezTo>
                <a:cubicBezTo>
                  <a:pt x="18730" y="15434"/>
                  <a:pt x="18746" y="15391"/>
                  <a:pt x="18901" y="15379"/>
                </a:cubicBezTo>
                <a:cubicBezTo>
                  <a:pt x="18979" y="15373"/>
                  <a:pt x="18963" y="15404"/>
                  <a:pt x="18976" y="15329"/>
                </a:cubicBezTo>
              </a:path>
              <a:path w="6053" h="5111">
                <a:moveTo>
                  <a:pt x="17835" y="15528"/>
                </a:moveTo>
                <a:cubicBezTo>
                  <a:pt x="17899" y="15475"/>
                  <a:pt x="17971" y="15442"/>
                  <a:pt x="18058" y="15453"/>
                </a:cubicBezTo>
                <a:cubicBezTo>
                  <a:pt x="18091" y="15461"/>
                  <a:pt x="18124" y="15470"/>
                  <a:pt x="18157" y="15478"/>
                </a:cubicBezTo>
              </a:path>
              <a:path w="6053" h="5111">
                <a:moveTo>
                  <a:pt x="17884" y="15850"/>
                </a:moveTo>
                <a:cubicBezTo>
                  <a:pt x="18154" y="15817"/>
                  <a:pt x="18432" y="15748"/>
                  <a:pt x="18703" y="15701"/>
                </a:cubicBezTo>
                <a:cubicBezTo>
                  <a:pt x="18862" y="15674"/>
                  <a:pt x="19050" y="15639"/>
                  <a:pt x="19199" y="15602"/>
                </a:cubicBezTo>
              </a:path>
              <a:path w="6053" h="5111">
                <a:moveTo>
                  <a:pt x="18728" y="15925"/>
                </a:moveTo>
                <a:cubicBezTo>
                  <a:pt x="18728" y="15858"/>
                  <a:pt x="18728" y="16082"/>
                  <a:pt x="18728" y="16123"/>
                </a:cubicBezTo>
                <a:cubicBezTo>
                  <a:pt x="18819" y="16104"/>
                  <a:pt x="18884" y="16081"/>
                  <a:pt x="18976" y="16098"/>
                </a:cubicBezTo>
              </a:path>
              <a:path w="6053" h="5111">
                <a:moveTo>
                  <a:pt x="18951" y="15850"/>
                </a:moveTo>
                <a:cubicBezTo>
                  <a:pt x="18959" y="15976"/>
                  <a:pt x="18977" y="16102"/>
                  <a:pt x="19000" y="16222"/>
                </a:cubicBezTo>
                <a:cubicBezTo>
                  <a:pt x="19000" y="16247"/>
                  <a:pt x="19000" y="16255"/>
                  <a:pt x="19000" y="16272"/>
                </a:cubicBezTo>
                <a:cubicBezTo>
                  <a:pt x="18956" y="16257"/>
                  <a:pt x="18968" y="16221"/>
                  <a:pt x="18951" y="16148"/>
                </a:cubicBezTo>
              </a:path>
              <a:path w="6053" h="5111">
                <a:moveTo>
                  <a:pt x="19248" y="12849"/>
                </a:moveTo>
                <a:cubicBezTo>
                  <a:pt x="19283" y="12883"/>
                  <a:pt x="19273" y="12953"/>
                  <a:pt x="19273" y="13022"/>
                </a:cubicBezTo>
                <a:cubicBezTo>
                  <a:pt x="19353" y="13022"/>
                  <a:pt x="19419" y="13011"/>
                  <a:pt x="19496" y="12998"/>
                </a:cubicBezTo>
              </a:path>
              <a:path w="6053" h="5111">
                <a:moveTo>
                  <a:pt x="19496" y="12750"/>
                </a:moveTo>
                <a:cubicBezTo>
                  <a:pt x="19505" y="12916"/>
                  <a:pt x="19521" y="13078"/>
                  <a:pt x="19521" y="13246"/>
                </a:cubicBezTo>
                <a:cubicBezTo>
                  <a:pt x="19521" y="13254"/>
                  <a:pt x="19521" y="13263"/>
                  <a:pt x="19521" y="13271"/>
                </a:cubicBezTo>
              </a:path>
              <a:path w="6053" h="5111">
                <a:moveTo>
                  <a:pt x="19273" y="13395"/>
                </a:moveTo>
                <a:cubicBezTo>
                  <a:pt x="19446" y="13349"/>
                  <a:pt x="19618" y="13277"/>
                  <a:pt x="19794" y="13246"/>
                </a:cubicBezTo>
                <a:cubicBezTo>
                  <a:pt x="19811" y="13246"/>
                  <a:pt x="19827" y="13246"/>
                  <a:pt x="19844" y="13246"/>
                </a:cubicBezTo>
              </a:path>
              <a:path w="6053" h="5111">
                <a:moveTo>
                  <a:pt x="19521" y="13494"/>
                </a:moveTo>
                <a:cubicBezTo>
                  <a:pt x="19466" y="13512"/>
                  <a:pt x="19463" y="13660"/>
                  <a:pt x="19447" y="13717"/>
                </a:cubicBezTo>
                <a:cubicBezTo>
                  <a:pt x="19426" y="13794"/>
                  <a:pt x="19387" y="13910"/>
                  <a:pt x="19521" y="13915"/>
                </a:cubicBezTo>
                <a:cubicBezTo>
                  <a:pt x="19629" y="13919"/>
                  <a:pt x="19711" y="13861"/>
                  <a:pt x="19769" y="13791"/>
                </a:cubicBezTo>
                <a:cubicBezTo>
                  <a:pt x="19821" y="13729"/>
                  <a:pt x="19795" y="13676"/>
                  <a:pt x="19720" y="13667"/>
                </a:cubicBezTo>
                <a:cubicBezTo>
                  <a:pt x="19639" y="13657"/>
                  <a:pt x="19630" y="13747"/>
                  <a:pt x="19621" y="13816"/>
                </a:cubicBezTo>
                <a:cubicBezTo>
                  <a:pt x="19615" y="13864"/>
                  <a:pt x="19608" y="13903"/>
                  <a:pt x="19645" y="13915"/>
                </a:cubicBezTo>
              </a:path>
              <a:path w="6053" h="5111">
                <a:moveTo>
                  <a:pt x="19695" y="12923"/>
                </a:moveTo>
                <a:cubicBezTo>
                  <a:pt x="19764" y="12911"/>
                  <a:pt x="19835" y="12894"/>
                  <a:pt x="19869" y="12849"/>
                </a:cubicBezTo>
              </a:path>
              <a:path w="6053" h="5111">
                <a:moveTo>
                  <a:pt x="19745" y="12750"/>
                </a:moveTo>
                <a:cubicBezTo>
                  <a:pt x="19745" y="12800"/>
                  <a:pt x="19751" y="12834"/>
                  <a:pt x="19769" y="12874"/>
                </a:cubicBezTo>
              </a:path>
              <a:path w="6053" h="5111">
                <a:moveTo>
                  <a:pt x="19869" y="13047"/>
                </a:moveTo>
                <a:lnTo>
                  <a:pt x="19869" y="13047"/>
                </a:lnTo>
                <a:lnTo>
                  <a:pt x="19869" y="13047"/>
                </a:lnTo>
              </a:path>
              <a:path w="6053" h="5111">
                <a:moveTo>
                  <a:pt x="19869" y="13047"/>
                </a:moveTo>
                <a:lnTo>
                  <a:pt x="19869" y="13047"/>
                </a:lnTo>
              </a:path>
              <a:path w="6053" h="5111">
                <a:moveTo>
                  <a:pt x="19993" y="12725"/>
                </a:moveTo>
                <a:cubicBezTo>
                  <a:pt x="20065" y="12676"/>
                  <a:pt x="20039" y="12676"/>
                  <a:pt x="20117" y="12700"/>
                </a:cubicBezTo>
                <a:cubicBezTo>
                  <a:pt x="20198" y="12725"/>
                  <a:pt x="20101" y="12824"/>
                  <a:pt x="20092" y="12874"/>
                </a:cubicBezTo>
                <a:cubicBezTo>
                  <a:pt x="20092" y="12882"/>
                  <a:pt x="20092" y="12890"/>
                  <a:pt x="20092" y="12898"/>
                </a:cubicBezTo>
                <a:cubicBezTo>
                  <a:pt x="20153" y="12888"/>
                  <a:pt x="20202" y="12874"/>
                  <a:pt x="20265" y="12874"/>
                </a:cubicBezTo>
              </a:path>
              <a:path w="6053" h="5111">
                <a:moveTo>
                  <a:pt x="19993" y="13742"/>
                </a:moveTo>
                <a:cubicBezTo>
                  <a:pt x="20048" y="13756"/>
                  <a:pt x="20043" y="13760"/>
                  <a:pt x="20117" y="13767"/>
                </a:cubicBezTo>
              </a:path>
              <a:path w="6053" h="5111">
                <a:moveTo>
                  <a:pt x="20067" y="13568"/>
                </a:moveTo>
                <a:cubicBezTo>
                  <a:pt x="20021" y="13614"/>
                  <a:pt x="20013" y="13652"/>
                  <a:pt x="20042" y="13717"/>
                </a:cubicBezTo>
              </a:path>
              <a:path w="6053" h="5111">
                <a:moveTo>
                  <a:pt x="20042" y="13940"/>
                </a:moveTo>
                <a:lnTo>
                  <a:pt x="20042" y="13940"/>
                </a:lnTo>
                <a:lnTo>
                  <a:pt x="20042" y="13940"/>
                </a:lnTo>
                <a:lnTo>
                  <a:pt x="20042" y="13940"/>
                </a:lnTo>
              </a:path>
              <a:path w="6053" h="5111">
                <a:moveTo>
                  <a:pt x="20042" y="13940"/>
                </a:moveTo>
                <a:lnTo>
                  <a:pt x="20042" y="13940"/>
                </a:lnTo>
              </a:path>
              <a:path w="6053" h="5111">
                <a:moveTo>
                  <a:pt x="20216" y="13717"/>
                </a:moveTo>
                <a:cubicBezTo>
                  <a:pt x="20275" y="13669"/>
                  <a:pt x="20286" y="13674"/>
                  <a:pt x="20365" y="13667"/>
                </a:cubicBezTo>
                <a:cubicBezTo>
                  <a:pt x="20365" y="13813"/>
                  <a:pt x="20339" y="13855"/>
                  <a:pt x="20241" y="13965"/>
                </a:cubicBezTo>
                <a:cubicBezTo>
                  <a:pt x="20405" y="13965"/>
                  <a:pt x="20403" y="13898"/>
                  <a:pt x="20489" y="13767"/>
                </a:cubicBezTo>
              </a:path>
              <a:path w="6053" h="5111">
                <a:moveTo>
                  <a:pt x="20613" y="13122"/>
                </a:moveTo>
                <a:cubicBezTo>
                  <a:pt x="20674" y="13105"/>
                  <a:pt x="20701" y="13097"/>
                  <a:pt x="20762" y="13097"/>
                </a:cubicBezTo>
              </a:path>
              <a:path w="6053" h="5111">
                <a:moveTo>
                  <a:pt x="20712" y="13221"/>
                </a:moveTo>
                <a:cubicBezTo>
                  <a:pt x="20753" y="13204"/>
                  <a:pt x="20795" y="13188"/>
                  <a:pt x="20836" y="13171"/>
                </a:cubicBezTo>
              </a:path>
              <a:path w="6053" h="5111">
                <a:moveTo>
                  <a:pt x="21233" y="12725"/>
                </a:moveTo>
                <a:cubicBezTo>
                  <a:pt x="21191" y="12642"/>
                  <a:pt x="21205" y="12568"/>
                  <a:pt x="21282" y="12502"/>
                </a:cubicBezTo>
                <a:cubicBezTo>
                  <a:pt x="21399" y="12401"/>
                  <a:pt x="21533" y="12452"/>
                  <a:pt x="21605" y="12576"/>
                </a:cubicBezTo>
                <a:cubicBezTo>
                  <a:pt x="21691" y="12723"/>
                  <a:pt x="21580" y="12898"/>
                  <a:pt x="21506" y="13022"/>
                </a:cubicBezTo>
                <a:cubicBezTo>
                  <a:pt x="21388" y="13219"/>
                  <a:pt x="21291" y="13419"/>
                  <a:pt x="21183" y="13618"/>
                </a:cubicBezTo>
                <a:cubicBezTo>
                  <a:pt x="21183" y="13651"/>
                  <a:pt x="21183" y="13651"/>
                  <a:pt x="21183" y="13593"/>
                </a:cubicBezTo>
                <a:cubicBezTo>
                  <a:pt x="21236" y="13486"/>
                  <a:pt x="21285" y="13380"/>
                  <a:pt x="21332" y="13271"/>
                </a:cubicBezTo>
                <a:cubicBezTo>
                  <a:pt x="21422" y="13301"/>
                  <a:pt x="21462" y="13374"/>
                  <a:pt x="21555" y="13419"/>
                </a:cubicBezTo>
                <a:cubicBezTo>
                  <a:pt x="21625" y="13453"/>
                  <a:pt x="21910" y="13439"/>
                  <a:pt x="21828" y="13295"/>
                </a:cubicBezTo>
                <a:cubicBezTo>
                  <a:pt x="21812" y="13287"/>
                  <a:pt x="21795" y="13279"/>
                  <a:pt x="21779" y="13271"/>
                </a:cubicBezTo>
              </a:path>
              <a:path w="6053" h="5111">
                <a:moveTo>
                  <a:pt x="22027" y="12328"/>
                </a:moveTo>
                <a:cubicBezTo>
                  <a:pt x="22066" y="12298"/>
                  <a:pt x="22104" y="12280"/>
                  <a:pt x="22151" y="12254"/>
                </a:cubicBezTo>
                <a:cubicBezTo>
                  <a:pt x="22168" y="12414"/>
                  <a:pt x="22139" y="12479"/>
                  <a:pt x="22051" y="12626"/>
                </a:cubicBezTo>
                <a:cubicBezTo>
                  <a:pt x="22035" y="12651"/>
                  <a:pt x="22018" y="12675"/>
                  <a:pt x="22002" y="12700"/>
                </a:cubicBezTo>
                <a:cubicBezTo>
                  <a:pt x="22039" y="12651"/>
                  <a:pt x="22079" y="12613"/>
                  <a:pt x="22151" y="12601"/>
                </a:cubicBezTo>
                <a:cubicBezTo>
                  <a:pt x="22196" y="12594"/>
                  <a:pt x="22252" y="12601"/>
                  <a:pt x="22299" y="12601"/>
                </a:cubicBezTo>
              </a:path>
              <a:path w="6053" h="5111">
                <a:moveTo>
                  <a:pt x="21952" y="12923"/>
                </a:moveTo>
                <a:cubicBezTo>
                  <a:pt x="22094" y="12892"/>
                  <a:pt x="22255" y="12827"/>
                  <a:pt x="22399" y="12774"/>
                </a:cubicBezTo>
                <a:cubicBezTo>
                  <a:pt x="22439" y="12754"/>
                  <a:pt x="22455" y="12736"/>
                  <a:pt x="22448" y="12774"/>
                </a:cubicBezTo>
              </a:path>
              <a:path w="6053" h="5111">
                <a:moveTo>
                  <a:pt x="22101" y="13097"/>
                </a:moveTo>
                <a:cubicBezTo>
                  <a:pt x="22115" y="13056"/>
                  <a:pt x="22198" y="13020"/>
                  <a:pt x="22250" y="12998"/>
                </a:cubicBezTo>
                <a:cubicBezTo>
                  <a:pt x="22307" y="12979"/>
                  <a:pt x="22314" y="12970"/>
                  <a:pt x="22349" y="12973"/>
                </a:cubicBezTo>
                <a:cubicBezTo>
                  <a:pt x="22357" y="13081"/>
                  <a:pt x="22359" y="13164"/>
                  <a:pt x="22250" y="13196"/>
                </a:cubicBezTo>
                <a:cubicBezTo>
                  <a:pt x="22310" y="13184"/>
                  <a:pt x="22469" y="13150"/>
                  <a:pt x="22498" y="13246"/>
                </a:cubicBezTo>
                <a:cubicBezTo>
                  <a:pt x="22558" y="13447"/>
                  <a:pt x="22279" y="13457"/>
                  <a:pt x="22175" y="13444"/>
                </a:cubicBezTo>
              </a:path>
              <a:path w="6053" h="5111">
                <a:moveTo>
                  <a:pt x="21109" y="13891"/>
                </a:moveTo>
                <a:cubicBezTo>
                  <a:pt x="21117" y="13895"/>
                  <a:pt x="21186" y="13957"/>
                  <a:pt x="21208" y="13965"/>
                </a:cubicBezTo>
                <a:cubicBezTo>
                  <a:pt x="21380" y="14024"/>
                  <a:pt x="21600" y="14030"/>
                  <a:pt x="21779" y="14015"/>
                </a:cubicBezTo>
                <a:cubicBezTo>
                  <a:pt x="21983" y="13998"/>
                  <a:pt x="22211" y="13973"/>
                  <a:pt x="22399" y="13891"/>
                </a:cubicBezTo>
                <a:cubicBezTo>
                  <a:pt x="22583" y="13811"/>
                  <a:pt x="22784" y="13690"/>
                  <a:pt x="22920" y="13543"/>
                </a:cubicBezTo>
                <a:cubicBezTo>
                  <a:pt x="23107" y="13341"/>
                  <a:pt x="23221" y="13146"/>
                  <a:pt x="23267" y="12874"/>
                </a:cubicBezTo>
                <a:cubicBezTo>
                  <a:pt x="23302" y="12671"/>
                  <a:pt x="23336" y="12479"/>
                  <a:pt x="23267" y="12278"/>
                </a:cubicBezTo>
                <a:cubicBezTo>
                  <a:pt x="23212" y="12117"/>
                  <a:pt x="23048" y="11936"/>
                  <a:pt x="22920" y="11832"/>
                </a:cubicBezTo>
                <a:cubicBezTo>
                  <a:pt x="22705" y="11657"/>
                  <a:pt x="22477" y="11557"/>
                  <a:pt x="22200" y="11534"/>
                </a:cubicBezTo>
                <a:cubicBezTo>
                  <a:pt x="21972" y="11515"/>
                  <a:pt x="21666" y="11591"/>
                  <a:pt x="21456" y="11683"/>
                </a:cubicBezTo>
                <a:cubicBezTo>
                  <a:pt x="21228" y="11782"/>
                  <a:pt x="21142" y="11930"/>
                  <a:pt x="21059" y="12154"/>
                </a:cubicBezTo>
                <a:cubicBezTo>
                  <a:pt x="20988" y="12346"/>
                  <a:pt x="21002" y="12529"/>
                  <a:pt x="21010" y="12725"/>
                </a:cubicBezTo>
                <a:cubicBezTo>
                  <a:pt x="21017" y="12901"/>
                  <a:pt x="21036" y="13075"/>
                  <a:pt x="21084" y="13246"/>
                </a:cubicBezTo>
                <a:cubicBezTo>
                  <a:pt x="21124" y="13389"/>
                  <a:pt x="21155" y="13601"/>
                  <a:pt x="21258" y="13717"/>
                </a:cubicBezTo>
                <a:cubicBezTo>
                  <a:pt x="21279" y="13741"/>
                  <a:pt x="21360" y="13848"/>
                  <a:pt x="21382" y="13866"/>
                </a:cubicBezTo>
                <a:cubicBezTo>
                  <a:pt x="21406" y="13886"/>
                  <a:pt x="21474" y="13924"/>
                  <a:pt x="21506" y="13940"/>
                </a:cubicBezTo>
                <a:cubicBezTo>
                  <a:pt x="21514" y="13940"/>
                  <a:pt x="21522" y="13940"/>
                  <a:pt x="21530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80040" y="676908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4412" y="18802"/>
                </a:moveTo>
                <a:cubicBezTo>
                  <a:pt x="14404" y="18802"/>
                  <a:pt x="14395" y="18802"/>
                  <a:pt x="14387" y="188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60920" y="3963960"/>
            <a:ext cx="384120" cy="957240"/>
          </a:xfrm>
          <a:custGeom>
            <a:avLst/>
            <a:gdLst/>
            <a:ahLst/>
            <a:rect l="l" t="t" r="r" b="b"/>
            <a:pathLst>
              <a:path w="1068" h="2655">
                <a:moveTo>
                  <a:pt x="13742" y="12650"/>
                </a:moveTo>
                <a:cubicBezTo>
                  <a:pt x="13685" y="12598"/>
                  <a:pt x="13762" y="12772"/>
                  <a:pt x="13767" y="12799"/>
                </a:cubicBezTo>
                <a:cubicBezTo>
                  <a:pt x="13767" y="12816"/>
                  <a:pt x="13767" y="12832"/>
                  <a:pt x="13767" y="12849"/>
                </a:cubicBezTo>
              </a:path>
              <a:path w="1068" h="2655">
                <a:moveTo>
                  <a:pt x="13891" y="12650"/>
                </a:moveTo>
                <a:cubicBezTo>
                  <a:pt x="13824" y="12675"/>
                  <a:pt x="13755" y="12735"/>
                  <a:pt x="13717" y="12799"/>
                </a:cubicBezTo>
              </a:path>
              <a:path w="1068" h="2655">
                <a:moveTo>
                  <a:pt x="13271" y="13196"/>
                </a:moveTo>
                <a:cubicBezTo>
                  <a:pt x="13271" y="13353"/>
                  <a:pt x="13271" y="13510"/>
                  <a:pt x="13271" y="13667"/>
                </a:cubicBezTo>
              </a:path>
              <a:path w="1068" h="2655">
                <a:moveTo>
                  <a:pt x="13519" y="13221"/>
                </a:moveTo>
                <a:cubicBezTo>
                  <a:pt x="13502" y="13273"/>
                  <a:pt x="13481" y="13315"/>
                  <a:pt x="13469" y="13370"/>
                </a:cubicBezTo>
                <a:cubicBezTo>
                  <a:pt x="13559" y="13398"/>
                  <a:pt x="13781" y="13444"/>
                  <a:pt x="13667" y="13593"/>
                </a:cubicBezTo>
                <a:cubicBezTo>
                  <a:pt x="13593" y="13643"/>
                  <a:pt x="13568" y="13660"/>
                  <a:pt x="13543" y="13568"/>
                </a:cubicBezTo>
              </a:path>
              <a:path w="1068" h="2655">
                <a:moveTo>
                  <a:pt x="13568" y="13171"/>
                </a:moveTo>
                <a:cubicBezTo>
                  <a:pt x="13658" y="13104"/>
                  <a:pt x="13682" y="13085"/>
                  <a:pt x="13742" y="13047"/>
                </a:cubicBezTo>
              </a:path>
              <a:path w="1068" h="2655">
                <a:moveTo>
                  <a:pt x="13320" y="12948"/>
                </a:moveTo>
                <a:cubicBezTo>
                  <a:pt x="13199" y="12887"/>
                  <a:pt x="13200" y="12826"/>
                  <a:pt x="13146" y="12700"/>
                </a:cubicBezTo>
                <a:cubicBezTo>
                  <a:pt x="13067" y="12514"/>
                  <a:pt x="13022" y="12326"/>
                  <a:pt x="12973" y="12129"/>
                </a:cubicBezTo>
                <a:cubicBezTo>
                  <a:pt x="12938" y="11990"/>
                  <a:pt x="12960" y="11895"/>
                  <a:pt x="12973" y="11757"/>
                </a:cubicBezTo>
                <a:cubicBezTo>
                  <a:pt x="12987" y="11608"/>
                  <a:pt x="13122" y="11475"/>
                  <a:pt x="13221" y="11361"/>
                </a:cubicBezTo>
                <a:cubicBezTo>
                  <a:pt x="13312" y="11257"/>
                  <a:pt x="13459" y="11197"/>
                  <a:pt x="13593" y="11187"/>
                </a:cubicBezTo>
                <a:cubicBezTo>
                  <a:pt x="13683" y="11181"/>
                  <a:pt x="13790" y="11193"/>
                  <a:pt x="13841" y="11212"/>
                </a:cubicBezTo>
              </a:path>
              <a:path w="1068" h="2655">
                <a:moveTo>
                  <a:pt x="13891" y="11013"/>
                </a:moveTo>
                <a:cubicBezTo>
                  <a:pt x="13925" y="11085"/>
                  <a:pt x="13965" y="11317"/>
                  <a:pt x="13965" y="11237"/>
                </a:cubicBezTo>
                <a:cubicBezTo>
                  <a:pt x="13965" y="11229"/>
                  <a:pt x="13965" y="11220"/>
                  <a:pt x="13965" y="11212"/>
                </a:cubicBezTo>
              </a:path>
              <a:path w="1068" h="2655">
                <a:moveTo>
                  <a:pt x="13891" y="11162"/>
                </a:moveTo>
                <a:cubicBezTo>
                  <a:pt x="13931" y="11128"/>
                  <a:pt x="13967" y="11104"/>
                  <a:pt x="14015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52800" y="3990960"/>
            <a:ext cx="144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5978" y="11088"/>
                </a:moveTo>
                <a:cubicBezTo>
                  <a:pt x="5978" y="11096"/>
                  <a:pt x="5978" y="11104"/>
                  <a:pt x="5978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5581800"/>
            <a:ext cx="920880" cy="561960"/>
          </a:xfrm>
          <a:custGeom>
            <a:avLst/>
            <a:gdLst/>
            <a:ahLst/>
            <a:rect l="l" t="t" r="r" b="b"/>
            <a:pathLst>
              <a:path w="2556" h="1564">
                <a:moveTo>
                  <a:pt x="5035" y="15900"/>
                </a:moveTo>
                <a:cubicBezTo>
                  <a:pt x="5048" y="16016"/>
                  <a:pt x="5155" y="16212"/>
                  <a:pt x="5135" y="16321"/>
                </a:cubicBezTo>
                <a:cubicBezTo>
                  <a:pt x="5118" y="16338"/>
                  <a:pt x="5102" y="16354"/>
                  <a:pt x="5085" y="16371"/>
                </a:cubicBezTo>
              </a:path>
              <a:path w="2556" h="1564">
                <a:moveTo>
                  <a:pt x="4961" y="16346"/>
                </a:moveTo>
                <a:cubicBezTo>
                  <a:pt x="5138" y="16306"/>
                  <a:pt x="5363" y="16208"/>
                  <a:pt x="5531" y="16272"/>
                </a:cubicBezTo>
              </a:path>
              <a:path w="2556" h="1564">
                <a:moveTo>
                  <a:pt x="5283" y="16570"/>
                </a:moveTo>
                <a:cubicBezTo>
                  <a:pt x="5283" y="16734"/>
                  <a:pt x="5305" y="16908"/>
                  <a:pt x="5259" y="17066"/>
                </a:cubicBezTo>
                <a:cubicBezTo>
                  <a:pt x="5259" y="17058"/>
                  <a:pt x="5259" y="17049"/>
                  <a:pt x="5259" y="17041"/>
                </a:cubicBezTo>
              </a:path>
              <a:path w="2556" h="1564">
                <a:moveTo>
                  <a:pt x="5705" y="16173"/>
                </a:moveTo>
                <a:cubicBezTo>
                  <a:pt x="5778" y="16285"/>
                  <a:pt x="5940" y="16404"/>
                  <a:pt x="5978" y="16520"/>
                </a:cubicBezTo>
                <a:cubicBezTo>
                  <a:pt x="5978" y="16528"/>
                  <a:pt x="5978" y="16537"/>
                  <a:pt x="5978" y="16545"/>
                </a:cubicBezTo>
              </a:path>
              <a:path w="2556" h="1564">
                <a:moveTo>
                  <a:pt x="5854" y="16148"/>
                </a:moveTo>
                <a:cubicBezTo>
                  <a:pt x="5789" y="16316"/>
                  <a:pt x="5782" y="16541"/>
                  <a:pt x="5705" y="16694"/>
                </a:cubicBezTo>
                <a:cubicBezTo>
                  <a:pt x="5705" y="16677"/>
                  <a:pt x="5705" y="16661"/>
                  <a:pt x="5705" y="16644"/>
                </a:cubicBezTo>
              </a:path>
              <a:path w="2556" h="1564">
                <a:moveTo>
                  <a:pt x="6375" y="15949"/>
                </a:moveTo>
                <a:cubicBezTo>
                  <a:pt x="6381" y="15924"/>
                  <a:pt x="6388" y="15872"/>
                  <a:pt x="6400" y="15850"/>
                </a:cubicBezTo>
                <a:cubicBezTo>
                  <a:pt x="6420" y="15813"/>
                  <a:pt x="6448" y="15792"/>
                  <a:pt x="6400" y="15776"/>
                </a:cubicBezTo>
                <a:cubicBezTo>
                  <a:pt x="6302" y="15743"/>
                  <a:pt x="6248" y="15771"/>
                  <a:pt x="6152" y="15801"/>
                </a:cubicBezTo>
                <a:cubicBezTo>
                  <a:pt x="6152" y="15939"/>
                  <a:pt x="6277" y="15946"/>
                  <a:pt x="6375" y="16024"/>
                </a:cubicBezTo>
                <a:cubicBezTo>
                  <a:pt x="6433" y="16082"/>
                  <a:pt x="6441" y="16090"/>
                  <a:pt x="6474" y="16123"/>
                </a:cubicBezTo>
                <a:cubicBezTo>
                  <a:pt x="6415" y="16138"/>
                  <a:pt x="6300" y="16127"/>
                  <a:pt x="6300" y="16024"/>
                </a:cubicBezTo>
                <a:cubicBezTo>
                  <a:pt x="6300" y="15916"/>
                  <a:pt x="6375" y="15852"/>
                  <a:pt x="6375" y="15751"/>
                </a:cubicBezTo>
              </a:path>
              <a:path w="2556" h="1564">
                <a:moveTo>
                  <a:pt x="6276" y="16222"/>
                </a:moveTo>
                <a:cubicBezTo>
                  <a:pt x="6381" y="16169"/>
                  <a:pt x="6526" y="16126"/>
                  <a:pt x="6648" y="16098"/>
                </a:cubicBezTo>
                <a:cubicBezTo>
                  <a:pt x="6656" y="16098"/>
                  <a:pt x="6664" y="16098"/>
                  <a:pt x="6672" y="16098"/>
                </a:cubicBezTo>
              </a:path>
              <a:path w="2556" h="1564">
                <a:moveTo>
                  <a:pt x="6400" y="16396"/>
                </a:moveTo>
                <a:cubicBezTo>
                  <a:pt x="6342" y="16367"/>
                  <a:pt x="6516" y="16290"/>
                  <a:pt x="6548" y="16272"/>
                </a:cubicBezTo>
                <a:cubicBezTo>
                  <a:pt x="6558" y="16435"/>
                  <a:pt x="6529" y="16505"/>
                  <a:pt x="6424" y="16644"/>
                </a:cubicBezTo>
                <a:cubicBezTo>
                  <a:pt x="6389" y="16571"/>
                  <a:pt x="6536" y="16535"/>
                  <a:pt x="6598" y="16570"/>
                </a:cubicBezTo>
                <a:cubicBezTo>
                  <a:pt x="6738" y="16648"/>
                  <a:pt x="6622" y="16913"/>
                  <a:pt x="6499" y="16942"/>
                </a:cubicBezTo>
                <a:cubicBezTo>
                  <a:pt x="6410" y="16920"/>
                  <a:pt x="6385" y="16919"/>
                  <a:pt x="6350" y="16867"/>
                </a:cubicBezTo>
              </a:path>
              <a:path w="2556" h="1564">
                <a:moveTo>
                  <a:pt x="6796" y="16173"/>
                </a:moveTo>
                <a:cubicBezTo>
                  <a:pt x="6842" y="16167"/>
                  <a:pt x="6877" y="16157"/>
                  <a:pt x="6921" y="16148"/>
                </a:cubicBezTo>
              </a:path>
              <a:path w="2556" h="1564">
                <a:moveTo>
                  <a:pt x="6772" y="16371"/>
                </a:moveTo>
                <a:cubicBezTo>
                  <a:pt x="6830" y="16371"/>
                  <a:pt x="6887" y="16371"/>
                  <a:pt x="6945" y="16371"/>
                </a:cubicBezTo>
              </a:path>
              <a:path w="2556" h="1564">
                <a:moveTo>
                  <a:pt x="7193" y="15627"/>
                </a:moveTo>
                <a:cubicBezTo>
                  <a:pt x="7224" y="15627"/>
                  <a:pt x="7260" y="15619"/>
                  <a:pt x="7268" y="15602"/>
                </a:cubicBezTo>
                <a:cubicBezTo>
                  <a:pt x="7287" y="15563"/>
                  <a:pt x="7297" y="15556"/>
                  <a:pt x="7342" y="15503"/>
                </a:cubicBezTo>
                <a:cubicBezTo>
                  <a:pt x="7204" y="15549"/>
                  <a:pt x="7146" y="15600"/>
                  <a:pt x="7045" y="15701"/>
                </a:cubicBezTo>
                <a:cubicBezTo>
                  <a:pt x="7110" y="15723"/>
                  <a:pt x="7401" y="15743"/>
                  <a:pt x="7367" y="15875"/>
                </a:cubicBezTo>
                <a:cubicBezTo>
                  <a:pt x="7297" y="15969"/>
                  <a:pt x="7279" y="16000"/>
                  <a:pt x="7193" y="15999"/>
                </a:cubicBezTo>
                <a:cubicBezTo>
                  <a:pt x="7210" y="15862"/>
                  <a:pt x="7252" y="15734"/>
                  <a:pt x="7293" y="15602"/>
                </a:cubicBezTo>
              </a:path>
              <a:path w="2556" h="1564">
                <a:moveTo>
                  <a:pt x="7094" y="16222"/>
                </a:moveTo>
                <a:cubicBezTo>
                  <a:pt x="7180" y="16114"/>
                  <a:pt x="7323" y="16067"/>
                  <a:pt x="7466" y="16049"/>
                </a:cubicBezTo>
                <a:cubicBezTo>
                  <a:pt x="7507" y="16049"/>
                  <a:pt x="7524" y="16040"/>
                  <a:pt x="7516" y="16073"/>
                </a:cubicBezTo>
              </a:path>
              <a:path w="2556" h="1564">
                <a:moveTo>
                  <a:pt x="7243" y="16421"/>
                </a:moveTo>
                <a:cubicBezTo>
                  <a:pt x="7215" y="16421"/>
                  <a:pt x="7204" y="16423"/>
                  <a:pt x="7193" y="16446"/>
                </a:cubicBezTo>
                <a:cubicBezTo>
                  <a:pt x="7212" y="16423"/>
                  <a:pt x="7320" y="16246"/>
                  <a:pt x="7367" y="16346"/>
                </a:cubicBezTo>
                <a:cubicBezTo>
                  <a:pt x="7410" y="16437"/>
                  <a:pt x="7314" y="16531"/>
                  <a:pt x="7268" y="16594"/>
                </a:cubicBezTo>
                <a:cubicBezTo>
                  <a:pt x="7356" y="16558"/>
                  <a:pt x="7567" y="16574"/>
                  <a:pt x="7441" y="16743"/>
                </a:cubicBezTo>
                <a:cubicBezTo>
                  <a:pt x="7316" y="16911"/>
                  <a:pt x="7232" y="16858"/>
                  <a:pt x="7094" y="1679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W pg. 91  problems 1-11 odd on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43080" y="2697120"/>
            <a:ext cx="5357880" cy="214200"/>
          </a:xfrm>
          <a:custGeom>
            <a:avLst/>
            <a:gdLst/>
            <a:ahLst/>
            <a:rect l="l" t="t" r="r" b="b"/>
            <a:pathLst>
              <a:path w="14884" h="596">
                <a:moveTo>
                  <a:pt x="5978" y="7789"/>
                </a:moveTo>
                <a:cubicBezTo>
                  <a:pt x="6014" y="7786"/>
                  <a:pt x="5992" y="7818"/>
                  <a:pt x="6028" y="7813"/>
                </a:cubicBezTo>
                <a:cubicBezTo>
                  <a:pt x="6106" y="7802"/>
                  <a:pt x="6151" y="7785"/>
                  <a:pt x="6226" y="7764"/>
                </a:cubicBezTo>
                <a:cubicBezTo>
                  <a:pt x="6304" y="7742"/>
                  <a:pt x="6395" y="7703"/>
                  <a:pt x="6474" y="7689"/>
                </a:cubicBezTo>
                <a:cubicBezTo>
                  <a:pt x="6580" y="7671"/>
                  <a:pt x="6688" y="7666"/>
                  <a:pt x="6796" y="7665"/>
                </a:cubicBezTo>
                <a:cubicBezTo>
                  <a:pt x="6968" y="7663"/>
                  <a:pt x="7144" y="7678"/>
                  <a:pt x="7317" y="7689"/>
                </a:cubicBezTo>
                <a:cubicBezTo>
                  <a:pt x="7436" y="7696"/>
                  <a:pt x="7548" y="7727"/>
                  <a:pt x="7665" y="7739"/>
                </a:cubicBezTo>
                <a:cubicBezTo>
                  <a:pt x="7804" y="7754"/>
                  <a:pt x="7947" y="7753"/>
                  <a:pt x="8086" y="7764"/>
                </a:cubicBezTo>
                <a:cubicBezTo>
                  <a:pt x="8290" y="7781"/>
                  <a:pt x="8503" y="7785"/>
                  <a:pt x="8706" y="7813"/>
                </a:cubicBezTo>
                <a:cubicBezTo>
                  <a:pt x="8814" y="7828"/>
                  <a:pt x="8922" y="7847"/>
                  <a:pt x="9029" y="7863"/>
                </a:cubicBezTo>
                <a:cubicBezTo>
                  <a:pt x="9175" y="7884"/>
                  <a:pt x="9327" y="7927"/>
                  <a:pt x="9475" y="7938"/>
                </a:cubicBezTo>
                <a:cubicBezTo>
                  <a:pt x="9781" y="7962"/>
                  <a:pt x="10088" y="7962"/>
                  <a:pt x="10393" y="7987"/>
                </a:cubicBezTo>
                <a:cubicBezTo>
                  <a:pt x="10543" y="7999"/>
                  <a:pt x="10691" y="8021"/>
                  <a:pt x="10840" y="8037"/>
                </a:cubicBezTo>
                <a:cubicBezTo>
                  <a:pt x="10973" y="8051"/>
                  <a:pt x="11103" y="8052"/>
                  <a:pt x="11237" y="8062"/>
                </a:cubicBezTo>
                <a:cubicBezTo>
                  <a:pt x="11387" y="8074"/>
                  <a:pt x="11531" y="8084"/>
                  <a:pt x="11683" y="8086"/>
                </a:cubicBezTo>
                <a:cubicBezTo>
                  <a:pt x="11984" y="8089"/>
                  <a:pt x="12278" y="8062"/>
                  <a:pt x="12576" y="8037"/>
                </a:cubicBezTo>
                <a:cubicBezTo>
                  <a:pt x="12718" y="8025"/>
                  <a:pt x="12857" y="8024"/>
                  <a:pt x="12998" y="8012"/>
                </a:cubicBezTo>
                <a:cubicBezTo>
                  <a:pt x="13106" y="8003"/>
                  <a:pt x="13211" y="7997"/>
                  <a:pt x="13320" y="7987"/>
                </a:cubicBezTo>
                <a:cubicBezTo>
                  <a:pt x="13436" y="7976"/>
                  <a:pt x="13551" y="7972"/>
                  <a:pt x="13667" y="7962"/>
                </a:cubicBezTo>
                <a:cubicBezTo>
                  <a:pt x="13799" y="7951"/>
                  <a:pt x="13934" y="7931"/>
                  <a:pt x="14064" y="7913"/>
                </a:cubicBezTo>
                <a:cubicBezTo>
                  <a:pt x="14213" y="7893"/>
                  <a:pt x="14361" y="7857"/>
                  <a:pt x="14511" y="7838"/>
                </a:cubicBezTo>
                <a:cubicBezTo>
                  <a:pt x="14628" y="7823"/>
                  <a:pt x="14743" y="7811"/>
                  <a:pt x="14858" y="7789"/>
                </a:cubicBezTo>
                <a:cubicBezTo>
                  <a:pt x="14976" y="7767"/>
                  <a:pt x="15087" y="7756"/>
                  <a:pt x="15205" y="7739"/>
                </a:cubicBezTo>
                <a:cubicBezTo>
                  <a:pt x="15345" y="7719"/>
                  <a:pt x="15489" y="7694"/>
                  <a:pt x="15627" y="7665"/>
                </a:cubicBezTo>
                <a:cubicBezTo>
                  <a:pt x="15862" y="7616"/>
                  <a:pt x="16089" y="7582"/>
                  <a:pt x="16321" y="7541"/>
                </a:cubicBezTo>
                <a:cubicBezTo>
                  <a:pt x="16414" y="7525"/>
                  <a:pt x="16495" y="7499"/>
                  <a:pt x="16594" y="7491"/>
                </a:cubicBezTo>
                <a:cubicBezTo>
                  <a:pt x="17009" y="7458"/>
                  <a:pt x="17430" y="7505"/>
                  <a:pt x="17835" y="7541"/>
                </a:cubicBezTo>
                <a:cubicBezTo>
                  <a:pt x="17927" y="7549"/>
                  <a:pt x="18013" y="7556"/>
                  <a:pt x="18107" y="7565"/>
                </a:cubicBezTo>
                <a:cubicBezTo>
                  <a:pt x="18225" y="7576"/>
                  <a:pt x="18338" y="7579"/>
                  <a:pt x="18455" y="7590"/>
                </a:cubicBezTo>
                <a:cubicBezTo>
                  <a:pt x="18572" y="7601"/>
                  <a:pt x="18683" y="7610"/>
                  <a:pt x="18802" y="7615"/>
                </a:cubicBezTo>
                <a:cubicBezTo>
                  <a:pt x="18985" y="7622"/>
                  <a:pt x="19169" y="7635"/>
                  <a:pt x="19348" y="7640"/>
                </a:cubicBezTo>
                <a:cubicBezTo>
                  <a:pt x="19683" y="7650"/>
                  <a:pt x="20008" y="7659"/>
                  <a:pt x="20340" y="7689"/>
                </a:cubicBezTo>
                <a:cubicBezTo>
                  <a:pt x="20474" y="7701"/>
                  <a:pt x="20455" y="7722"/>
                  <a:pt x="20588" y="7739"/>
                </a:cubicBezTo>
              </a:path>
              <a:path w="14884" h="596">
                <a:moveTo>
                  <a:pt x="17016" y="7888"/>
                </a:moveTo>
                <a:cubicBezTo>
                  <a:pt x="17044" y="7871"/>
                  <a:pt x="17107" y="7832"/>
                  <a:pt x="17165" y="7813"/>
                </a:cubicBezTo>
                <a:cubicBezTo>
                  <a:pt x="17243" y="7787"/>
                  <a:pt x="17322" y="7792"/>
                  <a:pt x="17413" y="7789"/>
                </a:cubicBezTo>
                <a:cubicBezTo>
                  <a:pt x="17827" y="7774"/>
                  <a:pt x="18243" y="7803"/>
                  <a:pt x="18653" y="7764"/>
                </a:cubicBezTo>
                <a:cubicBezTo>
                  <a:pt x="18745" y="7755"/>
                  <a:pt x="18836" y="7749"/>
                  <a:pt x="18926" y="7739"/>
                </a:cubicBezTo>
                <a:cubicBezTo>
                  <a:pt x="19032" y="7727"/>
                  <a:pt x="19143" y="7717"/>
                  <a:pt x="19248" y="7714"/>
                </a:cubicBezTo>
                <a:cubicBezTo>
                  <a:pt x="19431" y="7709"/>
                  <a:pt x="19628" y="7726"/>
                  <a:pt x="19794" y="7739"/>
                </a:cubicBezTo>
                <a:cubicBezTo>
                  <a:pt x="19862" y="7744"/>
                  <a:pt x="19960" y="7736"/>
                  <a:pt x="20042" y="7739"/>
                </a:cubicBezTo>
                <a:cubicBezTo>
                  <a:pt x="20226" y="7745"/>
                  <a:pt x="20408" y="7747"/>
                  <a:pt x="20588" y="7764"/>
                </a:cubicBezTo>
                <a:cubicBezTo>
                  <a:pt x="20732" y="7778"/>
                  <a:pt x="20800" y="7798"/>
                  <a:pt x="20836" y="768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0-25T15:30:15Z</dcterms:modified>
  <cp:revision>27</cp:revision>
  <dc:subject/>
  <dc:title>Unit 1 – Variables and Equations </dc:title>
</cp:coreProperties>
</file>